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3.gif" ContentType="image/gif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56466A-0CF9-4AD3-BD9E-8BC7F09C9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C4050E-08BA-4BBF-9CD1-C9AD67741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5A23E9-4561-437B-889D-FF88B7296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2E0A6B-85B5-4DF9-9C7F-BAE14362F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7E5CA0-FA40-4335-BBDA-F6165CA29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06863-1A83-4B2C-8972-DB8F5E918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F1C4BF-707A-42B8-B706-A7C773F16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69E9FD-D3C8-4F6B-B5FA-CD10D74C6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7D049A-D03D-4EAE-BA92-4CABB15BA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40ADCD-3E4C-4FC8-9B20-E7D677AC6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370579-319C-48BA-929F-3167BC2EF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A2B478-356F-4497-8F53-5AD5F20E4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17F1FE-433A-4962-A285-EF000D9B7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BD891-7BCA-48F6-9D82-AB35B87FA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477E05-6C93-4676-BEB6-EEF8ABCBA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4068B8-1EC8-4E78-B7F2-A332882A6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B62ECE-A504-4B62-87D8-AFDEE3B03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BCE02E-AC36-4748-82D2-6E6247687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D15F48-0F0C-4310-853F-8614D88A9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86D9B0-4AC3-4525-901B-16948BFE5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9466BE-49A4-4C22-B787-BF49793C7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068E33-05AF-4DF1-9222-5DCFE46A5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C5099-D3FB-4709-9852-AEAB0FCE5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3AB053-9885-4BD4-9E4D-BFEEB70FE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D55717-BF59-4216-8DDF-1E5BB5509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21C624-B9D2-4D37-AEED-67A83DD80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53DC7D-D716-4532-82AD-38DD3DC82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E14DB2-AA9E-49C9-8417-E3012D344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1A8A16-5C80-48A4-A0A7-6531DFAB8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B0ECA-5B11-4311-AE76-E7E5619A9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37B05-8D89-41D6-A306-A5E6252FB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65B962-F25D-405D-BD0F-5B98F3B34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2B3BAD-46F9-4D83-8FAE-D478A06C2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0CC26E-C3C9-4EE7-9B70-D8DC9B434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169F14-870A-480D-83F9-FE913285D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45442-CB98-4011-A076-B053E0BA2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C87EA5-D9DD-48F0-AC78-09ABFB6B2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B47-65DA-44CB-B5CF-B564CBD8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160-0F89-4425-B41A-BFBEF98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944-41EA-43CB-8CF2-65694938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DCD-D89A-4082-A02E-762D366D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6B0-9698-4956-9991-33A1AF74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C8A-2796-4530-8A22-66F76B9A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56B-3F88-49F6-B29C-72EC81C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8D5-22E1-411A-9807-D960BC10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BF6-231C-4F33-842B-909F983D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F9D-0499-4A37-AA10-22B9F86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3E0-19A3-4855-BC43-6D59B04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6A7-CECE-4B26-AFB6-A563BFE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275D59-2056-4009-9A30-79BF1C4B527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25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556000" y="2637000"/>
            <a:ext cx="43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рок-презентац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51" name="Freeform 3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WordArt 11"/>
          <p:cNvSpPr txBox="1"/>
          <p:nvPr/>
        </p:nvSpPr>
        <p:spPr>
          <a:xfrm>
            <a:off x="826920" y="5911920"/>
            <a:ext cx="7848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324000" y="692280"/>
            <a:ext cx="8353440" cy="21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ff66ff"/>
                    </a:gs>
                    <a:gs pos="100000">
                      <a:srgbClr val="b400b4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ff66ff"/>
                  </a:gs>
                  <a:gs pos="100000">
                    <a:srgbClr val="b400b4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684360" y="3645000"/>
            <a:ext cx="7848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ff66ff"/>
                    </a:gs>
                    <a:gs pos="100000">
                      <a:srgbClr val="b400b4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ff66ff"/>
                  </a:gs>
                  <a:gs pos="100000">
                    <a:srgbClr val="b400b4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2604600" y="1482840"/>
            <a:ext cx="3610080" cy="4109760"/>
            <a:chOff x="2604600" y="1482840"/>
            <a:chExt cx="3610080" cy="4109760"/>
          </a:xfrm>
        </p:grpSpPr>
        <p:sp>
          <p:nvSpPr>
            <p:cNvPr id="344" name="AutoShape 5"/>
            <p:cNvSpPr/>
            <p:nvPr/>
          </p:nvSpPr>
          <p:spPr>
            <a:xfrm>
              <a:off x="2606040" y="1482840"/>
              <a:ext cx="3607200" cy="41097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>
              <a:off x="3529800" y="1482840"/>
              <a:ext cx="9000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 flipH="1">
              <a:off x="3621960" y="4770360"/>
              <a:ext cx="2592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604600" y="477036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9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21828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196380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13080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297684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9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4084560" y="23065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21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22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23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565812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2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26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27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29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31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1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4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5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6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22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385272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277344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22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3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2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2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6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2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 flipH="1">
            <a:off x="4641480" y="4292640"/>
            <a:ext cx="173196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reeform 3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32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190980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6"/>
          <p:cNvSpPr/>
          <p:nvPr/>
        </p:nvSpPr>
        <p:spPr>
          <a:xfrm>
            <a:off x="644544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7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8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5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1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95280" y="1557000"/>
            <a:ext cx="3888000" cy="3313440"/>
            <a:chOff x="2195280" y="1557000"/>
            <a:chExt cx="3888000" cy="3313440"/>
          </a:xfrm>
        </p:grpSpPr>
        <p:sp>
          <p:nvSpPr>
            <p:cNvPr id="411" name="Freeform 3"/>
            <p:cNvSpPr/>
            <p:nvPr/>
          </p:nvSpPr>
          <p:spPr>
            <a:xfrm>
              <a:off x="3421080" y="155880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 flipH="1" flipV="1">
              <a:off x="2194560" y="155664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Line 5"/>
          <p:cNvSpPr/>
          <p:nvPr/>
        </p:nvSpPr>
        <p:spPr>
          <a:xfrm flipH="1">
            <a:off x="3346200" y="486900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 flipH="1">
            <a:off x="4570560" y="1557360"/>
            <a:ext cx="151416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1906200" y="155736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9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48610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094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451008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20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21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2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3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24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26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27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28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29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0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1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2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reeform 3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4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81160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2592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05160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274644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68316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14216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536616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16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17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18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9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Freeform 20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66544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23"/>
          <p:cNvGrpSpPr/>
          <p:nvPr/>
        </p:nvGrpSpPr>
        <p:grpSpPr>
          <a:xfrm>
            <a:off x="3240000" y="1268280"/>
            <a:ext cx="2806200" cy="3598920"/>
            <a:chOff x="3240000" y="1268280"/>
            <a:chExt cx="2806200" cy="3598920"/>
          </a:xfrm>
        </p:grpSpPr>
        <p:sp>
          <p:nvSpPr>
            <p:cNvPr id="463" name="AutoShape 24"/>
            <p:cNvSpPr/>
            <p:nvPr/>
          </p:nvSpPr>
          <p:spPr>
            <a:xfrm>
              <a:off x="3241080" y="1268280"/>
              <a:ext cx="2802240" cy="35989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5"/>
            <p:cNvSpPr/>
            <p:nvPr/>
          </p:nvSpPr>
          <p:spPr>
            <a:xfrm>
              <a:off x="3959640" y="1268280"/>
              <a:ext cx="69480" cy="287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6"/>
            <p:cNvSpPr/>
            <p:nvPr/>
          </p:nvSpPr>
          <p:spPr>
            <a:xfrm flipH="1">
              <a:off x="4030560" y="4148280"/>
              <a:ext cx="2015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"/>
            <p:cNvSpPr/>
            <p:nvPr/>
          </p:nvSpPr>
          <p:spPr>
            <a:xfrm flipH="1">
              <a:off x="3240000" y="4148280"/>
              <a:ext cx="792720" cy="71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Oval 28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9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30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31"/>
          <p:cNvSpPr/>
          <p:nvPr/>
        </p:nvSpPr>
        <p:spPr>
          <a:xfrm>
            <a:off x="6006600" y="335772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2"/>
          <p:cNvSpPr/>
          <p:nvPr/>
        </p:nvSpPr>
        <p:spPr>
          <a:xfrm>
            <a:off x="-353880" y="335772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3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35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Oval 36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2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77056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reeform 7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529416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213048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515448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658980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449928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8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4308480" y="20257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0"/>
          <p:cNvSpPr/>
          <p:nvPr/>
        </p:nvSpPr>
        <p:spPr>
          <a:xfrm>
            <a:off x="550728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21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22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23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24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25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26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27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28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Oval 29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30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622764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1364400" y="59500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34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35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36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37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38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9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40"/>
          <p:cNvSpPr/>
          <p:nvPr/>
        </p:nvSpPr>
        <p:spPr>
          <a:xfrm>
            <a:off x="695016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41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1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reeform 2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Freeform 4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49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608652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206064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00544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3348000" y="1628640"/>
            <a:ext cx="3349800" cy="3338640"/>
            <a:chOff x="3348000" y="1628640"/>
            <a:chExt cx="3349800" cy="3338640"/>
          </a:xfrm>
        </p:grpSpPr>
        <p:sp>
          <p:nvSpPr>
            <p:cNvPr id="533" name="Freeform 17"/>
            <p:cNvSpPr/>
            <p:nvPr/>
          </p:nvSpPr>
          <p:spPr>
            <a:xfrm>
              <a:off x="3348000" y="1641600"/>
              <a:ext cx="270360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3981600" y="1628640"/>
              <a:ext cx="2716200" cy="333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Freeform 19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Freeform 21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22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5"/>
          <p:cNvSpPr/>
          <p:nvPr/>
        </p:nvSpPr>
        <p:spPr>
          <a:xfrm>
            <a:off x="536580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26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7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28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9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0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Freeform 31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32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3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34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5"/>
          <p:cNvSpPr/>
          <p:nvPr/>
        </p:nvSpPr>
        <p:spPr>
          <a:xfrm>
            <a:off x="277344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36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37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38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39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40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reeform 41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2"/>
          <p:cNvSpPr/>
          <p:nvPr/>
        </p:nvSpPr>
        <p:spPr>
          <a:xfrm>
            <a:off x="5468760" y="5950080"/>
            <a:ext cx="3591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3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45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46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47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4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9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0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3637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3"/>
          <p:cNvGrpSpPr/>
          <p:nvPr/>
        </p:nvGrpSpPr>
        <p:grpSpPr>
          <a:xfrm>
            <a:off x="1044360" y="1882800"/>
            <a:ext cx="3609720" cy="4110120"/>
            <a:chOff x="1044360" y="1882800"/>
            <a:chExt cx="3609720" cy="4110120"/>
          </a:xfrm>
        </p:grpSpPr>
        <p:sp>
          <p:nvSpPr>
            <p:cNvPr id="572" name="AutoShape 4"/>
            <p:cNvSpPr/>
            <p:nvPr/>
          </p:nvSpPr>
          <p:spPr>
            <a:xfrm>
              <a:off x="1046160" y="1882800"/>
              <a:ext cx="36046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970640" y="1882800"/>
              <a:ext cx="9036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 flipH="1">
              <a:off x="2062800" y="5170320"/>
              <a:ext cx="259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 flipH="1">
              <a:off x="1044360" y="517032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Oval 8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9068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150984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0320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457200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20040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141624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8"/>
          <p:cNvSpPr/>
          <p:nvPr/>
        </p:nvSpPr>
        <p:spPr>
          <a:xfrm flipH="1">
            <a:off x="1876320" y="2708280"/>
            <a:ext cx="118440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9"/>
          <p:cNvSpPr/>
          <p:nvPr/>
        </p:nvSpPr>
        <p:spPr>
          <a:xfrm>
            <a:off x="2523960" y="2706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0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21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22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23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4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25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26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1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1044720" y="1882800"/>
            <a:ext cx="3607920" cy="4110120"/>
            <a:chOff x="1044720" y="1882800"/>
            <a:chExt cx="3607920" cy="4110120"/>
          </a:xfrm>
        </p:grpSpPr>
        <p:sp>
          <p:nvSpPr>
            <p:cNvPr id="597" name="AutoShape 3"/>
            <p:cNvSpPr/>
            <p:nvPr/>
          </p:nvSpPr>
          <p:spPr>
            <a:xfrm>
              <a:off x="1046160" y="1882800"/>
              <a:ext cx="36064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4"/>
            <p:cNvSpPr/>
            <p:nvPr/>
          </p:nvSpPr>
          <p:spPr>
            <a:xfrm>
              <a:off x="1971000" y="1882800"/>
              <a:ext cx="88560" cy="3287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5"/>
            <p:cNvSpPr/>
            <p:nvPr/>
          </p:nvSpPr>
          <p:spPr>
            <a:xfrm>
              <a:off x="2084040" y="5143680"/>
              <a:ext cx="2562120" cy="10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 flipH="1">
              <a:off x="1044720" y="5172120"/>
              <a:ext cx="102024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Text Box 7"/>
          <p:cNvSpPr/>
          <p:nvPr/>
        </p:nvSpPr>
        <p:spPr>
          <a:xfrm>
            <a:off x="49068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50984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40320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457200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320040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2523960" y="2706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8"/>
          <p:cNvSpPr/>
          <p:nvPr/>
        </p:nvSpPr>
        <p:spPr>
          <a:xfrm flipH="1" flipV="1">
            <a:off x="4210200" y="2347920"/>
            <a:ext cx="434880" cy="1587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1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Oval 21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478980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 flipH="1" flipV="1">
            <a:off x="3562200" y="42840"/>
            <a:ext cx="650880" cy="2308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24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25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reeform 1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3"/>
          <p:cNvGrpSpPr/>
          <p:nvPr/>
        </p:nvGrpSpPr>
        <p:grpSpPr>
          <a:xfrm>
            <a:off x="1044360" y="2298600"/>
            <a:ext cx="3609720" cy="4110120"/>
            <a:chOff x="1044360" y="2298600"/>
            <a:chExt cx="3609720" cy="4110120"/>
          </a:xfrm>
        </p:grpSpPr>
        <p:sp>
          <p:nvSpPr>
            <p:cNvPr id="625" name="AutoShape 4"/>
            <p:cNvSpPr/>
            <p:nvPr/>
          </p:nvSpPr>
          <p:spPr>
            <a:xfrm>
              <a:off x="1046160" y="2298600"/>
              <a:ext cx="36046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5"/>
            <p:cNvSpPr/>
            <p:nvPr/>
          </p:nvSpPr>
          <p:spPr>
            <a:xfrm>
              <a:off x="1970640" y="2298600"/>
              <a:ext cx="9036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H="1">
              <a:off x="2062800" y="5586480"/>
              <a:ext cx="259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H="1">
              <a:off x="1044360" y="558648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Text Box 8"/>
          <p:cNvSpPr/>
          <p:nvPr/>
        </p:nvSpPr>
        <p:spPr>
          <a:xfrm>
            <a:off x="49068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190980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40320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457200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320040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2523960" y="3122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7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 flipH="1" flipV="1">
            <a:off x="4065480" y="2835360"/>
            <a:ext cx="579600" cy="2450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9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0"/>
          <p:cNvSpPr/>
          <p:nvPr/>
        </p:nvSpPr>
        <p:spPr>
          <a:xfrm>
            <a:off x="478944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1"/>
          <p:cNvSpPr/>
          <p:nvPr/>
        </p:nvSpPr>
        <p:spPr>
          <a:xfrm>
            <a:off x="147816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22"/>
          <p:cNvSpPr/>
          <p:nvPr/>
        </p:nvSpPr>
        <p:spPr>
          <a:xfrm flipV="1">
            <a:off x="1042920" y="3627360"/>
            <a:ext cx="1008000" cy="20908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23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Oval 24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 flipV="1">
            <a:off x="2050920" y="114120"/>
            <a:ext cx="1729080" cy="3460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8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29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Oval 30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31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32"/>
          <p:cNvGrpSpPr/>
          <p:nvPr/>
        </p:nvGrpSpPr>
        <p:grpSpPr>
          <a:xfrm>
            <a:off x="3443040" y="431280"/>
            <a:ext cx="2710440" cy="2401200"/>
            <a:chOff x="3443040" y="431280"/>
            <a:chExt cx="2710440" cy="2401200"/>
          </a:xfrm>
        </p:grpSpPr>
        <p:sp>
          <p:nvSpPr>
            <p:cNvPr id="654" name="Freeform 33"/>
            <p:cNvSpPr/>
            <p:nvPr/>
          </p:nvSpPr>
          <p:spPr>
            <a:xfrm flipH="1" flipV="1" rot="14520000">
              <a:off x="4127400" y="397440"/>
              <a:ext cx="1340280" cy="235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 flipH="1" flipV="1" rot="14520000">
              <a:off x="3971160" y="2347920"/>
              <a:ext cx="337680" cy="456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 flipH="1" flipV="1" rot="14520000">
              <a:off x="3999240" y="2647800"/>
              <a:ext cx="126360" cy="17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 flipH="1" flipV="1" rot="14520000">
              <a:off x="4361760" y="499320"/>
              <a:ext cx="1171800" cy="196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Group 37"/>
          <p:cNvGrpSpPr/>
          <p:nvPr/>
        </p:nvGrpSpPr>
        <p:grpSpPr>
          <a:xfrm>
            <a:off x="82800" y="1393920"/>
            <a:ext cx="1937160" cy="2577240"/>
            <a:chOff x="82800" y="1393920"/>
            <a:chExt cx="1937160" cy="2577240"/>
          </a:xfrm>
        </p:grpSpPr>
        <p:sp>
          <p:nvSpPr>
            <p:cNvPr id="659" name="Freeform 38"/>
            <p:cNvSpPr/>
            <p:nvPr/>
          </p:nvSpPr>
          <p:spPr>
            <a:xfrm flipH="1" flipV="1" rot="9780000">
              <a:off x="393120" y="1527120"/>
              <a:ext cx="1256040" cy="23112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 flipH="1" flipV="1" rot="9780000">
              <a:off x="1644840" y="3241080"/>
              <a:ext cx="316440" cy="447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40"/>
            <p:cNvSpPr/>
            <p:nvPr/>
          </p:nvSpPr>
          <p:spPr>
            <a:xfrm flipH="1" flipV="1" rot="9780000">
              <a:off x="1873080" y="3477960"/>
              <a:ext cx="118800" cy="168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41"/>
            <p:cNvSpPr/>
            <p:nvPr/>
          </p:nvSpPr>
          <p:spPr>
            <a:xfrm flipH="1" flipV="1" rot="9780000">
              <a:off x="416520" y="1560240"/>
              <a:ext cx="1097640" cy="192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42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Group 43"/>
          <p:cNvGrpSpPr/>
          <p:nvPr/>
        </p:nvGrpSpPr>
        <p:grpSpPr>
          <a:xfrm>
            <a:off x="1385280" y="1175760"/>
            <a:ext cx="1352520" cy="1156680"/>
            <a:chOff x="1385280" y="1175760"/>
            <a:chExt cx="1352520" cy="1156680"/>
          </a:xfrm>
        </p:grpSpPr>
        <p:sp>
          <p:nvSpPr>
            <p:cNvPr id="665" name="Freeform 44"/>
            <p:cNvSpPr/>
            <p:nvPr/>
          </p:nvSpPr>
          <p:spPr>
            <a:xfrm flipH="1" rot="60000">
              <a:off x="1394640" y="1187280"/>
              <a:ext cx="1333080" cy="1133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45"/>
            <p:cNvSpPr/>
            <p:nvPr/>
          </p:nvSpPr>
          <p:spPr>
            <a:xfrm flipH="1" rot="60000">
              <a:off x="2407680" y="2079720"/>
              <a:ext cx="307080" cy="239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46"/>
            <p:cNvSpPr/>
            <p:nvPr/>
          </p:nvSpPr>
          <p:spPr>
            <a:xfrm flipH="1" rot="60000">
              <a:off x="2581920" y="2218680"/>
              <a:ext cx="133200" cy="100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47"/>
            <p:cNvSpPr/>
            <p:nvPr/>
          </p:nvSpPr>
          <p:spPr>
            <a:xfrm flipH="1" rot="60000">
              <a:off x="1476360" y="1209600"/>
              <a:ext cx="1031400" cy="884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48"/>
            <p:cNvSpPr/>
            <p:nvPr/>
          </p:nvSpPr>
          <p:spPr>
            <a:xfrm flipH="1" rot="60000">
              <a:off x="1437840" y="1240200"/>
              <a:ext cx="1031400" cy="88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Freeform 49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50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 -6 L -2.96296 -6 L -0.07882 -0.40972 E">
                                      <p:cBhvr>
                                        <p:cTn id="949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4.44444 -6 L 0.18889 -0.50209 E">
                                      <p:cBhvr>
                                        <p:cTn id="951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7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76" dur="123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77" dur="123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78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9" dur="123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80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2.96296 -6 L -0.09566 0.20231 E">
                                      <p:cBhvr>
                                        <p:cTn id="1008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reeform 1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2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H="1">
            <a:off x="3638520" y="1987560"/>
            <a:ext cx="9360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5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141120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5002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320040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2523960" y="28116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97344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Freeform 19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20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Freeform 22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23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Group 24"/>
          <p:cNvGrpSpPr/>
          <p:nvPr/>
        </p:nvGrpSpPr>
        <p:grpSpPr>
          <a:xfrm>
            <a:off x="4231800" y="258840"/>
            <a:ext cx="1539720" cy="2401200"/>
            <a:chOff x="4231800" y="258840"/>
            <a:chExt cx="1539720" cy="2401200"/>
          </a:xfrm>
        </p:grpSpPr>
        <p:sp>
          <p:nvSpPr>
            <p:cNvPr id="696" name="Freeform 25"/>
            <p:cNvSpPr/>
            <p:nvPr/>
          </p:nvSpPr>
          <p:spPr>
            <a:xfrm flipV="1" rot="11340000">
              <a:off x="4433400" y="336240"/>
              <a:ext cx="1169640" cy="2246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 flipV="1" rot="11340000">
              <a:off x="4263840" y="2083320"/>
              <a:ext cx="294480" cy="434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27"/>
            <p:cNvSpPr/>
            <p:nvPr/>
          </p:nvSpPr>
          <p:spPr>
            <a:xfrm flipV="1" rot="11340000">
              <a:off x="4249800" y="2328840"/>
              <a:ext cx="110160" cy="16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28"/>
            <p:cNvSpPr/>
            <p:nvPr/>
          </p:nvSpPr>
          <p:spPr>
            <a:xfrm flipV="1" rot="11340000">
              <a:off x="4536720" y="362160"/>
              <a:ext cx="1022400" cy="18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Rectangle 29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Oval 30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Group 31"/>
          <p:cNvGrpSpPr/>
          <p:nvPr/>
        </p:nvGrpSpPr>
        <p:grpSpPr>
          <a:xfrm>
            <a:off x="3851280" y="2492280"/>
            <a:ext cx="4902120" cy="2941560"/>
            <a:chOff x="3851280" y="2492280"/>
            <a:chExt cx="4902120" cy="2941560"/>
          </a:xfrm>
        </p:grpSpPr>
        <p:sp>
          <p:nvSpPr>
            <p:cNvPr id="703" name="Freeform 32"/>
            <p:cNvSpPr/>
            <p:nvPr/>
          </p:nvSpPr>
          <p:spPr>
            <a:xfrm>
              <a:off x="3851280" y="2852640"/>
              <a:ext cx="4456080" cy="2581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33"/>
            <p:cNvSpPr/>
            <p:nvPr/>
          </p:nvSpPr>
          <p:spPr>
            <a:xfrm>
              <a:off x="4284720" y="2492280"/>
              <a:ext cx="4468680" cy="532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Oval 34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35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Freeform 36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Oval 37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Group 38"/>
          <p:cNvGrpSpPr/>
          <p:nvPr/>
        </p:nvGrpSpPr>
        <p:grpSpPr>
          <a:xfrm>
            <a:off x="3156120" y="2926080"/>
            <a:ext cx="2701440" cy="2562480"/>
            <a:chOff x="3156120" y="2926080"/>
            <a:chExt cx="2701440" cy="2562480"/>
          </a:xfrm>
        </p:grpSpPr>
        <p:sp>
          <p:nvSpPr>
            <p:cNvPr id="710" name="Freeform 39"/>
            <p:cNvSpPr/>
            <p:nvPr/>
          </p:nvSpPr>
          <p:spPr>
            <a:xfrm flipH="1" flipV="1" rot="14220000">
              <a:off x="3827160" y="2963520"/>
              <a:ext cx="1359360" cy="23382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40"/>
            <p:cNvSpPr/>
            <p:nvPr/>
          </p:nvSpPr>
          <p:spPr>
            <a:xfrm flipH="1" flipV="1" rot="14220000">
              <a:off x="3763800" y="4992120"/>
              <a:ext cx="342000" cy="45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41"/>
            <p:cNvSpPr/>
            <p:nvPr/>
          </p:nvSpPr>
          <p:spPr>
            <a:xfrm flipH="1" flipV="1" rot="14220000">
              <a:off x="3806280" y="5303160"/>
              <a:ext cx="128160" cy="170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42"/>
            <p:cNvSpPr/>
            <p:nvPr/>
          </p:nvSpPr>
          <p:spPr>
            <a:xfrm flipH="1" flipV="1" rot="14220000">
              <a:off x="4054680" y="3044880"/>
              <a:ext cx="1188000" cy="195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Text Box 43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Group 44"/>
          <p:cNvGrpSpPr/>
          <p:nvPr/>
        </p:nvGrpSpPr>
        <p:grpSpPr>
          <a:xfrm>
            <a:off x="3258720" y="3839760"/>
            <a:ext cx="1352520" cy="1154880"/>
            <a:chOff x="3258720" y="3839760"/>
            <a:chExt cx="1352520" cy="1154880"/>
          </a:xfrm>
        </p:grpSpPr>
        <p:sp>
          <p:nvSpPr>
            <p:cNvPr id="716" name="Freeform 45"/>
            <p:cNvSpPr/>
            <p:nvPr/>
          </p:nvSpPr>
          <p:spPr>
            <a:xfrm flipH="1" rot="60000">
              <a:off x="3268080" y="3851280"/>
              <a:ext cx="1333080" cy="11314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46"/>
            <p:cNvSpPr/>
            <p:nvPr/>
          </p:nvSpPr>
          <p:spPr>
            <a:xfrm flipH="1" rot="60000">
              <a:off x="4282920" y="4742280"/>
              <a:ext cx="306720" cy="238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47"/>
            <p:cNvSpPr/>
            <p:nvPr/>
          </p:nvSpPr>
          <p:spPr>
            <a:xfrm flipH="1" rot="60000">
              <a:off x="4456080" y="4881240"/>
              <a:ext cx="133200" cy="99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48"/>
            <p:cNvSpPr/>
            <p:nvPr/>
          </p:nvSpPr>
          <p:spPr>
            <a:xfrm flipH="1" rot="60000">
              <a:off x="3349800" y="3873240"/>
              <a:ext cx="1031400" cy="883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49"/>
            <p:cNvSpPr/>
            <p:nvPr/>
          </p:nvSpPr>
          <p:spPr>
            <a:xfrm flipH="1" rot="60000">
              <a:off x="3311280" y="3903840"/>
              <a:ext cx="1031400" cy="880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3.33333 -6 L 0.46059 0.06482 E">
                                      <p:cBhvr>
                                        <p:cTn id="1060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2.22222 -6 L 0.48056 -0.42014 E">
                                      <p:cBhvr>
                                        <p:cTn id="1062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38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87" dur="615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88" dur="615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89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90" dur="615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91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2.96296 -6 L -0.09583 0.07639 E">
                                      <p:cBhvr>
                                        <p:cTn id="112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Аксиомы стереомет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61840" cy="84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143000" y="3581280"/>
            <a:ext cx="1806480" cy="10861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1432080" y="3725640"/>
            <a:ext cx="12967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650960" y="4162320"/>
            <a:ext cx="6840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2443320" y="3803760"/>
            <a:ext cx="6804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290600" y="380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143000" y="2133720"/>
            <a:ext cx="1806480" cy="1085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658960" y="2575080"/>
            <a:ext cx="6840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1579680" y="2432160"/>
            <a:ext cx="6804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1940040" y="286380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009880" y="35845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371600" y="419112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143000" y="22860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590920" y="21337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981080" y="27432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3525840" y="3657600"/>
            <a:ext cx="532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две точки прямой лежат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скости, то и все точки 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жат в этой плос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429000" y="2209680"/>
            <a:ext cx="5715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любые три точки, не лежа-щие на одной прямой, проходит плоскость и при том только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3546720" y="5105520"/>
            <a:ext cx="549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две плоскости имеют одну о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ую точку, то они имеют общ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ямую, на которой лежат все о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ие точки этих плоск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152280" y="24382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52280" y="38098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152280" y="53341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4"/>
          <p:cNvGrpSpPr/>
          <p:nvPr/>
        </p:nvGrpSpPr>
        <p:grpSpPr>
          <a:xfrm>
            <a:off x="1143000" y="4952520"/>
            <a:ext cx="1903320" cy="1536840"/>
            <a:chOff x="1143000" y="4952520"/>
            <a:chExt cx="1903320" cy="1536840"/>
          </a:xfrm>
        </p:grpSpPr>
        <p:grpSp>
          <p:nvGrpSpPr>
            <p:cNvPr id="86" name="AutoShape 25"/>
            <p:cNvGrpSpPr/>
            <p:nvPr/>
          </p:nvGrpSpPr>
          <p:grpSpPr>
            <a:xfrm>
              <a:off x="1966680" y="5535360"/>
              <a:ext cx="714960" cy="954000"/>
              <a:chOff x="1966680" y="5535360"/>
              <a:chExt cx="714960" cy="954000"/>
            </a:xfrm>
          </p:grpSpPr>
          <p:pic>
            <p:nvPicPr>
              <p:cNvPr id="87" name="AutoShape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6680" y="5535360"/>
                <a:ext cx="714960" cy="95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3780000">
                <a:off x="2087280" y="5826960"/>
                <a:ext cx="47484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26"/>
            <p:cNvGrpSpPr/>
            <p:nvPr/>
          </p:nvGrpSpPr>
          <p:grpSpPr>
            <a:xfrm>
              <a:off x="1143000" y="5564880"/>
              <a:ext cx="1903320" cy="443160"/>
              <a:chOff x="1143000" y="5564880"/>
              <a:chExt cx="1903320" cy="443160"/>
            </a:xfrm>
          </p:grpSpPr>
          <p:pic>
            <p:nvPicPr>
              <p:cNvPr id="90" name="AutoShap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5564880"/>
                <a:ext cx="1903320" cy="4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1500840" y="5650560"/>
                <a:ext cx="11829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Line 27"/>
            <p:cNvSpPr/>
            <p:nvPr/>
          </p:nvSpPr>
          <p:spPr>
            <a:xfrm>
              <a:off x="1145880" y="6003720"/>
              <a:ext cx="142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 flipV="1">
              <a:off x="2575800" y="556776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V="1">
              <a:off x="1968120" y="5567760"/>
              <a:ext cx="46260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V="1">
              <a:off x="1145880" y="556776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>
              <a:off x="2396160" y="5569920"/>
              <a:ext cx="64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2432520" y="5569920"/>
              <a:ext cx="249120" cy="468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1753920" y="5569920"/>
              <a:ext cx="64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1609920" y="5569920"/>
              <a:ext cx="14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1297440" y="56379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AutoShape 36"/>
            <p:cNvGrpSpPr/>
            <p:nvPr/>
          </p:nvGrpSpPr>
          <p:grpSpPr>
            <a:xfrm>
              <a:off x="1663560" y="4957200"/>
              <a:ext cx="770040" cy="1039680"/>
              <a:chOff x="1663560" y="4957200"/>
              <a:chExt cx="770040" cy="1039680"/>
            </a:xfrm>
          </p:grpSpPr>
          <p:pic>
            <p:nvPicPr>
              <p:cNvPr id="102" name="AutoShape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3560" y="4957200"/>
                <a:ext cx="77004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3840000">
                <a:off x="1772640" y="5279040"/>
                <a:ext cx="55656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Line 37"/>
            <p:cNvSpPr/>
            <p:nvPr/>
          </p:nvSpPr>
          <p:spPr>
            <a:xfrm>
              <a:off x="1682640" y="5388120"/>
              <a:ext cx="533520" cy="108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2146680" y="4953960"/>
              <a:ext cx="284040" cy="61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9"/>
            <p:cNvSpPr/>
            <p:nvPr/>
          </p:nvSpPr>
          <p:spPr>
            <a:xfrm flipV="1">
              <a:off x="2217600" y="6037920"/>
              <a:ext cx="4640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2206440" y="563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1"/>
            <p:cNvSpPr/>
            <p:nvPr/>
          </p:nvSpPr>
          <p:spPr>
            <a:xfrm flipV="1">
              <a:off x="1979280" y="5559840"/>
              <a:ext cx="462240" cy="435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42"/>
            <p:cNvSpPr/>
            <p:nvPr/>
          </p:nvSpPr>
          <p:spPr>
            <a:xfrm>
              <a:off x="2002680" y="5074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2395800" y="5425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682640" y="495252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45"/>
            <p:cNvSpPr/>
            <p:nvPr/>
          </p:nvSpPr>
          <p:spPr>
            <a:xfrm>
              <a:off x="2075400" y="5823000"/>
              <a:ext cx="69120" cy="6948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1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Freeform 2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3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 flipH="1">
            <a:off x="3638520" y="1987560"/>
            <a:ext cx="9360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154944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141120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Line 15"/>
          <p:cNvSpPr/>
          <p:nvPr/>
        </p:nvSpPr>
        <p:spPr>
          <a:xfrm>
            <a:off x="2523960" y="28116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17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97344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Freeform 19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21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3"/>
          <p:cNvSpPr/>
          <p:nvPr/>
        </p:nvSpPr>
        <p:spPr>
          <a:xfrm>
            <a:off x="627624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24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5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26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Freeform 27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Freeform 28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Freeform 29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0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1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Freeform 32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Freeform 34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35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36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37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38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39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40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2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2"/>
          <p:cNvSpPr/>
          <p:nvPr/>
        </p:nvSpPr>
        <p:spPr>
          <a:xfrm>
            <a:off x="619200" y="587700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760680" y="494028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89400" y="537372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250632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769" name="Freeform 7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8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9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0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2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3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4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1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7186680" cy="584532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2"/>
          <p:cNvSpPr/>
          <p:nvPr/>
        </p:nvSpPr>
        <p:spPr>
          <a:xfrm>
            <a:off x="7166160" y="48675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547920" y="44640"/>
            <a:ext cx="82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кто дела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зайн, не зная перспективы..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1908000" y="4149720"/>
            <a:ext cx="3614760" cy="1941480"/>
            <a:chOff x="1908000" y="4149720"/>
            <a:chExt cx="3614760" cy="1941480"/>
          </a:xfrm>
        </p:grpSpPr>
        <p:sp>
          <p:nvSpPr>
            <p:cNvPr id="781" name="Freeform 5"/>
            <p:cNvSpPr/>
            <p:nvPr/>
          </p:nvSpPr>
          <p:spPr>
            <a:xfrm>
              <a:off x="5067360" y="4149720"/>
              <a:ext cx="455400" cy="1941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6"/>
            <p:cNvSpPr/>
            <p:nvPr/>
          </p:nvSpPr>
          <p:spPr>
            <a:xfrm>
              <a:off x="3492360" y="4149720"/>
              <a:ext cx="455760" cy="19414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7"/>
            <p:cNvSpPr/>
            <p:nvPr/>
          </p:nvSpPr>
          <p:spPr>
            <a:xfrm>
              <a:off x="1908000" y="4149720"/>
              <a:ext cx="455760" cy="194148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AutoShape 8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Group 9"/>
          <p:cNvGrpSpPr/>
          <p:nvPr/>
        </p:nvGrpSpPr>
        <p:grpSpPr>
          <a:xfrm>
            <a:off x="1763640" y="6021360"/>
            <a:ext cx="4751640" cy="568440"/>
            <a:chOff x="1763640" y="6021360"/>
            <a:chExt cx="4751640" cy="568440"/>
          </a:xfrm>
        </p:grpSpPr>
        <p:pic>
          <p:nvPicPr>
            <p:cNvPr id="786" name="Picture 10" descr=""/>
            <p:cNvPicPr/>
            <p:nvPr/>
          </p:nvPicPr>
          <p:blipFill>
            <a:blip r:embed="rId6"/>
            <a:stretch/>
          </p:blipFill>
          <p:spPr>
            <a:xfrm>
              <a:off x="176364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1" descr=""/>
            <p:cNvPicPr/>
            <p:nvPr/>
          </p:nvPicPr>
          <p:blipFill>
            <a:blip r:embed="rId7"/>
            <a:stretch/>
          </p:blipFill>
          <p:spPr>
            <a:xfrm>
              <a:off x="493236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2" descr=""/>
            <p:cNvPicPr/>
            <p:nvPr/>
          </p:nvPicPr>
          <p:blipFill>
            <a:blip r:embed="rId8"/>
            <a:stretch/>
          </p:blipFill>
          <p:spPr>
            <a:xfrm>
              <a:off x="334800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13" descr=""/>
            <p:cNvPicPr/>
            <p:nvPr/>
          </p:nvPicPr>
          <p:blipFill>
            <a:blip r:embed="rId9"/>
            <a:stretch/>
          </p:blipFill>
          <p:spPr>
            <a:xfrm>
              <a:off x="4427640" y="6021360"/>
              <a:ext cx="12268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14" descr=""/>
            <p:cNvPicPr/>
            <p:nvPr/>
          </p:nvPicPr>
          <p:blipFill>
            <a:blip r:embed="rId10"/>
            <a:stretch/>
          </p:blipFill>
          <p:spPr>
            <a:xfrm>
              <a:off x="2987640" y="6021360"/>
              <a:ext cx="14382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15" descr=""/>
            <p:cNvPicPr/>
            <p:nvPr/>
          </p:nvPicPr>
          <p:blipFill>
            <a:blip r:embed="rId11"/>
            <a:stretch/>
          </p:blipFill>
          <p:spPr>
            <a:xfrm>
              <a:off x="1763640" y="6021360"/>
              <a:ext cx="12272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2" name="Line 16"/>
          <p:cNvSpPr/>
          <p:nvPr/>
        </p:nvSpPr>
        <p:spPr>
          <a:xfrm>
            <a:off x="0" y="6524640"/>
            <a:ext cx="723600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par>
              <p:cTn id="1202" nodeType="interactiveSeq" fill="hold">
                <p:childTnLst>
                  <p:par>
                    <p:cTn id="1203" fill="hold"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"/>
          <p:cNvSpPr/>
          <p:nvPr/>
        </p:nvSpPr>
        <p:spPr>
          <a:xfrm>
            <a:off x="14292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Freeform 4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8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9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Text Box 10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2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Group 5"/>
          <p:cNvGrpSpPr/>
          <p:nvPr/>
        </p:nvGrpSpPr>
        <p:grpSpPr>
          <a:xfrm>
            <a:off x="3568680" y="2009880"/>
            <a:ext cx="3609360" cy="4109760"/>
            <a:chOff x="3568680" y="2009880"/>
            <a:chExt cx="3609360" cy="4109760"/>
          </a:xfrm>
        </p:grpSpPr>
        <p:sp>
          <p:nvSpPr>
            <p:cNvPr id="808" name="AutoShape 6"/>
            <p:cNvSpPr/>
            <p:nvPr/>
          </p:nvSpPr>
          <p:spPr>
            <a:xfrm>
              <a:off x="3569760" y="2009880"/>
              <a:ext cx="3605400" cy="41097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7"/>
            <p:cNvSpPr/>
            <p:nvPr/>
          </p:nvSpPr>
          <p:spPr>
            <a:xfrm>
              <a:off x="4494600" y="2009880"/>
              <a:ext cx="9000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Line 8"/>
            <p:cNvSpPr/>
            <p:nvPr/>
          </p:nvSpPr>
          <p:spPr>
            <a:xfrm flipH="1">
              <a:off x="4586400" y="5297400"/>
              <a:ext cx="2591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9"/>
            <p:cNvSpPr/>
            <p:nvPr/>
          </p:nvSpPr>
          <p:spPr>
            <a:xfrm flipH="1">
              <a:off x="3568680" y="5297400"/>
              <a:ext cx="101952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Text Box 10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292752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413388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724536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99744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 flipH="1">
            <a:off x="4400280" y="2833560"/>
            <a:ext cx="111276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0"/>
          <p:cNvSpPr/>
          <p:nvPr/>
        </p:nvSpPr>
        <p:spPr>
          <a:xfrm>
            <a:off x="5048280" y="283356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 flipV="1">
            <a:off x="5511960" y="149040"/>
            <a:ext cx="1019160" cy="26859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22"/>
          <p:cNvSpPr/>
          <p:nvPr/>
        </p:nvSpPr>
        <p:spPr>
          <a:xfrm flipV="1">
            <a:off x="6253200" y="149400"/>
            <a:ext cx="1440" cy="613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Freeform 23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4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25"/>
          <p:cNvSpPr/>
          <p:nvPr/>
        </p:nvSpPr>
        <p:spPr>
          <a:xfrm flipH="1">
            <a:off x="4400640" y="5545080"/>
            <a:ext cx="250344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26"/>
          <p:cNvSpPr/>
          <p:nvPr/>
        </p:nvSpPr>
        <p:spPr>
          <a:xfrm flipH="1">
            <a:off x="5438520" y="2692440"/>
            <a:ext cx="101124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658980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28"/>
          <p:cNvSpPr/>
          <p:nvPr/>
        </p:nvSpPr>
        <p:spPr>
          <a:xfrm>
            <a:off x="0" y="333360"/>
            <a:ext cx="3357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30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31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32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33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34" descr=""/>
          <p:cNvPicPr/>
          <p:nvPr/>
        </p:nvPicPr>
        <p:blipFill>
          <a:blip r:embed="rId4"/>
          <a:stretch/>
        </p:blipFill>
        <p:spPr>
          <a:xfrm>
            <a:off x="5630760" y="4680"/>
            <a:ext cx="381240" cy="428616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35"/>
          <p:cNvSpPr/>
          <p:nvPr/>
        </p:nvSpPr>
        <p:spPr>
          <a:xfrm>
            <a:off x="566100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36"/>
          <p:cNvSpPr/>
          <p:nvPr/>
        </p:nvSpPr>
        <p:spPr>
          <a:xfrm>
            <a:off x="-487440" y="4724280"/>
            <a:ext cx="462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37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Freeform 2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248472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AutoShape 4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5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6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7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177336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595008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421344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Freeform 18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4022640" y="165564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20"/>
          <p:cNvSpPr/>
          <p:nvPr/>
        </p:nvSpPr>
        <p:spPr>
          <a:xfrm>
            <a:off x="522144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Freeform 21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22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23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Freeform 24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Freeform 25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26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Freeform 27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Freeform 28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Oval 29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Oval 30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31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Oval 32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33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Oval 34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35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Oval 36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Oval 37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551196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1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Freeform 2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Freeform 3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Freeform 4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5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6"/>
          <p:cNvSpPr/>
          <p:nvPr/>
        </p:nvSpPr>
        <p:spPr>
          <a:xfrm>
            <a:off x="1549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7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8"/>
          <p:cNvSpPr/>
          <p:nvPr/>
        </p:nvSpPr>
        <p:spPr>
          <a:xfrm>
            <a:off x="608652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9"/>
          <p:cNvSpPr/>
          <p:nvPr/>
        </p:nvSpPr>
        <p:spPr>
          <a:xfrm>
            <a:off x="206064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11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500544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15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Group 16"/>
          <p:cNvGrpSpPr/>
          <p:nvPr/>
        </p:nvGrpSpPr>
        <p:grpSpPr>
          <a:xfrm>
            <a:off x="3348000" y="1628640"/>
            <a:ext cx="3349800" cy="3338640"/>
            <a:chOff x="3348000" y="1628640"/>
            <a:chExt cx="3349800" cy="3338640"/>
          </a:xfrm>
        </p:grpSpPr>
        <p:sp>
          <p:nvSpPr>
            <p:cNvPr id="895" name="Freeform 17"/>
            <p:cNvSpPr/>
            <p:nvPr/>
          </p:nvSpPr>
          <p:spPr>
            <a:xfrm>
              <a:off x="3348000" y="1641600"/>
              <a:ext cx="270360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18"/>
            <p:cNvSpPr/>
            <p:nvPr/>
          </p:nvSpPr>
          <p:spPr>
            <a:xfrm>
              <a:off x="3981600" y="1628640"/>
              <a:ext cx="2716200" cy="333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Freeform 19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Freeform 20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Freeform 21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Freeform 22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3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24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5"/>
          <p:cNvSpPr/>
          <p:nvPr/>
        </p:nvSpPr>
        <p:spPr>
          <a:xfrm>
            <a:off x="536580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Freeform 26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7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8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Freeform 29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33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34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5"/>
          <p:cNvSpPr/>
          <p:nvPr/>
        </p:nvSpPr>
        <p:spPr>
          <a:xfrm>
            <a:off x="277344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Oval 36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37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38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39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Oval 40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42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Oval 43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Oval 44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45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Oval 46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47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Oval 48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50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1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8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2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7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1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Freeform 2"/>
          <p:cNvSpPr/>
          <p:nvPr/>
        </p:nvSpPr>
        <p:spPr>
          <a:xfrm rot="180000">
            <a:off x="36360" y="4435560"/>
            <a:ext cx="8048880" cy="1942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Freeform 3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608652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213372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328608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12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Freeform 13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4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Freeform 15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16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Freeform 17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18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19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reeform 20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2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22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Freeform 23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Freeform 24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25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26"/>
          <p:cNvSpPr/>
          <p:nvPr/>
        </p:nvSpPr>
        <p:spPr>
          <a:xfrm>
            <a:off x="601344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27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Oval 28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29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reeform 30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Oval 31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reeform 32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reeform 33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Freeform 34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Freeform 35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Oval 36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Oval 37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Oval 38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Oval 39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Oval 40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42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43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471816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342144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47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48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49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0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8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Freeform 2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3"/>
          <p:cNvSpPr/>
          <p:nvPr/>
        </p:nvSpPr>
        <p:spPr>
          <a:xfrm flipH="1">
            <a:off x="3346200" y="486900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 flipH="1">
            <a:off x="4570560" y="1557360"/>
            <a:ext cx="151416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 flipH="1">
            <a:off x="1906200" y="155736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Freeform 6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Freeform 7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8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Freeform 9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10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Freeform 11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2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13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414216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3" name="Group 15"/>
          <p:cNvGrpSpPr/>
          <p:nvPr/>
        </p:nvGrpSpPr>
        <p:grpSpPr>
          <a:xfrm>
            <a:off x="396000" y="1052640"/>
            <a:ext cx="6289920" cy="5478840"/>
            <a:chOff x="396000" y="1052640"/>
            <a:chExt cx="6289920" cy="5478840"/>
          </a:xfrm>
        </p:grpSpPr>
        <p:sp>
          <p:nvSpPr>
            <p:cNvPr id="994" name="Text Box 16"/>
            <p:cNvSpPr/>
            <p:nvPr/>
          </p:nvSpPr>
          <p:spPr>
            <a:xfrm>
              <a:off x="39600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17"/>
            <p:cNvSpPr/>
            <p:nvPr/>
          </p:nvSpPr>
          <p:spPr>
            <a:xfrm>
              <a:off x="3277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18"/>
            <p:cNvSpPr/>
            <p:nvPr/>
          </p:nvSpPr>
          <p:spPr>
            <a:xfrm>
              <a:off x="486036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19"/>
            <p:cNvSpPr/>
            <p:nvPr/>
          </p:nvSpPr>
          <p:spPr>
            <a:xfrm>
              <a:off x="134064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20"/>
            <p:cNvSpPr/>
            <p:nvPr/>
          </p:nvSpPr>
          <p:spPr>
            <a:xfrm>
              <a:off x="292500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21"/>
            <p:cNvSpPr/>
            <p:nvPr/>
          </p:nvSpPr>
          <p:spPr>
            <a:xfrm>
              <a:off x="609372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22"/>
            <p:cNvSpPr/>
            <p:nvPr/>
          </p:nvSpPr>
          <p:spPr>
            <a:xfrm>
              <a:off x="450972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23"/>
            <p:cNvSpPr/>
            <p:nvPr/>
          </p:nvSpPr>
          <p:spPr>
            <a:xfrm>
              <a:off x="219672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24"/>
            <p:cNvSpPr/>
            <p:nvPr/>
          </p:nvSpPr>
          <p:spPr>
            <a:xfrm>
              <a:off x="183600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Line 25"/>
          <p:cNvSpPr/>
          <p:nvPr/>
        </p:nvSpPr>
        <p:spPr>
          <a:xfrm flipV="1">
            <a:off x="1979640" y="4003200"/>
            <a:ext cx="792000" cy="2019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26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Oval 27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6" name="Group 28"/>
          <p:cNvGrpSpPr/>
          <p:nvPr/>
        </p:nvGrpSpPr>
        <p:grpSpPr>
          <a:xfrm>
            <a:off x="684000" y="2707920"/>
            <a:ext cx="3888000" cy="3313440"/>
            <a:chOff x="684000" y="2707920"/>
            <a:chExt cx="3888000" cy="3313440"/>
          </a:xfrm>
        </p:grpSpPr>
        <p:sp>
          <p:nvSpPr>
            <p:cNvPr id="1007" name="Freeform 29"/>
            <p:cNvSpPr/>
            <p:nvPr/>
          </p:nvSpPr>
          <p:spPr>
            <a:xfrm>
              <a:off x="1909800" y="270972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30"/>
            <p:cNvSpPr/>
            <p:nvPr/>
          </p:nvSpPr>
          <p:spPr>
            <a:xfrm flipH="1" flipV="1">
              <a:off x="683280" y="270756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AutoShape 31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Oval 3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3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35"/>
          <p:cNvGrpSpPr/>
          <p:nvPr/>
        </p:nvGrpSpPr>
        <p:grpSpPr>
          <a:xfrm>
            <a:off x="2159280" y="61920"/>
            <a:ext cx="2982600" cy="2871360"/>
            <a:chOff x="2159280" y="61920"/>
            <a:chExt cx="2982600" cy="2871360"/>
          </a:xfrm>
        </p:grpSpPr>
        <p:sp>
          <p:nvSpPr>
            <p:cNvPr id="1014" name="Freeform 36"/>
            <p:cNvSpPr/>
            <p:nvPr/>
          </p:nvSpPr>
          <p:spPr>
            <a:xfrm flipH="1" rot="1080000">
              <a:off x="2445480" y="379080"/>
              <a:ext cx="2409480" cy="22363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37"/>
            <p:cNvSpPr/>
            <p:nvPr/>
          </p:nvSpPr>
          <p:spPr>
            <a:xfrm flipH="1" rot="1080000">
              <a:off x="3951720" y="2335320"/>
              <a:ext cx="555480" cy="473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38"/>
            <p:cNvSpPr/>
            <p:nvPr/>
          </p:nvSpPr>
          <p:spPr>
            <a:xfrm flipH="1" rot="1080000">
              <a:off x="4213440" y="2640600"/>
              <a:ext cx="241200" cy="197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 rot="1080000">
              <a:off x="2666880" y="402840"/>
              <a:ext cx="1864440" cy="174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 rot="1080000">
              <a:off x="2579400" y="442080"/>
              <a:ext cx="1864800" cy="173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 -6 L 0.16528 -0.16805">
                                      <p:cBhvr>
                                        <p:cTn id="1897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1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-2.22222 -6 L -0.18282 0.18125 E">
                                      <p:cBhvr>
                                        <p:cTn id="1984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Group 3"/>
          <p:cNvGrpSpPr/>
          <p:nvPr/>
        </p:nvGrpSpPr>
        <p:grpSpPr>
          <a:xfrm>
            <a:off x="396000" y="836640"/>
            <a:ext cx="4534200" cy="4670280"/>
            <a:chOff x="396000" y="836640"/>
            <a:chExt cx="4534200" cy="4670280"/>
          </a:xfrm>
        </p:grpSpPr>
        <p:grpSp>
          <p:nvGrpSpPr>
            <p:cNvPr id="1022" name="Group 4"/>
            <p:cNvGrpSpPr/>
            <p:nvPr/>
          </p:nvGrpSpPr>
          <p:grpSpPr>
            <a:xfrm>
              <a:off x="838080" y="1098720"/>
              <a:ext cx="3539880" cy="3825000"/>
              <a:chOff x="838080" y="1098720"/>
              <a:chExt cx="3539880" cy="3825000"/>
            </a:xfrm>
          </p:grpSpPr>
          <p:sp>
            <p:nvSpPr>
              <p:cNvPr id="1023" name="Freeform 5"/>
              <p:cNvSpPr/>
              <p:nvPr/>
            </p:nvSpPr>
            <p:spPr>
              <a:xfrm>
                <a:off x="839160" y="1098720"/>
                <a:ext cx="3538800" cy="3825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Line 6"/>
              <p:cNvSpPr/>
              <p:nvPr/>
            </p:nvSpPr>
            <p:spPr>
              <a:xfrm flipH="1">
                <a:off x="838080" y="1098720"/>
                <a:ext cx="1550160" cy="319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7"/>
              <p:cNvSpPr/>
              <p:nvPr/>
            </p:nvSpPr>
            <p:spPr>
              <a:xfrm flipV="1">
                <a:off x="839160" y="3665880"/>
                <a:ext cx="3538800" cy="63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Text Box 8"/>
            <p:cNvSpPr/>
            <p:nvPr/>
          </p:nvSpPr>
          <p:spPr>
            <a:xfrm>
              <a:off x="113328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Text Box 9"/>
            <p:cNvSpPr/>
            <p:nvPr/>
          </p:nvSpPr>
          <p:spPr>
            <a:xfrm>
              <a:off x="3642840" y="22528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10"/>
            <p:cNvSpPr/>
            <p:nvPr/>
          </p:nvSpPr>
          <p:spPr>
            <a:xfrm>
              <a:off x="396000" y="4245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11"/>
            <p:cNvSpPr/>
            <p:nvPr/>
          </p:nvSpPr>
          <p:spPr>
            <a:xfrm>
              <a:off x="2463120" y="4925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2"/>
            <p:cNvSpPr/>
            <p:nvPr/>
          </p:nvSpPr>
          <p:spPr>
            <a:xfrm>
              <a:off x="4455360" y="3614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Text Box 13"/>
            <p:cNvSpPr/>
            <p:nvPr/>
          </p:nvSpPr>
          <p:spPr>
            <a:xfrm>
              <a:off x="246312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2" name="Line 14"/>
          <p:cNvSpPr/>
          <p:nvPr/>
        </p:nvSpPr>
        <p:spPr>
          <a:xfrm flipH="1">
            <a:off x="2533680" y="2479680"/>
            <a:ext cx="96192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5"/>
          <p:cNvSpPr/>
          <p:nvPr/>
        </p:nvSpPr>
        <p:spPr>
          <a:xfrm flipH="1" flipV="1">
            <a:off x="1647720" y="2581200"/>
            <a:ext cx="889200" cy="773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6"/>
          <p:cNvSpPr/>
          <p:nvPr/>
        </p:nvSpPr>
        <p:spPr>
          <a:xfrm flipV="1">
            <a:off x="1649520" y="2477880"/>
            <a:ext cx="1917720" cy="10620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Oval 17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Oval 18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20"/>
          <p:cNvSpPr/>
          <p:nvPr/>
        </p:nvSpPr>
        <p:spPr>
          <a:xfrm>
            <a:off x="-1048680" y="333360"/>
            <a:ext cx="11365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Freeform 21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22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"/>
          <p:cNvGrpSpPr/>
          <p:nvPr/>
        </p:nvGrpSpPr>
        <p:grpSpPr>
          <a:xfrm>
            <a:off x="4929120" y="1081080"/>
            <a:ext cx="3433320" cy="4600440"/>
            <a:chOff x="4929120" y="1081080"/>
            <a:chExt cx="3433320" cy="4600440"/>
          </a:xfrm>
        </p:grpSpPr>
        <p:sp>
          <p:nvSpPr>
            <p:cNvPr id="1042" name="Freeform 24"/>
            <p:cNvSpPr/>
            <p:nvPr/>
          </p:nvSpPr>
          <p:spPr>
            <a:xfrm>
              <a:off x="4930200" y="1081080"/>
              <a:ext cx="3432240" cy="4600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 flipH="1">
              <a:off x="4929120" y="1081080"/>
              <a:ext cx="1504080" cy="38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26"/>
            <p:cNvSpPr/>
            <p:nvPr/>
          </p:nvSpPr>
          <p:spPr>
            <a:xfrm flipV="1">
              <a:off x="4930200" y="4170240"/>
              <a:ext cx="3432240" cy="757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Text Box 27"/>
          <p:cNvSpPr/>
          <p:nvPr/>
        </p:nvSpPr>
        <p:spPr>
          <a:xfrm>
            <a:off x="500580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716580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29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31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32"/>
          <p:cNvSpPr/>
          <p:nvPr/>
        </p:nvSpPr>
        <p:spPr>
          <a:xfrm>
            <a:off x="650556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Freeform 33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Freeform 34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35"/>
          <p:cNvSpPr/>
          <p:nvPr/>
        </p:nvSpPr>
        <p:spPr>
          <a:xfrm flipV="1">
            <a:off x="5508720" y="5011200"/>
            <a:ext cx="1942920" cy="1479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Freeform 36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37"/>
          <p:cNvSpPr/>
          <p:nvPr/>
        </p:nvSpPr>
        <p:spPr>
          <a:xfrm>
            <a:off x="543708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38"/>
          <p:cNvSpPr/>
          <p:nvPr/>
        </p:nvSpPr>
        <p:spPr>
          <a:xfrm>
            <a:off x="461520" y="616572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39"/>
          <p:cNvSpPr/>
          <p:nvPr/>
        </p:nvSpPr>
        <p:spPr>
          <a:xfrm>
            <a:off x="4668840" y="616572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Oval 4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Oval 41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Oval 42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Oval 43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Oval 44"/>
          <p:cNvSpPr/>
          <p:nvPr/>
        </p:nvSpPr>
        <p:spPr>
          <a:xfrm flipH="1">
            <a:off x="161856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Freeform 4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Freeform 4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Freeform 4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349416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Oval 49"/>
          <p:cNvSpPr/>
          <p:nvPr/>
        </p:nvSpPr>
        <p:spPr>
          <a:xfrm flipH="1">
            <a:off x="349020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990720" y="4572000"/>
            <a:ext cx="2209680" cy="914400"/>
          </a:xfrm>
          <a:prstGeom prst="parallelogram">
            <a:avLst>
              <a:gd name="adj" fmla="val 60413"/>
            </a:avLst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143000" y="2819520"/>
            <a:ext cx="2209680" cy="914400"/>
          </a:xfrm>
          <a:prstGeom prst="parallelogram">
            <a:avLst>
              <a:gd name="adj" fmla="val 60413"/>
            </a:avLst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Следствия из акси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61840" cy="84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505320" y="2590920"/>
            <a:ext cx="5359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прямую и не лежащую на ней точку можно провести плоскость и при том только од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08320" y="470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609000" y="4464000"/>
            <a:ext cx="534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две пересекающиеся пр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е можно провести плоскост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том только од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04920" y="2971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884240" y="3041640"/>
            <a:ext cx="6840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47920" y="2895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1752480" y="3046320"/>
            <a:ext cx="129708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43200" y="3048120"/>
            <a:ext cx="30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04920" y="45720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1447920" y="4798800"/>
            <a:ext cx="12967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362320" y="4495680"/>
            <a:ext cx="30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1523880" y="4800600"/>
            <a:ext cx="114300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371600" y="4724280"/>
            <a:ext cx="30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1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Group 2"/>
          <p:cNvGrpSpPr/>
          <p:nvPr/>
        </p:nvGrpSpPr>
        <p:grpSpPr>
          <a:xfrm>
            <a:off x="2700360" y="620640"/>
            <a:ext cx="3453840" cy="5254560"/>
            <a:chOff x="2700360" y="620640"/>
            <a:chExt cx="3453840" cy="5254560"/>
          </a:xfrm>
        </p:grpSpPr>
        <p:sp>
          <p:nvSpPr>
            <p:cNvPr id="1070" name="Freeform 3"/>
            <p:cNvSpPr/>
            <p:nvPr/>
          </p:nvSpPr>
          <p:spPr>
            <a:xfrm>
              <a:off x="2701440" y="620640"/>
              <a:ext cx="3452760" cy="525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4"/>
            <p:cNvSpPr/>
            <p:nvPr/>
          </p:nvSpPr>
          <p:spPr>
            <a:xfrm flipH="1">
              <a:off x="2700360" y="620640"/>
              <a:ext cx="1513440" cy="439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2701440" y="4147920"/>
              <a:ext cx="345276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Text Box 6"/>
          <p:cNvSpPr/>
          <p:nvPr/>
        </p:nvSpPr>
        <p:spPr>
          <a:xfrm>
            <a:off x="299124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7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2270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12"/>
          <p:cNvSpPr/>
          <p:nvPr/>
        </p:nvSpPr>
        <p:spPr>
          <a:xfrm flipH="1">
            <a:off x="2698920" y="4149720"/>
            <a:ext cx="345888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3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Oval 14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Oval 15"/>
          <p:cNvSpPr/>
          <p:nvPr/>
        </p:nvSpPr>
        <p:spPr>
          <a:xfrm flipH="1">
            <a:off x="464112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Freeform 16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17"/>
          <p:cNvSpPr/>
          <p:nvPr/>
        </p:nvSpPr>
        <p:spPr>
          <a:xfrm flipH="1">
            <a:off x="393480" y="5013360"/>
            <a:ext cx="230796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Oval 18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20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Freeform 21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Oval 22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0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7" dur="7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8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79" dur="1230" fill="hold"/>
                                        <p:tgtEl>
                                          <p:spTgt spid="108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80" dur="123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081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82" dur="123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83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1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Freeform 2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"/>
          <p:cNvSpPr/>
          <p:nvPr/>
        </p:nvSpPr>
        <p:spPr>
          <a:xfrm flipV="1">
            <a:off x="1619280" y="5567040"/>
            <a:ext cx="532908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Oval 4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5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6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7" name="Text Box 7"/>
          <p:cNvSpPr/>
          <p:nvPr/>
        </p:nvSpPr>
        <p:spPr>
          <a:xfrm>
            <a:off x="608652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Group 9"/>
          <p:cNvGrpSpPr/>
          <p:nvPr/>
        </p:nvGrpSpPr>
        <p:grpSpPr>
          <a:xfrm>
            <a:off x="407520" y="1782360"/>
            <a:ext cx="4001040" cy="3944880"/>
            <a:chOff x="407520" y="1782360"/>
            <a:chExt cx="4001040" cy="3944880"/>
          </a:xfrm>
        </p:grpSpPr>
        <p:sp>
          <p:nvSpPr>
            <p:cNvPr id="1100" name="Freeform 10"/>
            <p:cNvSpPr/>
            <p:nvPr/>
          </p:nvSpPr>
          <p:spPr>
            <a:xfrm rot="20520000">
              <a:off x="809640" y="2199960"/>
              <a:ext cx="3196800" cy="31093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1"/>
            <p:cNvSpPr/>
            <p:nvPr/>
          </p:nvSpPr>
          <p:spPr>
            <a:xfrm rot="20520000">
              <a:off x="1301040" y="4894560"/>
              <a:ext cx="736920" cy="657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2"/>
            <p:cNvSpPr/>
            <p:nvPr/>
          </p:nvSpPr>
          <p:spPr>
            <a:xfrm rot="20520000">
              <a:off x="1371960" y="5311800"/>
              <a:ext cx="319320" cy="275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3"/>
            <p:cNvSpPr/>
            <p:nvPr/>
          </p:nvSpPr>
          <p:spPr>
            <a:xfrm rot="20520000">
              <a:off x="1235520" y="2235600"/>
              <a:ext cx="2474280" cy="242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4"/>
            <p:cNvSpPr/>
            <p:nvPr/>
          </p:nvSpPr>
          <p:spPr>
            <a:xfrm rot="20520000">
              <a:off x="1351440" y="2292480"/>
              <a:ext cx="2474280" cy="241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48148 -6 L 0.61441 0.00254 E">
                                      <p:cBhvr>
                                        <p:cTn id="2107" dur="3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3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Freeform 1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Freeform 2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Freeform 3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дание с ошиб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9" name="Group 5"/>
          <p:cNvGrpSpPr/>
          <p:nvPr/>
        </p:nvGrpSpPr>
        <p:grpSpPr>
          <a:xfrm>
            <a:off x="3747960" y="1268280"/>
            <a:ext cx="3888000" cy="4751640"/>
            <a:chOff x="3747960" y="1268280"/>
            <a:chExt cx="3888000" cy="4751640"/>
          </a:xfrm>
        </p:grpSpPr>
        <p:sp>
          <p:nvSpPr>
            <p:cNvPr id="1110" name="Freeform 6"/>
            <p:cNvSpPr/>
            <p:nvPr/>
          </p:nvSpPr>
          <p:spPr>
            <a:xfrm>
              <a:off x="3747960" y="1268280"/>
              <a:ext cx="2519640" cy="475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7"/>
            <p:cNvSpPr/>
            <p:nvPr/>
          </p:nvSpPr>
          <p:spPr>
            <a:xfrm>
              <a:off x="5908680" y="1268280"/>
              <a:ext cx="1727280" cy="475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Line 8"/>
            <p:cNvSpPr/>
            <p:nvPr/>
          </p:nvSpPr>
          <p:spPr>
            <a:xfrm flipV="1">
              <a:off x="3747960" y="4151160"/>
              <a:ext cx="3888000" cy="70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3" name="Freeform 9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10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367812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594216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Freeform 21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Freeform 22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Oval 23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Oval 25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26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1" name="Picture 27" descr=""/>
          <p:cNvPicPr/>
          <p:nvPr/>
        </p:nvPicPr>
        <p:blipFill>
          <a:blip r:embed="rId3"/>
          <a:stretch/>
        </p:blipFill>
        <p:spPr>
          <a:xfrm>
            <a:off x="36360" y="4879800"/>
            <a:ext cx="4753080" cy="4222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28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29"/>
          <p:cNvSpPr/>
          <p:nvPr/>
        </p:nvSpPr>
        <p:spPr>
          <a:xfrm>
            <a:off x="2125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30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31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500"/>
                            </p:stCondLst>
                            <p:childTnLst>
                              <p:par>
                                <p:cTn id="2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1" dur="5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5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1"/>
          <p:cNvSpPr/>
          <p:nvPr/>
        </p:nvSpPr>
        <p:spPr>
          <a:xfrm>
            <a:off x="219708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81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349416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90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30840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Freeform 14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Freeform 15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Freeform 17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Freeform 18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Oval 19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Freeform 20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Oval 21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Freeform 22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Freeform 23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24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25"/>
          <p:cNvSpPr/>
          <p:nvPr/>
        </p:nvSpPr>
        <p:spPr>
          <a:xfrm flipH="1">
            <a:off x="5610240" y="4508640"/>
            <a:ext cx="14112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Group 27"/>
          <p:cNvGrpSpPr/>
          <p:nvPr/>
        </p:nvGrpSpPr>
        <p:grpSpPr>
          <a:xfrm>
            <a:off x="5894280" y="2654280"/>
            <a:ext cx="476280" cy="844560"/>
            <a:chOff x="5894280" y="2654280"/>
            <a:chExt cx="476280" cy="844560"/>
          </a:xfrm>
        </p:grpSpPr>
        <p:sp>
          <p:nvSpPr>
            <p:cNvPr id="1163" name="Oval 28"/>
            <p:cNvSpPr/>
            <p:nvPr/>
          </p:nvSpPr>
          <p:spPr>
            <a:xfrm flipH="1">
              <a:off x="5894280" y="3375000"/>
              <a:ext cx="138960" cy="1238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Text Box 29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5" name="Text Box 30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31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Object 32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8" name="Text Box 33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3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Freeform 35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Freeform 36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Freeform 37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38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4" name="Group 39"/>
          <p:cNvGrpSpPr/>
          <p:nvPr/>
        </p:nvGrpSpPr>
        <p:grpSpPr>
          <a:xfrm>
            <a:off x="1145880" y="5877000"/>
            <a:ext cx="691920" cy="725760"/>
            <a:chOff x="1145880" y="5877000"/>
            <a:chExt cx="691920" cy="725760"/>
          </a:xfrm>
        </p:grpSpPr>
        <p:sp>
          <p:nvSpPr>
            <p:cNvPr id="1175" name="Oval 40"/>
            <p:cNvSpPr/>
            <p:nvPr/>
          </p:nvSpPr>
          <p:spPr>
            <a:xfrm flipH="1">
              <a:off x="1145520" y="5877000"/>
              <a:ext cx="142920" cy="14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41"/>
            <p:cNvSpPr/>
            <p:nvPr/>
          </p:nvSpPr>
          <p:spPr>
            <a:xfrm>
              <a:off x="136296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7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1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5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1"/>
          <p:cNvGrpSpPr/>
          <p:nvPr/>
        </p:nvGrpSpPr>
        <p:grpSpPr>
          <a:xfrm>
            <a:off x="4181400" y="3919680"/>
            <a:ext cx="1549440" cy="1460520"/>
            <a:chOff x="4181400" y="3919680"/>
            <a:chExt cx="1549440" cy="1460520"/>
          </a:xfrm>
        </p:grpSpPr>
        <p:sp>
          <p:nvSpPr>
            <p:cNvPr id="1178" name="Freeform 2"/>
            <p:cNvSpPr/>
            <p:nvPr/>
          </p:nvSpPr>
          <p:spPr>
            <a:xfrm>
              <a:off x="5703840" y="3919680"/>
              <a:ext cx="2700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3"/>
            <p:cNvSpPr/>
            <p:nvPr/>
          </p:nvSpPr>
          <p:spPr>
            <a:xfrm>
              <a:off x="4181400" y="5362560"/>
              <a:ext cx="1522440" cy="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4"/>
            <p:cNvSpPr/>
            <p:nvPr/>
          </p:nvSpPr>
          <p:spPr>
            <a:xfrm>
              <a:off x="4775040" y="4397400"/>
              <a:ext cx="941400" cy="94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1" name="Group 5"/>
          <p:cNvGrpSpPr/>
          <p:nvPr/>
        </p:nvGrpSpPr>
        <p:grpSpPr>
          <a:xfrm>
            <a:off x="1752480" y="1473120"/>
            <a:ext cx="3486240" cy="3387960"/>
            <a:chOff x="1752480" y="1473120"/>
            <a:chExt cx="3486240" cy="3387960"/>
          </a:xfrm>
        </p:grpSpPr>
        <p:sp>
          <p:nvSpPr>
            <p:cNvPr id="1182" name="Line 6"/>
            <p:cNvSpPr/>
            <p:nvPr/>
          </p:nvSpPr>
          <p:spPr>
            <a:xfrm>
              <a:off x="1763640" y="4365720"/>
              <a:ext cx="302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7"/>
            <p:cNvSpPr/>
            <p:nvPr/>
          </p:nvSpPr>
          <p:spPr>
            <a:xfrm>
              <a:off x="1770120" y="1476360"/>
              <a:ext cx="1762200" cy="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8"/>
            <p:cNvSpPr/>
            <p:nvPr/>
          </p:nvSpPr>
          <p:spPr>
            <a:xfrm>
              <a:off x="1771560" y="1517760"/>
              <a:ext cx="513000" cy="480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9"/>
            <p:cNvSpPr/>
            <p:nvPr/>
          </p:nvSpPr>
          <p:spPr>
            <a:xfrm>
              <a:off x="1752480" y="1484280"/>
              <a:ext cx="9720" cy="1552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10"/>
            <p:cNvSpPr/>
            <p:nvPr/>
          </p:nvSpPr>
          <p:spPr>
            <a:xfrm>
              <a:off x="4716360" y="1484280"/>
              <a:ext cx="57240" cy="2868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11"/>
            <p:cNvSpPr/>
            <p:nvPr/>
          </p:nvSpPr>
          <p:spPr>
            <a:xfrm>
              <a:off x="1755720" y="2989440"/>
              <a:ext cx="360" cy="1363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2"/>
            <p:cNvSpPr/>
            <p:nvPr/>
          </p:nvSpPr>
          <p:spPr>
            <a:xfrm>
              <a:off x="3511440" y="1473120"/>
              <a:ext cx="1203480" cy="6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3"/>
            <p:cNvSpPr/>
            <p:nvPr/>
          </p:nvSpPr>
          <p:spPr>
            <a:xfrm>
              <a:off x="4716360" y="1484280"/>
              <a:ext cx="522360" cy="45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14"/>
            <p:cNvSpPr/>
            <p:nvPr/>
          </p:nvSpPr>
          <p:spPr>
            <a:xfrm>
              <a:off x="1752480" y="4371840"/>
              <a:ext cx="452520" cy="489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1" name="Freeform 15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6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7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Freeform 18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Freeform 19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20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21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22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Group 23"/>
          <p:cNvGrpSpPr/>
          <p:nvPr/>
        </p:nvGrpSpPr>
        <p:grpSpPr>
          <a:xfrm>
            <a:off x="2176560" y="3857760"/>
            <a:ext cx="2022480" cy="1550880"/>
            <a:chOff x="2176560" y="3857760"/>
            <a:chExt cx="2022480" cy="1550880"/>
          </a:xfrm>
        </p:grpSpPr>
        <p:sp>
          <p:nvSpPr>
            <p:cNvPr id="1200" name="Freeform 24"/>
            <p:cNvSpPr/>
            <p:nvPr/>
          </p:nvSpPr>
          <p:spPr>
            <a:xfrm>
              <a:off x="2733840" y="3857760"/>
              <a:ext cx="7920" cy="1550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25"/>
            <p:cNvSpPr/>
            <p:nvPr/>
          </p:nvSpPr>
          <p:spPr>
            <a:xfrm>
              <a:off x="2714760" y="5381640"/>
              <a:ext cx="1484280" cy="1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26"/>
            <p:cNvSpPr/>
            <p:nvPr/>
          </p:nvSpPr>
          <p:spPr>
            <a:xfrm>
              <a:off x="2176560" y="4834080"/>
              <a:ext cx="550800" cy="563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3" name="Group 27"/>
          <p:cNvGrpSpPr/>
          <p:nvPr/>
        </p:nvGrpSpPr>
        <p:grpSpPr>
          <a:xfrm>
            <a:off x="4211640" y="1944720"/>
            <a:ext cx="1519200" cy="1973160"/>
            <a:chOff x="4211640" y="1944720"/>
            <a:chExt cx="1519200" cy="1973160"/>
          </a:xfrm>
        </p:grpSpPr>
        <p:sp>
          <p:nvSpPr>
            <p:cNvPr id="1204" name="Freeform 28"/>
            <p:cNvSpPr/>
            <p:nvPr/>
          </p:nvSpPr>
          <p:spPr>
            <a:xfrm>
              <a:off x="4211640" y="2438280"/>
              <a:ext cx="1519200" cy="27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9"/>
            <p:cNvSpPr/>
            <p:nvPr/>
          </p:nvSpPr>
          <p:spPr>
            <a:xfrm>
              <a:off x="5724360" y="2457360"/>
              <a:ext cx="6480" cy="1460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30"/>
            <p:cNvSpPr/>
            <p:nvPr/>
          </p:nvSpPr>
          <p:spPr>
            <a:xfrm>
              <a:off x="5230800" y="1944720"/>
              <a:ext cx="50004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2286000" y="1994040"/>
            <a:ext cx="1967040" cy="1879560"/>
            <a:chOff x="2286000" y="1994040"/>
            <a:chExt cx="1967040" cy="1879560"/>
          </a:xfrm>
        </p:grpSpPr>
        <p:sp>
          <p:nvSpPr>
            <p:cNvPr id="1208" name="Freeform 32"/>
            <p:cNvSpPr/>
            <p:nvPr/>
          </p:nvSpPr>
          <p:spPr>
            <a:xfrm>
              <a:off x="2743200" y="2452680"/>
              <a:ext cx="1509840" cy="3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33"/>
            <p:cNvSpPr/>
            <p:nvPr/>
          </p:nvSpPr>
          <p:spPr>
            <a:xfrm>
              <a:off x="2286000" y="1994040"/>
              <a:ext cx="469800" cy="47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Freeform 34"/>
            <p:cNvSpPr/>
            <p:nvPr/>
          </p:nvSpPr>
          <p:spPr>
            <a:xfrm>
              <a:off x="2743200" y="2467080"/>
              <a:ext cx="12600" cy="14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Rectangle 35"/>
          <p:cNvSpPr/>
          <p:nvPr/>
        </p:nvSpPr>
        <p:spPr>
          <a:xfrm>
            <a:off x="4625640" y="333360"/>
            <a:ext cx="411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Кубооктаэд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Group 36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1213" name="Freeform 37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Freeform 39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Freeform 40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Freeform 41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Freeform 42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Freeform 43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Freeform 44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fill="hold">
                      <p:stCondLst>
                        <p:cond delay="0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1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4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1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5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1"/>
          <p:cNvSpPr/>
          <p:nvPr/>
        </p:nvSpPr>
        <p:spPr>
          <a:xfrm>
            <a:off x="-1585800" y="333360"/>
            <a:ext cx="124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четырех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Freeform 2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Freeform 3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375120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5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Freeform 6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Freeform 7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8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Freeform 9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Freeform 10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Freeform 11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180360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17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Freeform 18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Freeform 19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Oval 2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Oval 21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 Box 22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Oval 23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Oval 24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25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26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4037040" y="227664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4492080" y="472428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7" dur="indefinite" restart="never" nodeType="tmRoot">
          <p:childTnLst>
            <p:seq>
              <p:cTn id="2448" dur="indefinite" nodeType="mainSeq">
                <p:childTnLst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Freeform 1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Freeform 2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Freeform 3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Freeform 4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5"/>
          <p:cNvSpPr/>
          <p:nvPr/>
        </p:nvSpPr>
        <p:spPr>
          <a:xfrm>
            <a:off x="277344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6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7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8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 Box 9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278928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1"/>
          <p:cNvSpPr/>
          <p:nvPr/>
        </p:nvSpPr>
        <p:spPr>
          <a:xfrm>
            <a:off x="27734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12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Freeform 13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Freeform 14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15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16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Freeform 17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Oval 18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Freeform 19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20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21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22"/>
          <p:cNvSpPr/>
          <p:nvPr/>
        </p:nvSpPr>
        <p:spPr>
          <a:xfrm flipH="1">
            <a:off x="5075280" y="4508640"/>
            <a:ext cx="14112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23"/>
          <p:cNvSpPr/>
          <p:nvPr/>
        </p:nvSpPr>
        <p:spPr>
          <a:xfrm flipH="1">
            <a:off x="536184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24"/>
          <p:cNvSpPr/>
          <p:nvPr/>
        </p:nvSpPr>
        <p:spPr>
          <a:xfrm>
            <a:off x="-1730160" y="333360"/>
            <a:ext cx="124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четырех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25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26"/>
          <p:cNvSpPr/>
          <p:nvPr/>
        </p:nvSpPr>
        <p:spPr>
          <a:xfrm>
            <a:off x="162072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 Box 27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28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9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Freeform 30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Freeform 31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Freeform 32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33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34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5468040" y="57340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"/>
          <p:cNvSpPr/>
          <p:nvPr/>
        </p:nvSpPr>
        <p:spPr>
          <a:xfrm>
            <a:off x="4724280" y="2670120"/>
            <a:ext cx="1944720" cy="20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 flipH="1">
            <a:off x="4570560" y="2689200"/>
            <a:ext cx="147600" cy="379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 flipH="1">
            <a:off x="2571840" y="2670120"/>
            <a:ext cx="2163600" cy="284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192400" y="3279600"/>
            <a:ext cx="5790960" cy="1295640"/>
          </a:xfrm>
          <a:prstGeom prst="parallelogram">
            <a:avLst>
              <a:gd name="adj" fmla="val 111739"/>
            </a:avLst>
          </a:prstGeom>
          <a:gradFill rotWithShape="0">
            <a:gsLst>
              <a:gs pos="0">
                <a:srgbClr val="ffffff"/>
              </a:gs>
              <a:gs pos="100000">
                <a:srgbClr val="33996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000" spc="-1" strike="noStrike" u="sng">
                <a:solidFill>
                  <a:srgbClr val="009999"/>
                </a:solidFill>
                <a:uFillTx/>
                <a:latin typeface="Arial"/>
              </a:rPr>
              <a:t>Определ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i="1" lang="ru-RU" sz="3000" spc="-1" strike="noStrike">
                <a:solidFill>
                  <a:srgbClr val="009999"/>
                </a:solidFill>
                <a:latin typeface="Arial"/>
              </a:rPr>
              <a:t>Секущ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лоскостью называется плоскость, по обе стороны от которой имеются точки данной фиг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563920" y="5516640"/>
            <a:ext cx="2016000" cy="9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4570560" y="4724280"/>
            <a:ext cx="2100240" cy="175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V="1">
            <a:off x="2563920" y="4722480"/>
            <a:ext cx="4105080" cy="7952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787920" y="3564000"/>
            <a:ext cx="1800000" cy="318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H="1">
            <a:off x="4650840" y="3565440"/>
            <a:ext cx="938520" cy="7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787920" y="3881520"/>
            <a:ext cx="86508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2"/>
          <p:cNvSpPr/>
          <p:nvPr/>
        </p:nvSpPr>
        <p:spPr>
          <a:xfrm>
            <a:off x="3854520" y="3575160"/>
            <a:ext cx="1698480" cy="755640"/>
          </a:xfrm>
          <a:prstGeom prst="pie">
            <a:avLst/>
          </a:prstGeom>
          <a:solidFill>
            <a:srgbClr val="ffff00">
              <a:alpha val="63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993000" y="3355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21400" y="3279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24280" y="42512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4653000" y="4356000"/>
            <a:ext cx="71280" cy="52560"/>
          </a:xfrm>
          <a:custGeom>
            <a:avLst/>
            <a:gdLst>
              <a:gd name="textAreaLeft" fmla="*/ 10440 w 71280"/>
              <a:gd name="textAreaRight" fmla="*/ 60840 w 71280"/>
              <a:gd name="textAreaTop" fmla="*/ 7560 h 52560"/>
              <a:gd name="textAreaBottom" fmla="*/ 45000 h 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 flipH="1" flipV="1">
            <a:off x="5516640" y="3565440"/>
            <a:ext cx="93600" cy="52560"/>
          </a:xfrm>
          <a:prstGeom prst="ellipse">
            <a:avLst/>
          </a:prstGeom>
          <a:solidFill>
            <a:srgbClr val="000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3787920" y="3828960"/>
            <a:ext cx="69840" cy="52560"/>
          </a:xfrm>
          <a:prstGeom prst="ellipse">
            <a:avLst/>
          </a:prstGeom>
          <a:solidFill>
            <a:srgbClr val="000000">
              <a:alpha val="8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5468760" y="2136600"/>
            <a:ext cx="3046680" cy="1293840"/>
            <a:chOff x="5468760" y="2136600"/>
            <a:chExt cx="3046680" cy="1293840"/>
          </a:xfrm>
        </p:grpSpPr>
        <p:sp>
          <p:nvSpPr>
            <p:cNvPr id="150" name="AutoShape 20"/>
            <p:cNvSpPr/>
            <p:nvPr/>
          </p:nvSpPr>
          <p:spPr>
            <a:xfrm>
              <a:off x="5468760" y="2136600"/>
              <a:ext cx="3046680" cy="1293840"/>
            </a:xfrm>
            <a:prstGeom prst="pie">
              <a:avLst/>
            </a:prstGeom>
            <a:solidFill>
              <a:srgbClr val="ccccff">
                <a:alpha val="74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WordArt 21"/>
            <p:cNvSpPr txBox="1"/>
            <p:nvPr/>
          </p:nvSpPr>
          <p:spPr>
            <a:xfrm>
              <a:off x="6078600" y="2593800"/>
              <a:ext cx="1917720" cy="37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85549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99"/>
                  </a:solidFill>
                  <a:latin typeface="Arial"/>
                </a:rPr>
                <a:t>Секущ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99"/>
                  </a:solidFill>
                  <a:latin typeface="Arial"/>
                </a:rPr>
                <a:t>плоскость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" name="Text Box 22"/>
          <p:cNvSpPr/>
          <p:nvPr/>
        </p:nvSpPr>
        <p:spPr>
          <a:xfrm>
            <a:off x="3335400" y="3584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210960" y="2289240"/>
            <a:ext cx="3657600" cy="847800"/>
          </a:xfrm>
          <a:prstGeom prst="wedgeRectCallout">
            <a:avLst>
              <a:gd name="adj1" fmla="val 66925"/>
              <a:gd name="adj2" fmla="val 163671"/>
            </a:avLst>
          </a:prstGeom>
          <a:solidFill>
            <a:srgbClr val="6666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24"/>
          <p:cNvSpPr txBox="1"/>
          <p:nvPr/>
        </p:nvSpPr>
        <p:spPr>
          <a:xfrm>
            <a:off x="515880" y="2670120"/>
            <a:ext cx="30481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ечение (Δ АВС)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grpSp>
        <p:nvGrpSpPr>
          <p:cNvPr id="155" name="Group 25"/>
          <p:cNvGrpSpPr/>
          <p:nvPr/>
        </p:nvGrpSpPr>
        <p:grpSpPr>
          <a:xfrm>
            <a:off x="3848040" y="2670120"/>
            <a:ext cx="1716120" cy="1706760"/>
            <a:chOff x="3848040" y="2670120"/>
            <a:chExt cx="1716120" cy="1706760"/>
          </a:xfrm>
        </p:grpSpPr>
        <p:sp>
          <p:nvSpPr>
            <p:cNvPr id="156" name="Freeform 26"/>
            <p:cNvSpPr/>
            <p:nvPr/>
          </p:nvSpPr>
          <p:spPr>
            <a:xfrm>
              <a:off x="3848040" y="2670120"/>
              <a:ext cx="860400" cy="118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>
              <a:off x="4670280" y="2670120"/>
              <a:ext cx="38160" cy="1706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4710240" y="2670120"/>
              <a:ext cx="853920" cy="884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2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161" name="Freeform 3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1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2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973080" y="1268280"/>
            <a:ext cx="2806200" cy="3598920"/>
            <a:chOff x="973080" y="1268280"/>
            <a:chExt cx="2806200" cy="3598920"/>
          </a:xfrm>
        </p:grpSpPr>
        <p:sp>
          <p:nvSpPr>
            <p:cNvPr id="174" name="AutoShape 6"/>
            <p:cNvSpPr/>
            <p:nvPr/>
          </p:nvSpPr>
          <p:spPr>
            <a:xfrm>
              <a:off x="974160" y="1268280"/>
              <a:ext cx="2802240" cy="35989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1692720" y="1268280"/>
              <a:ext cx="69480" cy="287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 flipH="1">
              <a:off x="1763640" y="4148280"/>
              <a:ext cx="2015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>
              <a:off x="973080" y="4148280"/>
              <a:ext cx="792720" cy="71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Freeform 10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1618920" y="4363920"/>
            <a:ext cx="194796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33524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71808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80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26072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313380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23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24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2383560" y="260280"/>
            <a:ext cx="4655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9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30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31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3"/>
          <p:cNvGrpSpPr/>
          <p:nvPr/>
        </p:nvGrpSpPr>
        <p:grpSpPr>
          <a:xfrm>
            <a:off x="5079960" y="1052640"/>
            <a:ext cx="2094120" cy="2793960"/>
            <a:chOff x="5079960" y="1052640"/>
            <a:chExt cx="2094120" cy="2793960"/>
          </a:xfrm>
        </p:grpSpPr>
        <p:sp>
          <p:nvSpPr>
            <p:cNvPr id="202" name="Text Box 34"/>
            <p:cNvSpPr/>
            <p:nvPr/>
          </p:nvSpPr>
          <p:spPr>
            <a:xfrm>
              <a:off x="602532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5940360" y="1343160"/>
              <a:ext cx="1233720" cy="1753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5940360" y="1341360"/>
              <a:ext cx="179280" cy="2505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5079960" y="1341360"/>
              <a:ext cx="860400" cy="2035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3780720" y="2741760"/>
            <a:ext cx="4884840" cy="3776760"/>
            <a:chOff x="3780720" y="2741760"/>
            <a:chExt cx="4884840" cy="3776760"/>
          </a:xfrm>
        </p:grpSpPr>
        <p:sp>
          <p:nvSpPr>
            <p:cNvPr id="207" name="Text Box 39"/>
            <p:cNvSpPr/>
            <p:nvPr/>
          </p:nvSpPr>
          <p:spPr>
            <a:xfrm>
              <a:off x="615708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4280040" y="3314880"/>
              <a:ext cx="836640" cy="1865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 flipV="1">
              <a:off x="4260960" y="4433400"/>
              <a:ext cx="3846240" cy="752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3"/>
            <p:cNvSpPr/>
            <p:nvPr/>
          </p:nvSpPr>
          <p:spPr>
            <a:xfrm>
              <a:off x="730980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4"/>
            <p:cNvSpPr/>
            <p:nvPr/>
          </p:nvSpPr>
          <p:spPr>
            <a:xfrm>
              <a:off x="378072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45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46"/>
            <p:cNvSpPr/>
            <p:nvPr/>
          </p:nvSpPr>
          <p:spPr>
            <a:xfrm>
              <a:off x="819072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6121440" y="3848040"/>
              <a:ext cx="163440" cy="2081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7164360" y="3068640"/>
              <a:ext cx="936720" cy="137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 flipH="1">
              <a:off x="7093080" y="2997360"/>
              <a:ext cx="141120" cy="14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6084720" y="3789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5003640" y="328464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Freeform 52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1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2"/>
          <p:cNvGrpSpPr/>
          <p:nvPr/>
        </p:nvGrpSpPr>
        <p:grpSpPr>
          <a:xfrm>
            <a:off x="684360" y="765000"/>
            <a:ext cx="3453840" cy="5254920"/>
            <a:chOff x="684360" y="765000"/>
            <a:chExt cx="3453840" cy="5254920"/>
          </a:xfrm>
        </p:grpSpPr>
        <p:sp>
          <p:nvSpPr>
            <p:cNvPr id="223" name="Freeform 3"/>
            <p:cNvSpPr/>
            <p:nvPr/>
          </p:nvSpPr>
          <p:spPr>
            <a:xfrm>
              <a:off x="685800" y="765000"/>
              <a:ext cx="3452400" cy="525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 flipH="1">
              <a:off x="684360" y="765000"/>
              <a:ext cx="1513440" cy="439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685800" y="4292280"/>
              <a:ext cx="345240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6"/>
          <p:cNvSpPr/>
          <p:nvPr/>
        </p:nvSpPr>
        <p:spPr>
          <a:xfrm>
            <a:off x="90180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5416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21488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7016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167560" y="189000"/>
            <a:ext cx="4655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1332000" y="4292640"/>
            <a:ext cx="2808360" cy="11541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1330200" y="836640"/>
            <a:ext cx="86832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18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19"/>
          <p:cNvGrpSpPr/>
          <p:nvPr/>
        </p:nvGrpSpPr>
        <p:grpSpPr>
          <a:xfrm>
            <a:off x="4788000" y="620640"/>
            <a:ext cx="3453840" cy="5254560"/>
            <a:chOff x="4788000" y="620640"/>
            <a:chExt cx="3453840" cy="5254560"/>
          </a:xfrm>
        </p:grpSpPr>
        <p:sp>
          <p:nvSpPr>
            <p:cNvPr id="240" name="Freeform 20"/>
            <p:cNvSpPr/>
            <p:nvPr/>
          </p:nvSpPr>
          <p:spPr>
            <a:xfrm>
              <a:off x="4789440" y="620640"/>
              <a:ext cx="3452400" cy="525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 flipH="1">
              <a:off x="4788000" y="620640"/>
              <a:ext cx="1513440" cy="439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V="1">
              <a:off x="4789440" y="4147920"/>
              <a:ext cx="345240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23"/>
          <p:cNvSpPr/>
          <p:nvPr/>
        </p:nvSpPr>
        <p:spPr>
          <a:xfrm>
            <a:off x="5078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4357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28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31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6516720" y="4076640"/>
            <a:ext cx="1797120" cy="1871640"/>
            <a:chOff x="6516720" y="4076640"/>
            <a:chExt cx="1797120" cy="1871640"/>
          </a:xfrm>
        </p:grpSpPr>
        <p:sp>
          <p:nvSpPr>
            <p:cNvPr id="253" name="Oval 33"/>
            <p:cNvSpPr/>
            <p:nvPr/>
          </p:nvSpPr>
          <p:spPr>
            <a:xfrm>
              <a:off x="6516720" y="580536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34"/>
            <p:cNvSpPr/>
            <p:nvPr/>
          </p:nvSpPr>
          <p:spPr>
            <a:xfrm>
              <a:off x="8172360" y="407664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1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2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4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00188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03236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09564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14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16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1523880" y="2060640"/>
            <a:ext cx="1839960" cy="3325680"/>
            <a:chOff x="1523880" y="2060640"/>
            <a:chExt cx="1839960" cy="3325680"/>
          </a:xfrm>
        </p:grpSpPr>
        <p:sp>
          <p:nvSpPr>
            <p:cNvPr id="272" name="Freeform 18"/>
            <p:cNvSpPr/>
            <p:nvPr/>
          </p:nvSpPr>
          <p:spPr>
            <a:xfrm>
              <a:off x="2411280" y="2465280"/>
              <a:ext cx="952560" cy="29210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1523880" y="2060640"/>
              <a:ext cx="885960" cy="557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Freeform 20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24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6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286200" y="2197080"/>
            <a:ext cx="2982960" cy="2873160"/>
            <a:chOff x="286200" y="2197080"/>
            <a:chExt cx="2982960" cy="2873160"/>
          </a:xfrm>
        </p:grpSpPr>
        <p:sp>
          <p:nvSpPr>
            <p:cNvPr id="282" name="Freeform 28"/>
            <p:cNvSpPr/>
            <p:nvPr/>
          </p:nvSpPr>
          <p:spPr>
            <a:xfrm flipH="1" rot="1080000">
              <a:off x="572760" y="2514240"/>
              <a:ext cx="2409480" cy="223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9"/>
            <p:cNvSpPr/>
            <p:nvPr/>
          </p:nvSpPr>
          <p:spPr>
            <a:xfrm flipH="1" rot="1080000">
              <a:off x="2078640" y="4470120"/>
              <a:ext cx="554760" cy="47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0"/>
            <p:cNvSpPr/>
            <p:nvPr/>
          </p:nvSpPr>
          <p:spPr>
            <a:xfrm flipH="1" rot="1080000">
              <a:off x="2343240" y="4776120"/>
              <a:ext cx="241200" cy="197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1"/>
            <p:cNvSpPr/>
            <p:nvPr/>
          </p:nvSpPr>
          <p:spPr>
            <a:xfrm flipH="1" rot="1080000">
              <a:off x="794160" y="2535840"/>
              <a:ext cx="1864440" cy="174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32"/>
            <p:cNvSpPr/>
            <p:nvPr/>
          </p:nvSpPr>
          <p:spPr>
            <a:xfrm flipH="1" rot="1080000">
              <a:off x="704520" y="2577600"/>
              <a:ext cx="1864440" cy="173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Oval 33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35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3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38"/>
          <p:cNvGrpSpPr/>
          <p:nvPr/>
        </p:nvGrpSpPr>
        <p:grpSpPr>
          <a:xfrm>
            <a:off x="4745880" y="1530360"/>
            <a:ext cx="3849840" cy="4613760"/>
            <a:chOff x="4745880" y="1530360"/>
            <a:chExt cx="3849840" cy="4613760"/>
          </a:xfrm>
        </p:grpSpPr>
        <p:grpSp>
          <p:nvGrpSpPr>
            <p:cNvPr id="293" name="Group 39"/>
            <p:cNvGrpSpPr/>
            <p:nvPr/>
          </p:nvGrpSpPr>
          <p:grpSpPr>
            <a:xfrm>
              <a:off x="5241960" y="2033640"/>
              <a:ext cx="2805840" cy="3598920"/>
              <a:chOff x="5241960" y="2033640"/>
              <a:chExt cx="2805840" cy="3598920"/>
            </a:xfrm>
          </p:grpSpPr>
          <p:sp>
            <p:nvSpPr>
              <p:cNvPr id="294" name="AutoShape 40"/>
              <p:cNvSpPr/>
              <p:nvPr/>
            </p:nvSpPr>
            <p:spPr>
              <a:xfrm>
                <a:off x="5243400" y="2033640"/>
                <a:ext cx="2801520" cy="35989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"/>
              <p:cNvSpPr/>
              <p:nvPr/>
            </p:nvSpPr>
            <p:spPr>
              <a:xfrm>
                <a:off x="5961960" y="2033640"/>
                <a:ext cx="69480" cy="287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2"/>
              <p:cNvSpPr/>
              <p:nvPr/>
            </p:nvSpPr>
            <p:spPr>
              <a:xfrm flipH="1">
                <a:off x="6032880" y="4913280"/>
                <a:ext cx="201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3"/>
              <p:cNvSpPr/>
              <p:nvPr/>
            </p:nvSpPr>
            <p:spPr>
              <a:xfrm flipH="1">
                <a:off x="5241960" y="4913280"/>
                <a:ext cx="792720" cy="7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Text Box 44"/>
            <p:cNvSpPr/>
            <p:nvPr/>
          </p:nvSpPr>
          <p:spPr>
            <a:xfrm>
              <a:off x="488736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45"/>
            <p:cNvSpPr/>
            <p:nvPr/>
          </p:nvSpPr>
          <p:spPr>
            <a:xfrm>
              <a:off x="725904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46"/>
            <p:cNvSpPr/>
            <p:nvPr/>
          </p:nvSpPr>
          <p:spPr>
            <a:xfrm>
              <a:off x="812088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47"/>
            <p:cNvSpPr/>
            <p:nvPr/>
          </p:nvSpPr>
          <p:spPr>
            <a:xfrm>
              <a:off x="560304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48"/>
            <p:cNvSpPr/>
            <p:nvPr/>
          </p:nvSpPr>
          <p:spPr>
            <a:xfrm>
              <a:off x="474588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9"/>
            <p:cNvSpPr/>
            <p:nvPr/>
          </p:nvSpPr>
          <p:spPr>
            <a:xfrm>
              <a:off x="568260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50"/>
            <p:cNvSpPr/>
            <p:nvPr/>
          </p:nvSpPr>
          <p:spPr>
            <a:xfrm>
              <a:off x="798588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51"/>
            <p:cNvSpPr/>
            <p:nvPr/>
          </p:nvSpPr>
          <p:spPr>
            <a:xfrm>
              <a:off x="731808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52"/>
            <p:cNvSpPr/>
            <p:nvPr/>
          </p:nvSpPr>
          <p:spPr>
            <a:xfrm flipH="1">
              <a:off x="7326360" y="4915080"/>
              <a:ext cx="722160" cy="71748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53"/>
            <p:cNvSpPr/>
            <p:nvPr/>
          </p:nvSpPr>
          <p:spPr>
            <a:xfrm>
              <a:off x="5273640" y="2028960"/>
              <a:ext cx="677880" cy="67788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4"/>
            <p:cNvSpPr/>
            <p:nvPr/>
          </p:nvSpPr>
          <p:spPr>
            <a:xfrm>
              <a:off x="5168880" y="268128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5"/>
            <p:cNvSpPr/>
            <p:nvPr/>
          </p:nvSpPr>
          <p:spPr>
            <a:xfrm>
              <a:off x="5888160" y="196200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6"/>
            <p:cNvSpPr/>
            <p:nvPr/>
          </p:nvSpPr>
          <p:spPr>
            <a:xfrm>
              <a:off x="7256520" y="556272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7977240" y="484200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7.40741 -7 L -0.00937 -0.36481 E">
                                      <p:cBhvr>
                                        <p:cTn id="457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1833480" y="1698120"/>
            <a:ext cx="100980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 flipV="1">
            <a:off x="1833480" y="4290480"/>
            <a:ext cx="93672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7"/>
          <p:cNvGrpSpPr/>
          <p:nvPr/>
        </p:nvGrpSpPr>
        <p:grpSpPr>
          <a:xfrm>
            <a:off x="2340360" y="1341360"/>
            <a:ext cx="456480" cy="3169080"/>
            <a:chOff x="2340360" y="1341360"/>
            <a:chExt cx="456480" cy="3169080"/>
          </a:xfrm>
        </p:grpSpPr>
        <p:sp>
          <p:nvSpPr>
            <p:cNvPr id="319" name="Text Box 8"/>
            <p:cNvSpPr/>
            <p:nvPr/>
          </p:nvSpPr>
          <p:spPr>
            <a:xfrm>
              <a:off x="241200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234036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1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2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Group 13"/>
          <p:cNvGrpSpPr/>
          <p:nvPr/>
        </p:nvGrpSpPr>
        <p:grpSpPr>
          <a:xfrm>
            <a:off x="1763640" y="5229360"/>
            <a:ext cx="1005120" cy="1511280"/>
            <a:chOff x="1763640" y="5229360"/>
            <a:chExt cx="1005120" cy="1511280"/>
          </a:xfrm>
        </p:grpSpPr>
        <p:sp>
          <p:nvSpPr>
            <p:cNvPr id="325" name="Freeform 14"/>
            <p:cNvSpPr/>
            <p:nvPr/>
          </p:nvSpPr>
          <p:spPr>
            <a:xfrm>
              <a:off x="1833480" y="5229360"/>
              <a:ext cx="935280" cy="151128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15"/>
                <p:cNvSpPr txBox="1"/>
                <p:nvPr/>
              </p:nvSpPr>
              <p:spPr>
                <a:xfrm>
                  <a:off x="1763640" y="5805360"/>
                  <a:ext cx="5587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Group 16"/>
          <p:cNvGrpSpPr/>
          <p:nvPr/>
        </p:nvGrpSpPr>
        <p:grpSpPr>
          <a:xfrm>
            <a:off x="1208520" y="2813040"/>
            <a:ext cx="2691360" cy="2393280"/>
            <a:chOff x="1208520" y="2813040"/>
            <a:chExt cx="2691360" cy="2393280"/>
          </a:xfrm>
        </p:grpSpPr>
        <p:sp>
          <p:nvSpPr>
            <p:cNvPr id="328" name="Freeform 17"/>
            <p:cNvSpPr/>
            <p:nvPr/>
          </p:nvSpPr>
          <p:spPr>
            <a:xfrm flipH="1" flipV="1" rot="14520000">
              <a:off x="1884600" y="2783880"/>
              <a:ext cx="1338840" cy="23364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 flipH="1" flipV="1" rot="14520000">
              <a:off x="1744560" y="4725360"/>
              <a:ext cx="337320" cy="45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 flipH="1" flipV="1" rot="14520000">
              <a:off x="1774800" y="5024520"/>
              <a:ext cx="126720" cy="169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flipH="1" flipV="1" rot="14520000">
              <a:off x="2119320" y="2881800"/>
              <a:ext cx="1170000" cy="195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 Box 21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3397320" y="189000"/>
            <a:ext cx="600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араллельных плоск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3135600" y="5373720"/>
            <a:ext cx="63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при построении сеч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1211040" y="215640"/>
            <a:ext cx="2710440" cy="2400840"/>
            <a:chOff x="1211040" y="215640"/>
            <a:chExt cx="2710440" cy="2400840"/>
          </a:xfrm>
        </p:grpSpPr>
        <p:sp>
          <p:nvSpPr>
            <p:cNvPr id="336" name="Freeform 25"/>
            <p:cNvSpPr/>
            <p:nvPr/>
          </p:nvSpPr>
          <p:spPr>
            <a:xfrm flipH="1" flipV="1" rot="14520000">
              <a:off x="1895400" y="182160"/>
              <a:ext cx="1340640" cy="235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6"/>
            <p:cNvSpPr/>
            <p:nvPr/>
          </p:nvSpPr>
          <p:spPr>
            <a:xfrm flipH="1" flipV="1" rot="14520000">
              <a:off x="1739520" y="2131200"/>
              <a:ext cx="337320" cy="456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7"/>
            <p:cNvSpPr/>
            <p:nvPr/>
          </p:nvSpPr>
          <p:spPr>
            <a:xfrm flipH="1" flipV="1" rot="14520000">
              <a:off x="1767240" y="2432160"/>
              <a:ext cx="126360" cy="17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8"/>
            <p:cNvSpPr/>
            <p:nvPr/>
          </p:nvSpPr>
          <p:spPr>
            <a:xfrm flipH="1" flipV="1" rot="14520000">
              <a:off x="2129760" y="283320"/>
              <a:ext cx="1171800" cy="196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1.11111 -6 L 0.11944 -0.14699 E">
                                      <p:cBhvr>
                                        <p:cTn id="521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1.11111 -6 L 0.11944 -0.14699 E">
                                      <p:cBhvr>
                                        <p:cTn id="52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24:14Z</dcterms:created>
  <dc:creator>ADMINISTRATION</dc:creator>
  <dc:description/>
  <dc:language>en-US</dc:language>
  <cp:lastModifiedBy>Sims</cp:lastModifiedBy>
  <dcterms:modified xsi:type="dcterms:W3CDTF">2013-10-28T14:49:22Z</dcterms:modified>
  <cp:revision>101</cp:revision>
  <dc:subject/>
  <dc:title>Слайд 1</dc:title>
</cp:coreProperties>
</file>