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3966-D1D8-43DE-9A75-58D2A22117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2D14-C475-4525-81CD-48A5B8A0A28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472-6DF4-4173-ABF4-66ECBEBC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13F-2FFD-41BB-AAB3-D1176DC4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402-1309-409C-8084-B7914367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E82-7C44-450C-987C-264713AF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970F-4180-4B7D-9468-4AEE8166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55C7-3C67-49C0-8ED6-9156507F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E3C0-437C-459A-8E06-3F7716D9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9871-0C02-4DCD-ADCA-35D7FD1E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E4FC-37F6-4B2F-9B59-6408D813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5979-107C-4CB2-8790-027997D3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1DC5-930A-437C-A1EE-F1FCFED2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C3C-3717-487C-8844-659D297D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8F9A-2A9B-44AE-81E7-DB605323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193F-2F61-4BDC-891B-A52A7AF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0977-31A3-4279-98E7-EDC38F2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EA64-7281-4CE6-9B9B-B2A46634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194E-CB54-4344-AE36-88C43CAF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8B0-A83C-4F56-BCF8-2F27B4A3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803-457F-4E91-8B35-E7FA64CD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EAD-E926-47BD-8952-08A32F8F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1F4-7566-4A8E-B1D9-BE6EE3B8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E16-B0B8-420B-B6C5-FC86911C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F11-402F-45EC-8AE5-82B731DA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E24-1893-4254-842B-2F12AF1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61F4-3379-403F-8011-32B79FCB3E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5927-175F-4DFC-AC3A-2ACFDECB35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Возрастные особенности учащихся 2 класс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Как приучить ребенка самостоятельно выполнять домашнее зада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Задания даются не вам, а ребенку. Выполняя работу за него, вы лишаете его возможности развиватьс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могите своему ребенку в организации рабочего места, посоветуйте начинать с более легких предметов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Не спешите на помощь, дождитесь, когда он выполнит задани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и этом нужна ваша поддержка, терпение, благожелатель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е ругайте ребенка за промахи, не высмеивайт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верьте: ребенок сделал их не специально, он тоже пережива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аблицу умножения повесьте над сто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тарайтесь  опережать задания в школе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чите задачи по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атематике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едставлять как события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7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 чтению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просите прочитать вслух, а потом попросите пересказа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8. При выполнении упражнения по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усскому языку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 следует выполнять упражнение на черновике или вставлять буквы в текст учебника, это утомляет ребенка, делает его невнимательным. Лучше выполнить упражнение сначала устно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 подготовке уроков по курс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Окружающий мир»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используйте  энциклопедии, справочники, журналы. Это расширит кругозор и научит ориентироваться в море информ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Самое главное при изучени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ностранного языка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– освоение лексик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ажно, чтобы письменные задания выполнялись не механически, чтобы одновременно с написанием ребенок повторял вслух то, что он пиш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Если навык выполнения домашнего задания сформировался, то можете некоторое время не контролировать ребенка.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о сформированный навык может  дать сбой, тогда терпеливо начинайте сначала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Знайте, что всегда нужна ваша поддержка, терпение, благожелательнос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мните: приучить к самостоятельности очень трудно, но необходим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boombob.ru/img/picture/May/13/26fa48ecfc24aff4792e209a9a3508d0/mini_1.jpg"/>
          <p:cNvPicPr/>
          <p:nvPr/>
        </p:nvPicPr>
        <p:blipFill>
          <a:blip r:embed="rId1"/>
          <a:stretch/>
        </p:blipFill>
        <p:spPr>
          <a:xfrm>
            <a:off x="2209680" y="1338120"/>
            <a:ext cx="39052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2 класс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62160" y="456840"/>
            <a:ext cx="47242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Период адаптации законче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«Узловое» время в становлении самооцен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Формируется внутренняя оценочная позиц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Отметка – не самоц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2" descr="http://img0.liveinternet.ru/images/attach/c/7/98/255/98255252_ya_vtoroklassnik_1.png"/>
          <p:cNvPicPr/>
          <p:nvPr/>
        </p:nvPicPr>
        <p:blipFill>
          <a:blip r:embed="rId1"/>
          <a:stretch/>
        </p:blipFill>
        <p:spPr>
          <a:xfrm>
            <a:off x="33480" y="1600200"/>
            <a:ext cx="3827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d2e"/>
                </a:solidFill>
                <a:latin typeface="Arial"/>
              </a:rPr>
              <a:t>«Феномен вторых классов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Самооценка в учебной деятельности резко сниж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В 3 классах вновь повыш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Нужно помни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ы РЕАЛЬНЫЕ знания, а не отме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о трудолюбие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о упорство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а ответственностть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а потребность в получении знан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Все познавательные процессы  становят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произволь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продуктив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устойчивым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едущая деятельность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в это время – 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учеб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Задача родителей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создать условия для того, чтобы в домашней трудовой деятельности находили отражение, применялись те знания, умения и навыки, которые приобретаются в школ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Доминиру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глядно-действенно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глядно-образ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Развиваются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все логические операци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сравнение, обобщение, анализ, синтез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Абстракт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развито слабо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Ребенок в этом возрасте во всем ориентируется на оценку взрослог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Ребенок</a:t>
            </a: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воспринимает школьную оценку как оценку всего себя как личности или как отношение к себ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11-22T00:15:0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