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AE55-5E2D-4E1B-84F9-967BDCC7ED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17C4-2BEE-4CC5-B5B5-82C8AAB22882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E50-E83A-448E-91FC-CC9603FD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34F-81E7-455A-8B65-F51B5D26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374E-AE80-4B2D-88DA-A9F34AF8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E1C6-3C08-479B-9507-7C9D74E1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B904-7084-4DD6-81AE-7D5B6B62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873D-899D-420B-9756-E0E9E97B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568F-C7C6-43A2-8CE6-F95021E5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42BE-7F3C-41B9-AEB5-41FF2C20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7F0A-2C86-4545-AA65-92587B7D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B7C8-479A-4D34-BE05-EBDBEE00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013B-F313-44D2-84CB-58588AAB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7CA8-6F40-4959-A071-019BFDD3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290E-2D9C-43B0-B867-DA129C11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015F-884E-4A17-87D1-7D491F08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A094-FE2F-4DC2-BA07-676CDFD6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7367-2A12-454D-9766-472DD0D7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23F0-08C8-4240-BA1C-295FB39C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50CB-2E8D-40B8-8EB8-1ECF5FEC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4A4-84BE-4A27-8A52-AEE83373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68BC-D6B3-4E09-8676-19D81D3E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907-03AE-4BD6-A837-10762765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277-7F03-461B-AF31-B66E6F93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D7D8-6AE2-4EAF-A716-14BF9F09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2429-B67E-46CB-89D3-BEAC714C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023C-41CF-4702-9512-C152DCE1627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16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0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2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3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3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4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C121-ED60-4A23-8679-43CB7CBD31A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Возрастные особенности учащихся 2 класс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Как приучить ребенка самостоятельно выполнять домашнее задание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Задания даются не вам, а ребенку. Выполняя работу за него, вы лишаете его возможности развиваться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могите своему ребенку в организации рабочего места, посоветуйте начинать с более легких предметов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. Не спешите на помощь, дождитесь, когда он выполнит задани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и этом нужна ваша поддержка, терпение, благожелательнос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е ругайте ребенка за промахи, не высмеивайт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оверьте: ребенок сделал их не специально, он тоже пережива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Таблицу умножения повесьте над столо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тарайтесь  опережать задания в школе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6.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Учите задачи по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атематике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едставлять как события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7.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адание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о чтению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опросите прочитать вслух, а потом попросите пересказа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8. При выполнении упражнения по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русскому языку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е следует выполнять упражнение на черновике или вставлять буквы в текст учебника, это утомляет ребенка, делает его невнимательным. Лучше выполнить упражнение сначала устно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9.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 подготовке уроков по курсу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Окружающий мир»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используйте  энциклопедии, справочники, журналы. Это расширит кругозор и научит ориентироваться в море информац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Самое главное при изучении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иностранного языка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– освоение лексики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ажно, чтобы письменные задания выполнялись не механически, чтобы одновременно с написанием ребенок повторял вслух то, что он пише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Если навык выполнения домашнего задания сформировался, то можете некоторое время не контролировать ребенка.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о сформированный навык может  дать сбой, тогда терпеливо начинайте сначала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Знайте, что всегда нужна ваша поддержка, терпение, благожелательность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омните: приучить к самостоятельности очень трудно, но необходимо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http://boombob.ru/img/picture/May/13/26fa48ecfc24aff4792e209a9a3508d0/mini_1.jpg"/>
          <p:cNvPicPr/>
          <p:nvPr/>
        </p:nvPicPr>
        <p:blipFill>
          <a:blip r:embed="rId1"/>
          <a:stretch/>
        </p:blipFill>
        <p:spPr>
          <a:xfrm>
            <a:off x="2209680" y="1338120"/>
            <a:ext cx="390528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2 класс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62160" y="456840"/>
            <a:ext cx="47242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Период адаптации закончен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«Узловое» время в становлении самооцен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Формируется внутренняя оценочная позиц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Отметка – не самоцел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2" descr="http://img0.liveinternet.ru/images/attach/c/7/98/255/98255252_ya_vtoroklassnik_1.png"/>
          <p:cNvPicPr/>
          <p:nvPr/>
        </p:nvPicPr>
        <p:blipFill>
          <a:blip r:embed="rId1"/>
          <a:stretch/>
        </p:blipFill>
        <p:spPr>
          <a:xfrm>
            <a:off x="33480" y="1600200"/>
            <a:ext cx="3827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1d2e"/>
                </a:solidFill>
                <a:latin typeface="Arial"/>
              </a:rPr>
              <a:t>«Феномен вторых классов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Самооценка в учебной деятельности резко сниж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В 3 классах вновь повыш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Нужно помнить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Важны РЕАЛЬНЫЕ знания, а не отмет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Важно трудолюбие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Важно упорство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Важна ответственностть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Важна потребность в получении знани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Все познавательные процессы  становятс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произвольным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продуктивным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устойчивым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едущая деятельность</a:t>
            </a: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 в это время – </a:t>
            </a: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учебная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Verdana"/>
              </a:rPr>
              <a:t>Задача родителей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создать условия для того, чтобы в домашней трудовой деятельности находили отражение, применялись те знания, умения и навыки, которые приобретаются в школ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Verdana"/>
              </a:rPr>
              <a:t>Доминируе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наглядно-действенно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наглядно-образное мышлен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Verdana"/>
              </a:rPr>
              <a:t>Развиваются</a:t>
            </a: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 все логические операции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сравнение, обобщение, анализ, синтез</a:t>
            </a: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Абстрактное мышлен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Verdana"/>
              </a:rPr>
              <a:t>развито слабо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Ребенок в этом возрасте во всем ориентируется на оценку взрослого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Ребенок</a:t>
            </a:r>
            <a:r>
              <a:rPr b="0" i="1" lang="ru-RU" sz="3600" spc="-1" strike="noStrike">
                <a:solidFill>
                  <a:srgbClr val="002060"/>
                </a:solidFill>
                <a:latin typeface="Verdana"/>
              </a:rPr>
              <a:t> воспринимает школьную оценку как оценку всего себя как личности или как отношение к себе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8-11-22T00:15:0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