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3EA8-E664-475D-9759-7CD212FAA8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C809-BF9F-43A3-87DD-4A4F40D71C21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A8A2-26D8-4688-A955-88D5DA094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6816-6393-4E9E-94E0-BB757851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FAA3-FEBF-401F-B53D-774C754B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9164-107B-4E80-97FA-76CF93922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4953-8362-4FAF-B304-83120935E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4127-8FC6-45FB-9143-36FF0B51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C10E-2AD3-4BD9-9FC4-4BBC2C9B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62C7-B5A2-493E-9D98-CADD3152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1268-6C60-4203-BF80-B03B023C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21AC-BC94-43A7-A40E-C363FE7D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5007-68D0-4FDC-9E77-F6C06971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0C9B-9026-4E8D-9AC4-6D82C20E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95A4-7CCF-4D6F-92DC-E5BE98C7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34C0-C6DD-44E3-A4BC-4A483BDC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EB94-198E-476B-8865-26BB4FF9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81A5-3A33-47B8-A979-771A9C11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F179-739B-460E-B94A-969455616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6B7C-CBA0-4763-A302-1B58956E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48A2-2BB3-4F93-AAAB-2AA047BD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0FD5-5610-4AF2-9744-ABA69B5E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5881-49F3-4017-ADA4-ED3B175C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986C-69A8-4773-B723-11CBBA11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313F-05EC-4B08-808D-0029A24A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D60C-F9D1-4EDB-A548-2E250FA6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AC0C-0AC3-4D97-AB0E-5EE4AAAECA8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15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16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7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8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19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0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1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2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3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4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5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6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7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8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9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0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1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2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33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4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5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6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7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8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9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0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2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44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45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6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7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8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9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50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1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32E1-0E35-43BE-ACFE-54543DBE335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Возрастные особенности учащихся 2 класса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59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Verdana"/>
              </a:rPr>
              <a:t>Как приучить ребенка самостоятельно выполнять домашнее задание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Задания даются не вам, а ребенку. Выполняя работу за него, вы лишаете его возможности развиваться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омогите своему ребенку в организации рабочего места, посоветуйте начинать с более легких предметов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3. Не спешите на помощь, дождитесь, когда он выполнит задание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и этом нужна ваша поддержка, терпение, благожелательност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Не ругайте ребенка за промахи, не высмеивайте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Поверьте: ребенок сделал их не специально, он тоже переживае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5.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Таблицу умножения повесьте над столом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тарайтесь  опережать задания в школе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6.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Учите задачи по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математике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едставлять как события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7.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Задание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о чтению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опросите прочитать вслух, а потом попросите пересказать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8. При выполнении упражнения по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русскому языку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не следует выполнять упражнение на черновике или вставлять буквы в текст учебника, это утомляет ребенка, делает его невнимательным. Лучше выполнить упражнение сначала устно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9.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При подготовке уроков по курсу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«Окружающий мир»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используйте  энциклопедии, справочники, журналы. Это расширит кругозор и научит ориентироваться в море информац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0.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Самое главное при изучении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иностранного языка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– освоение лексики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Важно, чтобы письменные задания выполнялись не механически, чтобы одновременно с написанием ребенок повторял вслух то, что он пишет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1.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Если навык выполнения домашнего задания сформировался, то можете некоторое время не контролировать ребенка.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Но сформированный навык может  дать сбой, тогда терпеливо начинайте сначала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Знайте, что всегда нужна ваша поддержка, терпение, благожелательность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Помните: приучить к самостоятельности очень трудно, но необходимо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http://boombob.ru/img/picture/May/13/26fa48ecfc24aff4792e209a9a3508d0/mini_1.jpg"/>
          <p:cNvPicPr/>
          <p:nvPr/>
        </p:nvPicPr>
        <p:blipFill>
          <a:blip r:embed="rId1"/>
          <a:stretch/>
        </p:blipFill>
        <p:spPr>
          <a:xfrm>
            <a:off x="2209680" y="1338120"/>
            <a:ext cx="390528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2 класс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962160" y="456840"/>
            <a:ext cx="47242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d2e"/>
                </a:solidFill>
                <a:latin typeface="Verdana"/>
              </a:rPr>
              <a:t>Период адаптации закончен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d2e"/>
                </a:solidFill>
                <a:latin typeface="Verdana"/>
              </a:rPr>
              <a:t>«Узловое» время в становлении самооценк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d2e"/>
                </a:solidFill>
                <a:latin typeface="Verdana"/>
              </a:rPr>
              <a:t>Формируется внутренняя оценочная позиц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d2e"/>
                </a:solidFill>
                <a:latin typeface="Verdana"/>
              </a:rPr>
              <a:t>Отметка – не самоцел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2" descr="http://img0.liveinternet.ru/images/attach/c/7/98/255/98255252_ya_vtoroklassnik_1.png"/>
          <p:cNvPicPr/>
          <p:nvPr/>
        </p:nvPicPr>
        <p:blipFill>
          <a:blip r:embed="rId1"/>
          <a:stretch/>
        </p:blipFill>
        <p:spPr>
          <a:xfrm>
            <a:off x="33480" y="1600200"/>
            <a:ext cx="38271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1d2e"/>
                </a:solidFill>
                <a:latin typeface="Arial"/>
              </a:rPr>
              <a:t>«Феномен вторых классов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d2e"/>
                </a:solidFill>
                <a:latin typeface="Verdana"/>
              </a:rPr>
              <a:t>Самооценка в учебной деятельности резко снижает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d2e"/>
                </a:solidFill>
                <a:latin typeface="Verdana"/>
              </a:rPr>
              <a:t>В 3 классах вновь повышает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Нужно помнить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Важны РЕАЛЬНЫЕ знания, а не отметк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Важно трудолюбие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Важно упорство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Важна ответственностть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Важна потребность в получении знани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d2e"/>
                </a:solidFill>
                <a:latin typeface="Verdana"/>
              </a:rPr>
              <a:t>Все познавательные процессы  становятся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d2e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1d2e"/>
                </a:solidFill>
                <a:latin typeface="Verdana"/>
              </a:rPr>
              <a:t>произвольными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d2e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1d2e"/>
                </a:solidFill>
                <a:latin typeface="Verdana"/>
              </a:rPr>
              <a:t>продуктивными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d2e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1d2e"/>
                </a:solidFill>
                <a:latin typeface="Verdana"/>
              </a:rPr>
              <a:t>устойчивыми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Verdana"/>
              </a:rPr>
              <a:t>Ведущая деятельность</a:t>
            </a: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 в это время – </a:t>
            </a:r>
            <a:r>
              <a:rPr b="0" i="1" lang="ru-RU" sz="4000" spc="-1" strike="noStrike">
                <a:solidFill>
                  <a:srgbClr val="002060"/>
                </a:solidFill>
                <a:latin typeface="Verdana"/>
              </a:rPr>
              <a:t>учебная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2060"/>
                </a:solidFill>
                <a:uFillTx/>
                <a:latin typeface="Verdana"/>
              </a:rPr>
              <a:t>Задача родителей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создать условия для того, чтобы в домашней трудовой деятельности находили отражение, применялись те знания, умения и навыки, которые приобретаются в школе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2060"/>
                </a:solidFill>
                <a:uFillTx/>
                <a:latin typeface="Verdana"/>
              </a:rPr>
              <a:t>Доминирует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наглядно-действенно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наглядно-образное мышлени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2060"/>
                </a:solidFill>
                <a:uFillTx/>
                <a:latin typeface="Verdana"/>
              </a:rPr>
              <a:t>Развиваются</a:t>
            </a: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 все логические операции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  </a:t>
            </a: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сравнение, обобщение, анализ, синтез</a:t>
            </a:r>
            <a:r>
              <a:rPr b="0" lang="ru-RU" sz="32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Verdana"/>
              </a:rPr>
              <a:t>Абстрактное мышлени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2060"/>
                </a:solidFill>
                <a:uFillTx/>
                <a:latin typeface="Verdana"/>
              </a:rPr>
              <a:t>развито слабо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Verdana"/>
              </a:rPr>
              <a:t>Ребенок в этом возрасте во всем ориентируется на оценку взрослого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Verdana"/>
              </a:rPr>
              <a:t>Ребенок</a:t>
            </a:r>
            <a:r>
              <a:rPr b="0" i="1" lang="ru-RU" sz="3600" spc="-1" strike="noStrike">
                <a:solidFill>
                  <a:srgbClr val="002060"/>
                </a:solidFill>
                <a:latin typeface="Verdana"/>
              </a:rPr>
              <a:t> воспринимает школьную оценку как оценку всего себя как личности или как отношение к себе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8-11-22T00:15:02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