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3E4-E0B3-4436-8D28-9DA10C02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1E1-6D00-4D54-BD3D-986E0AE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056-B141-42E7-B24D-A01BA795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FDD-2280-4A55-A526-A95169A3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CE9-2CB3-4DDA-9149-E88D5CA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AFE-C47F-422C-A33D-6D15794E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80D-D8D8-421B-81BF-AE5E0998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FA9-5B9C-47EA-9545-D1CB3ABF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658-37F8-4B45-8583-5490020B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06F-B916-4707-8B2D-92D54AE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3CA-7548-4701-AC81-F6B5F55D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147-3C0A-4468-9427-5C8CD74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185D-2D80-4AC5-A9CF-9E44F2D11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e-art.ru/" TargetMode="External"/><Relationship Id="rId3" Type="http://schemas.openxmlformats.org/officeDocument/2006/relationships/hyperlink" Target="http://see-art.ru/" TargetMode="External"/><Relationship Id="rId4" Type="http://schemas.openxmlformats.org/officeDocument/2006/relationships/hyperlink" Target="http://www.hrono.ru/biograf/bio_a/aivazovski_ik.php" TargetMode="External"/><Relationship Id="rId5" Type="http://schemas.openxmlformats.org/officeDocument/2006/relationships/hyperlink" Target="http://aivazovsky.narod.ru/analyse2.htm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«Родившись смертным, он оставил о себе бессмертную память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З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4 г.Балти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ти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43200" y="1219320"/>
            <a:ext cx="640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йвазовский И. К. (1817 - 1900) - известный русский художник. Окончил Академию Художеств в 1843 г. В 1847 г. получил звание профессора живописи. Считается одним из лучших художников-маринистов. В 1874г. во Флоренции была устроена выставка произведений Айвазовского, доставившая ему мировую извес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441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5181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 (Ованес) Константинович Айвазовский родился в Феодосии 17 июля 1817 года в семье армянского негоцианта. Уже в раннем детстве проявились художественные способности мальчика, особенно любившего изображать корабли, море. Талант юного рисовальщика привлек внимание городского архитектора Коха, который помог определить его в Симферопольскую гимназию (1830), а затем в Петербургскую Академию художеств (1833) в класс пейзажиста М. Н. Воробь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647800" cy="3504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4876920"/>
            <a:ext cx="36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ртрет И.К.Айвазов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ы С.А.Рымаренко. 184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"Девятый вал" (185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 ныне, океан, я жажду бурь твоих 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лнуйся, восставай на каменные гран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веселит меня, твой грозный, дикий рев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зов давно желанной бран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мощного врага мне чем-то лестный гнев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ратынский Е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533412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Чесменский бой" (184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й изображен в ночное время. В глубине бухты видны горящие корабли турецкого флота, один из них - в момент взрыва. Охваченные огнем и дымом, в воздух летят обломки корабля, превратившегося в огромный пылающий костер. А сбоку, на переднем плане, темным силуэтом высится флагман русского флота, к которому, салютуя, подходит шлюпка с командой лейтенанта Ильина, взорвавшего свой брандер среди турецкой флотилии. А если подойти ближе к картине, мы различим на воде обломки турецких судов с группами матросов, взывающих о помощ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368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Радуга" (1873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.М. Достоевский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Буря...  Айвазовского... изумительно хороша, как все его бури, и здесь он мастер - без соперников... В его буре есть упоение, есть та вечная красота, которая поражает зрителя в живой, настоящей буре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6708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Среди волн" (1898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стерство картины "Среди волн" - плод долгого и упорного труда всей жизни художника. Работа над ней протекала у него быстро и легко. Послушная руке художника кисть лепила именно ту форму, какую хотел художник, и клала краску на холст так, как это подсказывал ему опыт мастерства и чутье большого художника, не исправлявшего раз положенного маз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54864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0" y="457200"/>
            <a:ext cx="4114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йвазовский отдал много сил благоустройству Феодосии. Его усилиями в городе были сооружены Археологический музей, школа, клуб; в 1880 году открылась картинная галерея. В ней и в мастерской живописца много полезного для себя получили Л. Лагорио, А. Куинджи, К. Богаевский, М. Волошин и другие. После смерти Айвазовского картинная галерея по завещанию перешла в собственность города. Ныне здесь крупнейшее собрание картин мас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45039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работе использованы материалы сай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see-art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hrono.ru/biograf/bio_a/aivazovski_ik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ivazovsky.narod.ru/analyse2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10T14:05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