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2A5-D7B6-4114-95D6-673F9769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D465-6FB2-40EF-A3BC-10C4F4BF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F468-E8D5-495A-8FED-A008C63E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81C4-7DBE-451C-A189-CD115476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1DF-7C4B-490F-8150-AAA831B6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7522-E25C-4AC2-A4C3-F79B0D56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642E-7D45-4AEF-8844-737005BE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916E-FCF8-4ABB-A015-4719E19C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103F-B5AD-4E15-88CA-B80510D1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34EE-62EA-4B33-97F9-930E51C5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8EF1-5A33-4EDE-B540-86E9AFCB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6B1B-BA2A-464B-94C8-AA54C6CA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48FF-C485-4320-ADDA-9A4670404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ee-art.ru/" TargetMode="External"/><Relationship Id="rId3" Type="http://schemas.openxmlformats.org/officeDocument/2006/relationships/hyperlink" Target="http://see-art.ru/" TargetMode="External"/><Relationship Id="rId4" Type="http://schemas.openxmlformats.org/officeDocument/2006/relationships/hyperlink" Target="http://www.hrono.ru/biograf/bio_a/aivazovski_ik.php" TargetMode="External"/><Relationship Id="rId5" Type="http://schemas.openxmlformats.org/officeDocument/2006/relationships/hyperlink" Target="http://aivazovsky.narod.ru/analyse2.htm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«Родившись смертным, он оставил о себе бессмертную память»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ИЗ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СОШ №4 г.Балтий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тикова И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743200" y="1219320"/>
            <a:ext cx="640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йвазовский И. К. (1817 - 1900) - известный русский художник. Окончил Академию Художеств в 1843 г. В 1847 г. получил звание профессора живописи. Считается одним из лучших художников-маринистов. В 1874г. во Флоренции была устроена выставка произведений Айвазовского, доставившая ему мировую извест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2441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5181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н (Ованес) Константинович Айвазовский родился в Феодосии 17 июля 1817 года в семье армянского негоцианта. Уже в раннем детстве проявились художественные способности мальчика, особенно любившего изображать корабли, море. Талант юного рисовальщика привлек внимание городского архитектора Коха, который помог определить его в Симферопольскую гимназию (1830), а затем в Петербургскую Академию художеств (1833) в класс пейзажиста М. Н. Воробье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791320" y="762120"/>
            <a:ext cx="2647800" cy="3504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57800" y="4876920"/>
            <a:ext cx="36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ртрет И.К.Айвазов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боты С.А.Рымаренко. 184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"Девятый вал" (1850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к ныне, океан, я жажду бурь твоих 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лнуйся, восставай на каменные грани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н веселит меня, твой грозный, дикий рев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 зов давно желанной брани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 мощного врага мне чем-то лестный гнев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аратынский Е.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657600" y="1752480"/>
            <a:ext cx="5334120" cy="41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Чесменский бой" (1848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ой изображен в ночное время. В глубине бухты видны горящие корабли турецкого флота, один из них - в момент взрыва. Охваченные огнем и дымом, в воздух летят обломки корабля, превратившегося в огромный пылающий костер. А сбоку, на переднем плане, темным силуэтом высится флагман русского флота, к которому, салютуя, подходит шлюпка с командой лейтенанта Ильина, взорвавшего свой брандер среди турецкой флотилии. А если подойти ближе к картине, мы различим на воде обломки турецких судов с группами матросов, взывающих о помощ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368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Радуга" (1873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Ф.М. Достоевский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Буря...  Айвазовского... изумительно хороша, как все его бури, и здесь он мастер - без соперников... В его буре есть упоение, есть та вечная красота, которая поражает зрителя в живой, настоящей буре..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26708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Среди волн" (1898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стерство картины "Среди волн" - плод долгого и упорного труда всей жизни художника. Работа над ней протекала у него быстро и легко. Послушная руке художника кисть лепила именно ту форму, какую хотел художник, и клала краску на холст так, как это подсказывал ему опыт мастерства и чутье большого художника, не исправлявшего раз положенного маз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54864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029200" y="457200"/>
            <a:ext cx="4114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йвазовский отдал много сил благоустройству Феодосии. Его усилиями в городе были сооружены Археологический музей, школа, клуб; в 1880 году открылась картинная галерея. В ней и в мастерской живописца много полезного для себя получили Л. Лагорио, А. Куинджи, К. Богаевский, М. Волошин и другие. После смерти Айвазовского картинная галерея по завещанию перешла в собственность города. Ныне здесь крупнейшее собрание картин мас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45039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работе использованы материалы сайт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see-art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hrono.ru/biograf/bio_a/aivazovski_ik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aivazovsky.narod.ru/analyse2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3-10T14:05:5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