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FAA-5615-47DE-8879-CC7C77F0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80F-1FA7-4402-B0A3-A42BA417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9C4-74A9-49E3-8718-9A368024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C93-0603-472E-8083-BE179A84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038-4152-448F-BE81-53174A25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0B3-4BEC-4408-8609-2BD2AFFC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C35-E9D4-4A8D-B776-523F208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95F-9110-4BA3-92B6-53F5B1E3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E02-CC45-4CDD-A03D-4109BFA0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A39-1D69-4C86-AD60-02F292AE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3DE-A000-4946-BB4F-A30B000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0ED-4ADC-49BA-A59D-F7E6F5B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E176-76E3-4D13-9DAE-9A2786E4E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ымковская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бары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620640"/>
            <a:ext cx="8136000" cy="568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65320" y="12600"/>
            <a:ext cx="3213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16080" y="19080"/>
            <a:ext cx="31118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29040" y="25560"/>
            <a:ext cx="308592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22560" y="25560"/>
            <a:ext cx="30988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22560" y="12600"/>
            <a:ext cx="30988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35160" y="6480"/>
            <a:ext cx="30736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65320" y="12600"/>
            <a:ext cx="3213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7:30:58Z</dcterms:modified>
  <cp:revision>13</cp:revision>
  <dc:subject/>
  <dc:title>Слайд 1</dc:title>
</cp:coreProperties>
</file>