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8FF-C0FE-420F-8AF7-648DB787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8056-98BC-4484-B5DD-DB111031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B26D-DE2D-4D13-980B-1DF6696E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43D4-F7D2-4763-A35B-6973C7B1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2D28-393E-44D6-BBE2-FD9B31D0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513E-B2E6-4E50-911D-22238F6B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EA19-CFB4-4F3A-B85E-F0FBFD93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DF3B-FCBC-4ED9-A3E7-8BD646CF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7B84-BA82-46A6-AEBC-0A189210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0E52-2A4F-4C06-A506-20D941B5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31C6-18E8-4AA3-892C-70C1B8D4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8394-9640-4101-A091-ECEC4714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ACDD-A4B8-4355-8D9A-83150B50F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Дымковская </a:t>
            </a:r>
            <a:br>
              <a:rPr sz="6000"/>
            </a:b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барын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620640"/>
            <a:ext cx="8136000" cy="5688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65320" y="12600"/>
            <a:ext cx="321336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16080" y="19080"/>
            <a:ext cx="31118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29040" y="25560"/>
            <a:ext cx="3085920" cy="68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22560" y="25560"/>
            <a:ext cx="3098880" cy="68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22560" y="12600"/>
            <a:ext cx="309888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35160" y="6480"/>
            <a:ext cx="307368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65320" y="12600"/>
            <a:ext cx="321336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Галина</cp:lastModifiedBy>
  <dcterms:modified xsi:type="dcterms:W3CDTF">2011-11-06T17:30:58Z</dcterms:modified>
  <cp:revision>13</cp:revision>
  <dc:subject/>
  <dc:title>Слайд 1</dc:title>
</cp:coreProperties>
</file>