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7CD-B97E-47D8-A263-8BD79800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76F-918C-45B2-BC9F-4BF047C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669-9EB8-4B6B-9E2E-01535ED0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2B6-5CFA-4C34-847E-6C6DDF8D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08D-47AA-4FB2-953B-CB49C602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8C8-6AEB-4A0D-B36A-49F49F6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78D-5511-4C5D-90EF-B5CA853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2BF-401A-4412-A7C0-93FBC5C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9E4-7A1D-4929-9947-8BD51C4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051-57E6-4051-9644-9E4DAB3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039-FB68-460B-94CB-B7F129F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174-6071-41D0-8271-D5335B0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4014-51B3-4ACD-9AAA-EF3F4E92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72360" y="3141720"/>
            <a:ext cx="27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67280" y="1273320"/>
            <a:ext cx="32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51640" y="3195720"/>
            <a:ext cx="34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51181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-14292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00720" y="-50760"/>
            <a:ext cx="2843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2T13:12:50Z</dcterms:modified>
  <cp:revision>12</cp:revision>
  <dc:subject/>
  <dc:title>Слайд 1</dc:title>
</cp:coreProperties>
</file>