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E3A-736E-4BBE-87D5-CC93E22E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294-3B17-4F7C-A758-387CAFC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275-437A-4917-B63B-4F11F9AF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B74-80FA-480B-8880-6DBBD114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C25-4D0B-46AC-A90D-7A918B25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51D-7F84-4C49-A3B7-0C2F5EB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DAC-3F81-440A-B9BC-662BB17E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569-2646-4440-9C49-7F7AAB8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69D-C647-4FF6-B256-2B2F6FD7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35D-1736-4BEC-B427-9AE34ED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75B-2028-4EC8-8FE1-18F6A045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E7B-1A3D-480B-85C6-5F787F8B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2AB-B367-4326-BC46-92C75CC89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ой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-142920"/>
            <a:ext cx="6248520" cy="7143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72360" y="3141720"/>
            <a:ext cx="27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годня игрушки покрывают темперными белилами в два-три слоя, а для росписи применяются темперные краски и мягкие колонковые кисти. Завершают украшение игрушки ромбики из потали или сусального золота, наклеенные поверх у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6 из 2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-316080"/>
            <a:ext cx="570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9560" y="-209520"/>
            <a:ext cx="592488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90720" y="-243000"/>
            <a:ext cx="53625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66760" y="0"/>
            <a:ext cx="5169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0600" y="-142920"/>
            <a:ext cx="4762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1320" y="-142920"/>
            <a:ext cx="45813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34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57440" y="6308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ымковская слободка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6360" y="-100080"/>
            <a:ext cx="5911560" cy="723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67280" y="1273320"/>
            <a:ext cx="32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" y="-103320"/>
            <a:ext cx="5505480" cy="727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08720" y="5589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080" y="-247680"/>
            <a:ext cx="5533920" cy="72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51640" y="3195720"/>
            <a:ext cx="34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51181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-142920"/>
            <a:ext cx="631512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00720" y="-50760"/>
            <a:ext cx="28432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Но сколько их вариантов знали мастериц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2T13:12:50Z</dcterms:modified>
  <cp:revision>12</cp:revision>
  <dc:subject/>
  <dc:title>Слайд 1</dc:title>
</cp:coreProperties>
</file>