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7DD3-C623-4276-9247-2321AA3C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F45B-AF4F-4A90-BA5F-269FBECA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8EED-07E5-47ED-A642-DAAEA104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6B3D-43D8-4302-9A63-30DB2BF2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5172-333E-4F2E-B1DC-769B3331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6D73-E718-44AD-A179-5A0E48B4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1821-D020-4BC1-9D45-BEC279DB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FB3D-8ABE-4BDA-9D1C-5C5F91DA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447C-FED7-4C60-8D9A-00C3F2F9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E6E-D742-49B9-BFE2-7BF287B4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FF4-EE77-437F-94A2-F843BFA9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A5E5-3814-4BB5-A0EF-121AD63C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B979-D84B-4A4B-8D05-E086290A7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Изготовление 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филимоновской 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свистуль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333360"/>
            <a:ext cx="8207280" cy="6191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0920" y="19080"/>
            <a:ext cx="50421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39840" y="6480"/>
            <a:ext cx="486432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39840" y="6480"/>
            <a:ext cx="486432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46320" y="12600"/>
            <a:ext cx="48513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39840" y="19080"/>
            <a:ext cx="48643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43280" y="12600"/>
            <a:ext cx="5257800" cy="6832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2720" y="981000"/>
            <a:ext cx="519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В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А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Р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И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А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Н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36800" y="12600"/>
            <a:ext cx="52704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62000" y="19080"/>
            <a:ext cx="5220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62000" y="12600"/>
            <a:ext cx="52200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55880" y="12600"/>
            <a:ext cx="52322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480" y="11160"/>
            <a:ext cx="8964360" cy="6838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8000" y="5445000"/>
            <a:ext cx="902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ку разминают, как тесто, пока о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станет податливой и "послушной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игрушка лепится из цельного куска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целое искусство 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чувствовать пропорции и форму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пка - настоящая "гимнастика дл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озга". Глина из деревни Филимоно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невато-серого цвета, посл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жиг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новится бел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43280" y="12600"/>
            <a:ext cx="52578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15840"/>
            <a:ext cx="8785440" cy="6826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61722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только кажется, что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се просто и быстро, 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самом дел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изготовление игруш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 иногда уходит по неск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ько ча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19080"/>
            <a:ext cx="8496000" cy="6819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6237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 помощью дер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янной спицы и ножа из обычной фигурки делают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вистуль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15840"/>
            <a:ext cx="8353440" cy="6826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616572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тобы правильно сдела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надрез, нужно трен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ваться. Но можно попробовать и новичку - в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можно, руки сами 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м подскаж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30240"/>
            <a:ext cx="8496000" cy="6797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627280" y="596916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бокам делают дополнительные отверстия для того, чтобы свистулька издавала разные звуки и можно было играть мелод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2240" y="-22320"/>
            <a:ext cx="8713800" cy="6846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589752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олько что слепленная игрушка сохнет до 12 часов. Сырая игрушка свистит редко - для этого нужно делать фигурку с душой и любовью. В руках мастера игрушка заливается веселой тре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69138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Филимоновская 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игрушка</a:t>
            </a:r>
            <a:br>
              <a:rPr sz="6000"/>
            </a:b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роспись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19280" y="3789360"/>
            <a:ext cx="1866960" cy="2617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932360" y="3789360"/>
            <a:ext cx="20750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39840" y="19080"/>
            <a:ext cx="4864320" cy="6819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2720" y="981000"/>
            <a:ext cx="519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В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А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Р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И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А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Н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Галина</cp:lastModifiedBy>
  <dcterms:modified xsi:type="dcterms:W3CDTF">2011-11-06T16:54:19Z</dcterms:modified>
  <cp:revision>20</cp:revision>
  <dc:subject/>
  <dc:title>Слайд 1</dc:title>
</cp:coreProperties>
</file>