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0C0F-5676-4E7F-9A23-0AF9AB0D6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2F7C-EA36-41D5-96E9-9E25FDAF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5441-09CD-4D9A-9748-90A701E13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229F-2A57-40D9-B892-1F6D5EA31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A747-DC8A-4699-A559-9411D266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700D-5240-4BF4-875E-BC3A7851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D595-18CD-43B4-AC68-9C61641A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0CD9-A6C8-4B4B-9A7E-152BCD3A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EC9A-C1CD-4F23-9AA7-16B1EF2D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FDB3-BCD5-4EEF-A7CD-A2662D88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6CF6-1652-4E99-A9C1-F5FBEBC9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2D0E-210D-46CA-957F-DD803C2D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A439-73A6-4B37-B043-F35E57EA1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Изготовление </a:t>
            </a:r>
            <a:br>
              <a:rPr sz="6000"/>
            </a:b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филимоновской </a:t>
            </a:r>
            <a:br>
              <a:rPr sz="6000"/>
            </a:b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свистуль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333360"/>
            <a:ext cx="8207280" cy="6191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0920" y="19080"/>
            <a:ext cx="504216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39840" y="6480"/>
            <a:ext cx="486432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39840" y="6480"/>
            <a:ext cx="486432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46320" y="12600"/>
            <a:ext cx="485136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39840" y="19080"/>
            <a:ext cx="48643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43280" y="12600"/>
            <a:ext cx="5257800" cy="6832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2720" y="981000"/>
            <a:ext cx="519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В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А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Р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И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А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Н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36800" y="12600"/>
            <a:ext cx="527040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62000" y="19080"/>
            <a:ext cx="5220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62000" y="12600"/>
            <a:ext cx="522000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55880" y="12600"/>
            <a:ext cx="523224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480" y="11160"/>
            <a:ext cx="8964360" cy="6838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8000" y="5445000"/>
            <a:ext cx="9028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л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ку разминают, как тесто, пока о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станет податливой и "послушной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игрушка лепится из цельного куска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 целое искусство 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чувствовать пропорции и форму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пка - настоящая "гимнастика дл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мозга". Глина из деревни Филимонов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невато-серого цвета, посл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жиг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новится бел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43280" y="12600"/>
            <a:ext cx="525780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15840"/>
            <a:ext cx="8785440" cy="6826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42920" y="61722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о только кажется, что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се просто и быстро, н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самом деле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 изготовление игрушк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 иногда уходит по неск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ько ча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19080"/>
            <a:ext cx="8496000" cy="6819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5280" y="6237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 помощью дер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янной спицы и ножа из обычной фигурки делают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вистуль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15840"/>
            <a:ext cx="8353440" cy="6826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68360" y="616572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Чтобы правильно сделат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надрез, нужно трен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оваться. Но можно попробовать и новичку - в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можно, руки сами 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м подскаж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30240"/>
            <a:ext cx="8496000" cy="6797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627280" y="5969160"/>
            <a:ext cx="60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 бокам делают дополнительные отверстия для того, чтобы свистулька издавала разные звуки и можно было играть мелод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2240" y="-22320"/>
            <a:ext cx="8713800" cy="6846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4000" y="589752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олько что слепленная игрушка сохнет до 12 часов. Сырая игрушка свистит редко - для этого нужно делать фигурку с душой и любовью. В руках мастера игрушка заливается веселой трел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6920" y="404280"/>
            <a:ext cx="69138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Филимоновская </a:t>
            </a:r>
            <a:br>
              <a:rPr sz="6000"/>
            </a:b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игрушка</a:t>
            </a:r>
            <a:br>
              <a:rPr sz="6000"/>
            </a:b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роспись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19280" y="3789360"/>
            <a:ext cx="1866960" cy="2617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932360" y="3789360"/>
            <a:ext cx="207504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39840" y="19080"/>
            <a:ext cx="4864320" cy="6819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12720" y="981000"/>
            <a:ext cx="519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В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А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Р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И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А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Н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7:36:00Z</dcterms:created>
  <dc:creator>sk</dc:creator>
  <dc:description/>
  <dc:language>en-US</dc:language>
  <cp:lastModifiedBy>Галина</cp:lastModifiedBy>
  <dcterms:modified xsi:type="dcterms:W3CDTF">2011-11-06T16:54:19Z</dcterms:modified>
  <cp:revision>20</cp:revision>
  <dc:subject/>
  <dc:title>Слайд 1</dc:title>
</cp:coreProperties>
</file>