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FC1-80BE-4A1C-8781-62DB57F8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397-C0B3-4097-8B97-4FA9F3FB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E4A-82E0-4507-8FD2-46D4CAB0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4E5-9069-49B3-8126-A22CAF71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B7D-BA9E-47ED-AD18-74345EC2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550-4F84-4B29-B514-F47D2658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4F65-A8B7-40F8-AC06-DCCE50DE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3A5-751E-4334-98A5-017A089E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080-B0C3-424C-B1B2-A25EFE5D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225-EFC9-4993-A87B-99A613F4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E3B-6CD6-4341-8795-D878119C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2D5-17BD-4F30-8B3F-413FB1D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F062-FA6C-4BFC-AE82-ED89722B2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Дымковский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генера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1341360"/>
            <a:ext cx="5904000" cy="40323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8280" y="12600"/>
            <a:ext cx="31874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22560" y="6480"/>
            <a:ext cx="309888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78280" y="6480"/>
            <a:ext cx="318744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90880" y="12600"/>
            <a:ext cx="31622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90880" y="12600"/>
            <a:ext cx="31622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84400" y="6480"/>
            <a:ext cx="31752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84400" y="19080"/>
            <a:ext cx="31752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78280" y="12600"/>
            <a:ext cx="31874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Галина</cp:lastModifiedBy>
  <dcterms:modified xsi:type="dcterms:W3CDTF">2011-11-06T17:39:24Z</dcterms:modified>
  <cp:revision>14</cp:revision>
  <dc:subject/>
  <dc:title>Слайд 1</dc:title>
</cp:coreProperties>
</file>