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44E-37A1-4F26-8AE4-FBE09109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606-AD26-4BC4-80B4-AA36633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D3C-DD2F-4D2D-ACEB-D047D6EC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5F1-FBD2-4722-B69D-26435C33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0B5-D4EE-47B4-8BAC-3C31EF30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2B1-D64F-4A6F-8977-6B6126FE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F3F-466D-41EB-95EA-F24A07DB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831-42E8-4856-A278-8ACF8341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18D-1B58-4929-93BF-2C440952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9F8-74B4-4B26-A29C-9A873F23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A15-C4D3-4360-908B-F3536349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49A-CDF3-4975-BF1C-952DE84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125-054F-4DB5-984A-65B52E2A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ымковски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генер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1341360"/>
            <a:ext cx="5904000" cy="4032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8280" y="12600"/>
            <a:ext cx="3187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22560" y="6480"/>
            <a:ext cx="30988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8280" y="6480"/>
            <a:ext cx="31874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90880" y="12600"/>
            <a:ext cx="31622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90880" y="12600"/>
            <a:ext cx="31622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4400" y="6480"/>
            <a:ext cx="31752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4400" y="19080"/>
            <a:ext cx="31752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8280" y="12600"/>
            <a:ext cx="3187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39:24Z</dcterms:modified>
  <cp:revision>14</cp:revision>
  <dc:subject/>
  <dc:title>Слайд 1</dc:title>
</cp:coreProperties>
</file>