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2C46-60A6-48F3-BA03-E52A833D1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1DDE-26C7-4DE6-90BB-064805DCB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3D49-BCE4-4E71-8FEC-CEE39B63D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23DA-9AA4-43AC-AEE2-D41CBC307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5CA0-CFD3-42C4-933D-F6C18B8AA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9D10-054A-49E2-8663-48B07A207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546F-AB81-4268-83E6-5ACB3A5F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8E9F-3566-4765-8575-E5202374D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591A-45B2-4CEE-86BE-B8C410659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5445-83A3-4B89-96E3-92923E39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2138-D04A-4E18-97AC-6C1B8828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F234-5CD3-474A-B624-E1B41542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B0F2D-7203-46EB-B326-D9803C231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333399"/>
                </a:solidFill>
                <a:latin typeface="Arial"/>
              </a:rPr>
              <a:t>Городецкая роспис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406600" y="19080"/>
            <a:ext cx="4330800" cy="6819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94360" y="801720"/>
            <a:ext cx="5464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В</a:t>
            </a:r>
            <a:br>
              <a:rPr sz="4000"/>
            </a:b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А</a:t>
            </a:r>
            <a:br>
              <a:rPr sz="4000"/>
            </a:b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Р</a:t>
            </a:r>
            <a:br>
              <a:rPr sz="4000"/>
            </a:b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И</a:t>
            </a:r>
            <a:br>
              <a:rPr sz="4000"/>
            </a:b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А</a:t>
            </a:r>
            <a:br>
              <a:rPr sz="4000"/>
            </a:b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Н</a:t>
            </a:r>
            <a:br>
              <a:rPr sz="4000"/>
            </a:b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387520" y="12600"/>
            <a:ext cx="436896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381400" y="12600"/>
            <a:ext cx="438120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400480" y="12600"/>
            <a:ext cx="434340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394000" y="12600"/>
            <a:ext cx="435600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381400" y="12600"/>
            <a:ext cx="438120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413080" y="12600"/>
            <a:ext cx="431784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406600" y="19080"/>
            <a:ext cx="433080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381400" y="12600"/>
            <a:ext cx="4381200" cy="68328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94360" y="801720"/>
            <a:ext cx="5464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В</a:t>
            </a:r>
            <a:br>
              <a:rPr sz="4000"/>
            </a:b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А</a:t>
            </a:r>
            <a:br>
              <a:rPr sz="4000"/>
            </a:b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Р</a:t>
            </a:r>
            <a:br>
              <a:rPr sz="4000"/>
            </a:b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И</a:t>
            </a:r>
            <a:br>
              <a:rPr sz="4000"/>
            </a:b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А</a:t>
            </a:r>
            <a:br>
              <a:rPr sz="4000"/>
            </a:b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Н</a:t>
            </a:r>
            <a:br>
              <a:rPr sz="4000"/>
            </a:b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2394000" y="19080"/>
            <a:ext cx="435600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374920" y="6480"/>
            <a:ext cx="4394160" cy="6845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94360" y="801720"/>
            <a:ext cx="5464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В</a:t>
            </a:r>
            <a:br>
              <a:rPr sz="4000"/>
            </a:b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А</a:t>
            </a:r>
            <a:br>
              <a:rPr sz="4000"/>
            </a:b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Р</a:t>
            </a:r>
            <a:br>
              <a:rPr sz="4000"/>
            </a:b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И</a:t>
            </a:r>
            <a:br>
              <a:rPr sz="4000"/>
            </a:b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А</a:t>
            </a:r>
            <a:br>
              <a:rPr sz="4000"/>
            </a:b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Н</a:t>
            </a:r>
            <a:br>
              <a:rPr sz="4000"/>
            </a:b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400480" y="19080"/>
            <a:ext cx="434340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400480" y="19080"/>
            <a:ext cx="434340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406600" y="19080"/>
            <a:ext cx="433080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419200" y="19080"/>
            <a:ext cx="430560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13080" y="19080"/>
            <a:ext cx="431784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381400" y="12600"/>
            <a:ext cx="438120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381400" y="12600"/>
            <a:ext cx="438120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355840" y="12600"/>
            <a:ext cx="443232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374920" y="12600"/>
            <a:ext cx="439416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381400" y="6480"/>
            <a:ext cx="4381200" cy="68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381400" y="12600"/>
            <a:ext cx="438120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387520" y="6480"/>
            <a:ext cx="4368960" cy="68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368440" y="6480"/>
            <a:ext cx="4407120" cy="68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374920" y="6480"/>
            <a:ext cx="4394160" cy="68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07:36:00Z</dcterms:created>
  <dc:creator>sk</dc:creator>
  <dc:description/>
  <dc:language>en-US</dc:language>
  <cp:lastModifiedBy>Галина</cp:lastModifiedBy>
  <dcterms:modified xsi:type="dcterms:W3CDTF">2011-11-06T16:37:57Z</dcterms:modified>
  <cp:revision>10</cp:revision>
  <dc:subject/>
  <dc:title>Слайд 1</dc:title>
</cp:coreProperties>
</file>