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6F7-9DE3-4726-93B3-8B4B13A0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8E7-2F24-4343-98A0-7C261EC0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C19-4229-4F63-9BB0-5267B194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19D-5038-44A2-B829-841B965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87C-C845-4EC1-8376-709EE465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3A6-D9C3-4E04-91F3-B8CE39D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1C3-C52B-4DFB-99EE-5B1B748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26A-4AC6-4B69-B5E7-3B99454C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34F-8B5E-4D1E-95DE-E4A45FB5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4EE-071A-4402-A0AA-C1245B3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885-2BA7-428E-A821-BAC85FD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E64-D26E-4F90-959C-8D8725C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5BAE-7618-4F78-8685-7017284F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Городецкая роспис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87520" y="12600"/>
            <a:ext cx="43689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00480" y="12600"/>
            <a:ext cx="43434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94000" y="12600"/>
            <a:ext cx="4356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3080" y="12600"/>
            <a:ext cx="43178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394000" y="19080"/>
            <a:ext cx="4356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" y="801720"/>
            <a:ext cx="54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00480" y="19080"/>
            <a:ext cx="4343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00480" y="19080"/>
            <a:ext cx="4343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06600" y="19080"/>
            <a:ext cx="4330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9200" y="19080"/>
            <a:ext cx="4305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3080" y="19080"/>
            <a:ext cx="4317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55840" y="12600"/>
            <a:ext cx="4432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4920" y="12600"/>
            <a:ext cx="43941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81400" y="6480"/>
            <a:ext cx="4381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81400" y="12600"/>
            <a:ext cx="43812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87520" y="6480"/>
            <a:ext cx="43689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8440" y="6480"/>
            <a:ext cx="44071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4920" y="6480"/>
            <a:ext cx="4394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37:57Z</dcterms:modified>
  <cp:revision>10</cp:revision>
  <dc:subject/>
  <dc:title>Слайд 1</dc:title>
</cp:coreProperties>
</file>