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C185D-D3D6-45AE-B0F0-442F9F9983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81553-12EC-4A7E-917B-4FA387BD36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EC08-1B04-4EEB-8D11-A2C097CB2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3309-DCD4-4D9A-8D95-97BADCB7D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CFFF-C62C-47B9-9EE7-A7A103E63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414E-1822-496C-BA55-685DBC889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595D-865E-424E-8935-7B130A9B0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6537-6F93-49DB-AA86-340316FB8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6952-EB71-46C1-9D87-F66AB5110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4559-16E0-42C7-9F53-E595B5580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9FD3-A3F6-4C33-BEAA-C61C94046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1A7C-2BCC-4BB4-A7E6-0F1266FE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7C02-E726-4BD4-AA0C-54127AF1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D0F3-4F0C-48AF-81DF-1D175CF5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bb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FDE87-E75B-44EF-A10E-2062F445112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ryltat.ru/dosug/d_17_5.jpg" TargetMode="External"/><Relationship Id="rId2" Type="http://schemas.openxmlformats.org/officeDocument/2006/relationships/hyperlink" Target="http://stranamasterov.ru/files/imagecache/orig_with_logo4/i2011/03/24/img_3176.jpg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bb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71280" y="6237000"/>
            <a:ext cx="7777080" cy="52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Мартынюк Юлия Владимировна, воспитатель  ГОУ СО для детей–сиро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5"/>
          <p:cNvSpPr/>
          <p:nvPr/>
        </p:nvSpPr>
        <p:spPr>
          <a:xfrm>
            <a:off x="2000160" y="5357880"/>
            <a:ext cx="542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Занятие для детей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 12-16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Прямоугольник 6" descr=""/>
          <p:cNvPicPr/>
          <p:nvPr/>
        </p:nvPicPr>
        <p:blipFill>
          <a:blip r:embed="rId1"/>
          <a:stretch/>
        </p:blipFill>
        <p:spPr>
          <a:xfrm>
            <a:off x="420840" y="334800"/>
            <a:ext cx="8302320" cy="5102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Users\Мила\Desktop\d_17_5.jpg"/>
          <p:cNvPicPr/>
          <p:nvPr/>
        </p:nvPicPr>
        <p:blipFill>
          <a:blip r:embed="rId2"/>
          <a:stretch/>
        </p:blipFill>
        <p:spPr>
          <a:xfrm>
            <a:off x="2928960" y="1143000"/>
            <a:ext cx="3292560" cy="4108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bb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  <a:ea typeface="Times New Roman"/>
              </a:rPr>
              <a:t>Изготовление поделки: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Рисунок 4" descr="Рисунок8.jpg"/>
          <p:cNvPicPr/>
          <p:nvPr/>
        </p:nvPicPr>
        <p:blipFill>
          <a:blip r:embed="rId1"/>
          <a:stretch/>
        </p:blipFill>
        <p:spPr>
          <a:xfrm>
            <a:off x="2357280" y="1071720"/>
            <a:ext cx="4294440" cy="385740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4"/>
          <p:cNvSpPr/>
          <p:nvPr/>
        </p:nvSpPr>
        <p:spPr>
          <a:xfrm>
            <a:off x="357120" y="5072040"/>
            <a:ext cx="8429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Лепим основу кофточки, приклеиваем рукава, наносим рисунок ребром линейки. Прикрепляем карманы и пугов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bb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Содержимое 5" descr="Рисунок9.jpg"/>
          <p:cNvPicPr/>
          <p:nvPr/>
        </p:nvPicPr>
        <p:blipFill>
          <a:blip r:embed="rId1"/>
          <a:stretch/>
        </p:blipFill>
        <p:spPr>
          <a:xfrm>
            <a:off x="2714760" y="28584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3"/>
          <p:cNvSpPr/>
          <p:nvPr/>
        </p:nvSpPr>
        <p:spPr>
          <a:xfrm>
            <a:off x="214200" y="4857840"/>
            <a:ext cx="8715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Накладываем на кофту рюшечку. В углубление вставляем головку овальной формы, не забывая смачивать места соединений. Прикрепляем большой круглый нос, глаза и шапоч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bb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Содержимое 5" descr="Рисунок10.jpg"/>
          <p:cNvPicPr/>
          <p:nvPr/>
        </p:nvPicPr>
        <p:blipFill>
          <a:blip r:embed="rId1"/>
          <a:stretch/>
        </p:blipFill>
        <p:spPr>
          <a:xfrm>
            <a:off x="2714760" y="285840"/>
            <a:ext cx="3666960" cy="488304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4"/>
          <p:cNvSpPr/>
          <p:nvPr/>
        </p:nvSpPr>
        <p:spPr>
          <a:xfrm>
            <a:off x="214200" y="5286240"/>
            <a:ext cx="8643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Лепим уши и ноги. Вырезаем волосы и ладошки. Добавляем несколько различных шариков для жонгл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bb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142920" y="428400"/>
            <a:ext cx="878688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  <a:ea typeface="Times New Roman"/>
              </a:rPr>
              <a:t>Сушка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Прежде, чем поставить изделие в печь, его нужно подсушить несколько дней в теплом месте или на батаре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На противень стелем фольгу и смачиваем ее водой. На фольгу выкладываем издел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Объемные изделия сушим и запекаем в печи 1-2 часа при температуре 75 </a:t>
            </a:r>
            <a:r>
              <a:rPr b="1" lang="en-US" sz="2800" spc="-1" strike="noStrike" baseline="30000">
                <a:solidFill>
                  <a:srgbClr val="002060"/>
                </a:solidFill>
                <a:latin typeface="Calibri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bb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"/>
          <p:cNvSpPr/>
          <p:nvPr/>
        </p:nvSpPr>
        <p:spPr>
          <a:xfrm>
            <a:off x="214200" y="214200"/>
            <a:ext cx="87156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Разукрашиваем поделку гуаш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Приклеиваем изделие клеем на рам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C:\Users\Мила\Desktop\d_17_5.jpg"/>
          <p:cNvPicPr/>
          <p:nvPr/>
        </p:nvPicPr>
        <p:blipFill>
          <a:blip r:embed="rId1"/>
          <a:stretch/>
        </p:blipFill>
        <p:spPr>
          <a:xfrm>
            <a:off x="2643120" y="928800"/>
            <a:ext cx="372132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bb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  <a:ea typeface="Times New Roman"/>
              </a:rPr>
              <a:t>Информационные источник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85480" y="785880"/>
            <a:ext cx="8715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Хананова Ирина Николаевна</a:t>
            </a:r>
            <a:r>
              <a:rPr b="0" lang="en-US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Соленое тесто. - Москва: АСТ-ПРЕСС КНИГА, 2010. - 104с: ил. - (Золотая библиотека увлечений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Слайды 1, 14 .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"/>
              </a:rPr>
              <a:t>http://www.ryltat.ru/dosug/d_17_5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libri"/>
                <a:ea typeface="Times New Roman"/>
              </a:rPr>
              <a:t>Слайд 2.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2"/>
              </a:rPr>
              <a:t>http://stranamasterov.ru/files/imagecache/orig_with_logo4/i2011/03/24/img_3176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libri"/>
                <a:ea typeface="Times New Roman"/>
              </a:rPr>
              <a:t>Слайд 3.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stranamasterov.ru/files/imagecache/orig_with_logo/i2011/03/20/p1011155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libri"/>
                <a:ea typeface="Times New Roman"/>
              </a:rPr>
              <a:t>Слайд 4.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stranamasterov.ru/files/imagecache/orig_with_logo/i1008/P1140469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libri"/>
                <a:ea typeface="Times New Roman"/>
              </a:rPr>
              <a:t>Слайд 5. </a:t>
            </a:r>
            <a:r>
              <a:rPr b="0" lang="en-US" sz="1600" spc="-1" strike="noStrike">
                <a:solidFill>
                  <a:srgbClr val="002060"/>
                </a:solidFill>
                <a:latin typeface="Calibri"/>
                <a:ea typeface="Times New Roman"/>
              </a:rPr>
              <a:t>http://stranamasterov.ru/files/imagecache/orig_with_logo/i1003/DSC06285_1_0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libri"/>
                <a:ea typeface="Times New Roman"/>
              </a:rPr>
              <a:t>Слайд 6.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stranamasterov.ru/files/imagecache/orig_with_logo/i0912/IMG_2866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libri"/>
                <a:ea typeface="Times New Roman"/>
              </a:rPr>
              <a:t>Слайд  8-12. фото из личного архи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bb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Calibri"/>
                <a:ea typeface="Times New Roman"/>
              </a:rPr>
              <a:t>Из истории о соленом тест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42920" y="1285560"/>
            <a:ext cx="4643280" cy="53816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2f2"/>
                </a:solidFill>
                <a:latin typeface="Calibri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С давних пор выпекали из теста не только хлеб, но и декоративные изделия. Изготовление теста из муки, соли и воды является старинным обычаем и применялось для выполнения фигурок из народных сказани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214960" y="6215040"/>
            <a:ext cx="3024000" cy="41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«Домовенок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6" descr="Рисунок11.jpg"/>
          <p:cNvPicPr/>
          <p:nvPr/>
        </p:nvPicPr>
        <p:blipFill>
          <a:blip r:embed="rId1"/>
          <a:stretch/>
        </p:blipFill>
        <p:spPr>
          <a:xfrm>
            <a:off x="5076720" y="1773360"/>
            <a:ext cx="3333960" cy="44416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bb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928440" y="5500800"/>
            <a:ext cx="248436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«Скоро Пасха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00360" y="928800"/>
            <a:ext cx="41749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2f2"/>
                </a:solidFill>
                <a:latin typeface="Calibri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В Германии и Скандинавии издавна было принято изготовлять пасхальные и рождественские сувениры из соленого тес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5" descr="Рисунок12.jpg"/>
          <p:cNvPicPr/>
          <p:nvPr/>
        </p:nvPicPr>
        <p:blipFill>
          <a:blip r:embed="rId1"/>
          <a:stretch/>
        </p:blipFill>
        <p:spPr>
          <a:xfrm>
            <a:off x="500040" y="857160"/>
            <a:ext cx="3467160" cy="4610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bb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28760" y="5714640"/>
            <a:ext cx="378936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«Лето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00360" y="2060640"/>
            <a:ext cx="39589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2f2"/>
                </a:solidFill>
                <a:latin typeface="Calibri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В странах Восточной Европы популярны большие картины из тес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684360" y="6381720"/>
            <a:ext cx="37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6" descr="Рисунок1.jpg"/>
          <p:cNvPicPr/>
          <p:nvPr/>
        </p:nvPicPr>
        <p:blipFill>
          <a:blip r:embed="rId1"/>
          <a:stretch/>
        </p:blipFill>
        <p:spPr>
          <a:xfrm>
            <a:off x="714240" y="1143000"/>
            <a:ext cx="3513240" cy="4591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bb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42960" y="5857920"/>
            <a:ext cx="3789360" cy="45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«Чаепити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214960" y="1928520"/>
            <a:ext cx="360504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У славянских народов такие картины не раскрашивались и имели обычный для выпечки цвет, что считалось особенно привлекательны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5" descr="Рисунок2.jpg"/>
          <p:cNvPicPr/>
          <p:nvPr/>
        </p:nvPicPr>
        <p:blipFill>
          <a:blip r:embed="rId1"/>
          <a:stretch/>
        </p:blipFill>
        <p:spPr>
          <a:xfrm>
            <a:off x="250920" y="1268280"/>
            <a:ext cx="4591080" cy="4591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bb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99680" y="5857920"/>
            <a:ext cx="352908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«Дедушка Мороз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214520" y="285840"/>
            <a:ext cx="475452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2f2"/>
                </a:solidFill>
                <a:latin typeface="Calibri"/>
                <a:ea typeface="Times New Roman"/>
              </a:rPr>
              <a:t>    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На Руси фигурки из этого материала дарили на новый год в знак благополучия, плодородия, сытости. А украшали их росписью,  характерной для той местности, где жили наши предки. Считалось, что любая поделка из соленого теста, находящаяся в доме, - символ богатства и благополучия в семь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7" descr="http://stranamasterov.ru/files/imagecache/orig_with_logo/i0912/IMG_2866.jpg"/>
          <p:cNvPicPr/>
          <p:nvPr/>
        </p:nvPicPr>
        <p:blipFill>
          <a:blip r:embed="rId1"/>
          <a:stretch/>
        </p:blipFill>
        <p:spPr>
          <a:xfrm>
            <a:off x="357120" y="500040"/>
            <a:ext cx="3963960" cy="52862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bb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  <a:ea typeface="Arial"/>
              </a:rPr>
              <a:t>Практическое занят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840" y="1071720"/>
            <a:ext cx="4497480" cy="47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Инструменты и материал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5840" y="1071360"/>
            <a:ext cx="4041720" cy="5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Правила при работ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786200" y="1571400"/>
            <a:ext cx="41846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Делай поделку красиво и качественн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Осторожно пользуйся инструмента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Содержи в порядке рабочее мест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Экономь материал и врем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Сделал поделку, убери рабочее мест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Содержимое 10" descr="Рисунок13.jpg"/>
          <p:cNvPicPr/>
          <p:nvPr/>
        </p:nvPicPr>
        <p:blipFill>
          <a:blip r:embed="rId1"/>
          <a:stretch/>
        </p:blipFill>
        <p:spPr>
          <a:xfrm>
            <a:off x="214200" y="2000160"/>
            <a:ext cx="4552920" cy="30384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>
    <p:newsflash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bb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Замес тес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14"/>
          <p:cNvSpPr/>
          <p:nvPr/>
        </p:nvSpPr>
        <p:spPr>
          <a:xfrm>
            <a:off x="214200" y="4429080"/>
            <a:ext cx="4143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Перед началом работы необходимо замесить тесто. Это лучше всего сделать в глубокой емк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4643280" y="4429080"/>
            <a:ext cx="41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В воду с растворенной в ней солью постепенно добавляем му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6" descr="Рисунок3.jpg"/>
          <p:cNvPicPr/>
          <p:nvPr/>
        </p:nvPicPr>
        <p:blipFill>
          <a:blip r:embed="rId1"/>
          <a:stretch/>
        </p:blipFill>
        <p:spPr>
          <a:xfrm>
            <a:off x="179280" y="1268280"/>
            <a:ext cx="4214880" cy="315936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7" descr="Рисунок4.jpg"/>
          <p:cNvPicPr/>
          <p:nvPr/>
        </p:nvPicPr>
        <p:blipFill>
          <a:blip r:embed="rId2"/>
          <a:stretch/>
        </p:blipFill>
        <p:spPr>
          <a:xfrm>
            <a:off x="4643280" y="1268280"/>
            <a:ext cx="4203720" cy="3156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bb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10"/>
          <p:cNvSpPr/>
          <p:nvPr/>
        </p:nvSpPr>
        <p:spPr>
          <a:xfrm>
            <a:off x="285840" y="214200"/>
            <a:ext cx="8572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Затем продолжаем вымешивать тесто на столе, не забывая посыпать поверхность стола мукой.  Это делается для того чтобы тесто не прилипало. Оно должно получится довольно крутым,  однородным и эластичн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6" descr="Рисунок6.jpg"/>
          <p:cNvPicPr/>
          <p:nvPr/>
        </p:nvPicPr>
        <p:blipFill>
          <a:blip r:embed="rId1"/>
          <a:stretch/>
        </p:blipFill>
        <p:spPr>
          <a:xfrm>
            <a:off x="1928880" y="2571840"/>
            <a:ext cx="5232240" cy="3929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0T13:06:08Z</dcterms:created>
  <dc:creator>Admin</dc:creator>
  <dc:description/>
  <dc:language>en-US</dc:language>
  <cp:lastModifiedBy>Галина</cp:lastModifiedBy>
  <dcterms:modified xsi:type="dcterms:W3CDTF">2011-11-08T18:51:34Z</dcterms:modified>
  <cp:revision>110</cp:revision>
  <dc:subject/>
  <dc:title>Слайд 1</dc:title>
</cp:coreProperties>
</file>