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750-7876-40B1-AA0F-F73AFCAD4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9EB-92DA-47D2-8815-07F27FEBF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867-10C9-4AC7-8AE9-FD6221EF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0EA-44B7-49DA-A859-C34E6F3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B98-BE73-4C91-9301-CA09FACC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60D-BEC5-4B06-8EB9-B40E3FA8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4D6-596A-468B-9758-A0E1A6C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D1F-CBC0-4088-9818-15C1AC63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484-CFDD-41D1-955C-3CB509F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F11-BE99-4D39-9BF7-4DC8710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91A-BE9B-40EC-B48B-AF917B21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1B6-6A95-440E-99B3-ECB0648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417-DE35-49A4-A7DD-0E484F6D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4DB-E102-4B66-B854-DA52A56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B25-AB4B-4D5B-B0A8-01841D808F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yltat.ru/dosug/d_17_5.jpg" TargetMode="External"/><Relationship Id="rId2" Type="http://schemas.openxmlformats.org/officeDocument/2006/relationships/hyperlink" Target="http://stranamasterov.ru/files/imagecache/orig_with_logo4/i2011/03/24/img_3176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280" y="6237000"/>
            <a:ext cx="777708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Мартынюк Юлия Владимировна, воспитатель  ГОУ СО для детей–си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000160" y="535788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нятие для детей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12-16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1"/>
          <a:stretch/>
        </p:blipFill>
        <p:spPr>
          <a:xfrm>
            <a:off x="420840" y="334800"/>
            <a:ext cx="8302320" cy="510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Мила\Desktop\d_17_5.jpg"/>
          <p:cNvPicPr/>
          <p:nvPr/>
        </p:nvPicPr>
        <p:blipFill>
          <a:blip r:embed="rId2"/>
          <a:stretch/>
        </p:blipFill>
        <p:spPr>
          <a:xfrm>
            <a:off x="2928960" y="1143000"/>
            <a:ext cx="3292560" cy="41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готовление поделки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Рисунок8.jpg"/>
          <p:cNvPicPr/>
          <p:nvPr/>
        </p:nvPicPr>
        <p:blipFill>
          <a:blip r:embed="rId1"/>
          <a:stretch/>
        </p:blipFill>
        <p:spPr>
          <a:xfrm>
            <a:off x="2357280" y="1071720"/>
            <a:ext cx="429444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357120" y="5072040"/>
            <a:ext cx="84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Лепим основу кофточки, приклеиваем рукава, наносим рисунок ребром линейки. Прикрепляем карманы и пуг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5" descr="Рисунок9.jpg"/>
          <p:cNvPicPr/>
          <p:nvPr/>
        </p:nvPicPr>
        <p:blipFill>
          <a:blip r:embed="rId1"/>
          <a:stretch/>
        </p:blipFill>
        <p:spPr>
          <a:xfrm>
            <a:off x="2714760" y="28584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214200" y="485784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кладываем на кофту рюшечку. В углубление вставляем головку овальной формы, не забывая смачивать места соединений. Прикрепляем большой круглый нос, глаза и шап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5" descr="Рисунок10.jpg"/>
          <p:cNvPicPr/>
          <p:nvPr/>
        </p:nvPicPr>
        <p:blipFill>
          <a:blip r:embed="rId1"/>
          <a:stretch/>
        </p:blipFill>
        <p:spPr>
          <a:xfrm>
            <a:off x="2714760" y="285840"/>
            <a:ext cx="3666960" cy="48830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14200" y="52862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Лепим уши и ноги. Вырезаем волосы и ладошки. Добавляем несколько различных шариков для жонг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2920" y="42840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Сушк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жде, чем поставить изделие в печь, его нужно подсушить несколько дней в теплом месте или на батар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 противень стелем фольгу и смачиваем ее водой. На фольгу выкладываем издел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ъемные изделия сушим и запекаем в печи 1-2 часа при температуре 75 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4200" y="21420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зукрашиваем поделку гуа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иклеиваем изделие клеем на рам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Мила\Desktop\d_17_5.jpg"/>
          <p:cNvPicPr/>
          <p:nvPr/>
        </p:nvPicPr>
        <p:blipFill>
          <a:blip r:embed="rId1"/>
          <a:stretch/>
        </p:blipFill>
        <p:spPr>
          <a:xfrm>
            <a:off x="2643120" y="928800"/>
            <a:ext cx="3721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формационные источн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480" y="78588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Хананова Ирина Николаевна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леное тесто. - Москва: АСТ-ПРЕСС КНИГА, 2010. - 104с: ил. - (Золотая библиотека увлечен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ы 1, 14 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ryltat.ru/dosug/d_17_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2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stranamasterov.ru/files/imagecache/orig_with_logo4/i2011/03/24/img_317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3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tranamasterov.ru/files/imagecache/orig_with_logo/i2011/03/20/p101115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4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tranamasterov.ru/files/imagecache/orig_with_logo/i1008/P1140469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5.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http://stranamasterov.ru/files/imagecache/orig_with_logo/i1003/DSC06285_1_0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6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tranamasterov.ru/files/imagecache/orig_with_logo/i0912/IMG_286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 8-12. фото из личного арх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 истории о соленом те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920" y="1285560"/>
            <a:ext cx="4643280" cy="5381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 давних пор выпекали из теста не только хлеб, но и декоративные изделия. Изготовление теста из муки, соли и воды является старинным обычаем и применялось для выполнения фигурок из народных сказ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14960" y="6215040"/>
            <a:ext cx="30240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Домов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Рисунок11.jpg"/>
          <p:cNvPicPr/>
          <p:nvPr/>
        </p:nvPicPr>
        <p:blipFill>
          <a:blip r:embed="rId1"/>
          <a:stretch/>
        </p:blipFill>
        <p:spPr>
          <a:xfrm>
            <a:off x="5076720" y="1773360"/>
            <a:ext cx="3333960" cy="4441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28440" y="5500800"/>
            <a:ext cx="2484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Скоро Пасх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360" y="928800"/>
            <a:ext cx="4174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Германии и Скандинавии издавна было принято изготовлять пасхальные и рождественские сувениры из соленого т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500040" y="857160"/>
            <a:ext cx="3467160" cy="461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760" y="5714640"/>
            <a:ext cx="3789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Лет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00360" y="2060640"/>
            <a:ext cx="3958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странах Восточной Европы популярны большие картины из т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84360" y="6381720"/>
            <a:ext cx="37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714240" y="1143000"/>
            <a:ext cx="3513240" cy="459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42960" y="5857920"/>
            <a:ext cx="3789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Чаепит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4960" y="1928520"/>
            <a:ext cx="3605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У славянских народов такие картины не раскрашивались и имели обычный для выпечки цвет, что считалось особенно привлекатель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250920" y="1268280"/>
            <a:ext cx="4591080" cy="459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99680" y="5857920"/>
            <a:ext cx="352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Дедушка Мороз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520" y="285840"/>
            <a:ext cx="47545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 Руси фигурки из этого материала дарили на новый год в знак благополучия, плодородия, сытости. А украшали их росписью,  характерной для той местности, где жили наши предки. Считалось, что любая поделка из соленого теста, находящаяся в доме, - символ богатства и благополучия в сем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stranamasterov.ru/files/imagecache/orig_with_logo/i0912/IMG_2866.jpg"/>
          <p:cNvPicPr/>
          <p:nvPr/>
        </p:nvPicPr>
        <p:blipFill>
          <a:blip r:embed="rId1"/>
          <a:stretch/>
        </p:blipFill>
        <p:spPr>
          <a:xfrm>
            <a:off x="357120" y="500040"/>
            <a:ext cx="3963960" cy="528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Практическое заня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4497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Инструменты и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840" y="1071360"/>
            <a:ext cx="404172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Правила при раб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86200" y="1571400"/>
            <a:ext cx="4184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Делай поделку красиво и качеств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Осторожно пользуйся инструмен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Содержи в порядке рабочее ме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Экономь материал и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Сделал поделку, убери рабочее мес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10" descr="Рисунок13.jpg"/>
          <p:cNvPicPr/>
          <p:nvPr/>
        </p:nvPicPr>
        <p:blipFill>
          <a:blip r:embed="rId1"/>
          <a:stretch/>
        </p:blipFill>
        <p:spPr>
          <a:xfrm>
            <a:off x="214200" y="2000160"/>
            <a:ext cx="4552920" cy="303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Замес те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214200" y="4429080"/>
            <a:ext cx="41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еред началом работы необходимо замесить тесто. Это лучше всего сделать в глубокой ем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4643280" y="44290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воду с растворенной в ней солью постепенно добавляем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Рисунок3.jpg"/>
          <p:cNvPicPr/>
          <p:nvPr/>
        </p:nvPicPr>
        <p:blipFill>
          <a:blip r:embed="rId1"/>
          <a:stretch/>
        </p:blipFill>
        <p:spPr>
          <a:xfrm>
            <a:off x="179280" y="1268280"/>
            <a:ext cx="4214880" cy="3159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Рисунок4.jpg"/>
          <p:cNvPicPr/>
          <p:nvPr/>
        </p:nvPicPr>
        <p:blipFill>
          <a:blip r:embed="rId2"/>
          <a:stretch/>
        </p:blipFill>
        <p:spPr>
          <a:xfrm>
            <a:off x="4643280" y="1268280"/>
            <a:ext cx="4203720" cy="315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0"/>
          <p:cNvSpPr/>
          <p:nvPr/>
        </p:nvSpPr>
        <p:spPr>
          <a:xfrm>
            <a:off x="285840" y="21420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Затем продолжаем вымешивать тесто на столе, не забывая посыпать поверхность стола мукой.  Это делается для того чтобы тесто не прилипало. Оно должно получится довольно крутым,  однородным и элас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Рисунок6.jpg"/>
          <p:cNvPicPr/>
          <p:nvPr/>
        </p:nvPicPr>
        <p:blipFill>
          <a:blip r:embed="rId1"/>
          <a:stretch/>
        </p:blipFill>
        <p:spPr>
          <a:xfrm>
            <a:off x="1928880" y="2571840"/>
            <a:ext cx="5232240" cy="39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3:06:08Z</dcterms:created>
  <dc:creator>Admin</dc:creator>
  <dc:description/>
  <dc:language>en-US</dc:language>
  <cp:lastModifiedBy>Галина</cp:lastModifiedBy>
  <dcterms:modified xsi:type="dcterms:W3CDTF">2011-11-08T18:51:34Z</dcterms:modified>
  <cp:revision>110</cp:revision>
  <dc:subject/>
  <dc:title>Слайд 1</dc:title>
</cp:coreProperties>
</file>