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0EC-BF1F-4EF5-9512-6360E04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CFD-3316-43E2-993C-259DA071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04E-EA87-436A-846D-655B7FB3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879-45C8-4B25-B94D-76CD6C12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ADD-5FC3-4FF3-9BF9-017FFCFC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362-F70B-422A-87E8-9793A06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9AB-FB1F-43E8-B2C2-E2047ACC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170-CAB8-4ED1-91FE-A49F4FE2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575-F5A8-4EAE-B30F-C6F901F7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519-448C-48A8-B37B-9B726C6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49D-C5B8-4FBF-A5C0-D879FB1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131-0082-4F44-AC93-2644945E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B184-61EC-464A-AB1C-29957718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7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Каргопольски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крестьян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2127240" cy="435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219708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360" y="2205000"/>
            <a:ext cx="2124360" cy="446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70280" y="25560"/>
            <a:ext cx="340344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63800" y="19080"/>
            <a:ext cx="3416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7680" y="19080"/>
            <a:ext cx="3429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6240" y="12600"/>
            <a:ext cx="32515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01960" y="12600"/>
            <a:ext cx="3340080" cy="683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96920" y="75564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08440" y="19080"/>
            <a:ext cx="3327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08440" y="19080"/>
            <a:ext cx="3327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8440" y="19080"/>
            <a:ext cx="3327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01960" y="12600"/>
            <a:ext cx="33400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12600"/>
            <a:ext cx="3353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01960" y="12600"/>
            <a:ext cx="33400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46240" y="12600"/>
            <a:ext cx="3251520" cy="683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6920" y="75564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25:44Z</dcterms:modified>
  <cp:revision>11</cp:revision>
  <dc:subject/>
  <dc:title>Слайд 1</dc:title>
</cp:coreProperties>
</file>