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7AF-0D84-448A-9090-D9F754D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A17-B49A-423A-B838-7B8958F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87D-245F-4320-B37B-9D09BBE5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352-3303-4824-98DE-DAB46EBE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6F9-1092-4EBA-8267-96EA3AA1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548-C454-421A-8D53-C5ED7747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553-1FA4-47B4-BF39-D1069FC5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1E5-8B5A-4B87-9761-6DCABF5E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443-8DC9-4BE7-AB63-88714451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059-C460-4C10-A1B4-46C894E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C89-F267-4596-9C39-1DD4FFA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3BF-9ADA-4008-BECE-13B00C7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14D-7E93-4860-89E0-32409A678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7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Каргопольски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крестьян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2127240" cy="435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219708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360" y="2205000"/>
            <a:ext cx="2124360" cy="446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70280" y="25560"/>
            <a:ext cx="340344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63800" y="19080"/>
            <a:ext cx="34164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7680" y="19080"/>
            <a:ext cx="3429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46240" y="12600"/>
            <a:ext cx="32515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01960" y="12600"/>
            <a:ext cx="3340080" cy="683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96920" y="75564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08440" y="19080"/>
            <a:ext cx="3327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08440" y="19080"/>
            <a:ext cx="3327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8440" y="19080"/>
            <a:ext cx="3327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01960" y="12600"/>
            <a:ext cx="33400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12600"/>
            <a:ext cx="3353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01960" y="12600"/>
            <a:ext cx="33400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46240" y="12600"/>
            <a:ext cx="3251520" cy="6832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6920" y="755640"/>
            <a:ext cx="519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В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И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А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25:44Z</dcterms:modified>
  <cp:revision>11</cp:revision>
  <dc:subject/>
  <dc:title>Слайд 1</dc:title>
</cp:coreProperties>
</file>