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4DFFF-3EBE-4C42-A817-2192EE9A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FE22E-D7B3-477A-BF82-ABF5D9D4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648FA-B24C-4CDF-8955-5CF5813B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F73C3-68C0-4CA8-B446-A9DE205D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21C2-EE11-4EB9-9FA4-FF853AF6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B984-4CB7-42B3-8054-4A3B8A66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BDC5-BFBF-42EA-8FAA-9AAF6774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CC4C-6710-4531-AF6D-0175EDF6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D1D6-83A2-472A-A962-7FC5BA9A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7FC5-5F89-454F-BEF3-B4CADE30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A1E0-68B1-4E45-9695-809EADDC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6BBE0-4281-47E8-9722-2D4E919F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C0A9-0D3A-41D4-9875-47C25365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89DA-125D-4BCE-81E9-02C62612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6FD1-3B0C-4E6B-8722-EAB227B4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91DD-CF8E-4F1C-9833-CECE4E8A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759E-F0B8-49D5-9D72-71B84F71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3C934-AFA3-401D-823D-42698304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948AC-3EEA-405F-9016-B333FE02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C1AE3-D5BB-4A9D-A83A-416B82CD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EB1AC-8227-457B-92E5-AD05237A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D066C-0E05-4E8B-8E99-2FF79780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837A2-96BE-44F4-8E1E-2EEA8327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B9922-EDF5-443B-859B-866509B1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5E51-AC84-48B5-BC48-8BDC0599E4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63E9-32CC-400D-ACCF-A13A761381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1. </a:t>
            </a: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Передо мною поле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На нем изображу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И дом, и пароходик,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И все что захочу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8739" t="0" r="15143" b="10000"/>
          <a:stretch/>
        </p:blipFill>
        <p:spPr>
          <a:xfrm>
            <a:off x="684360" y="2060640"/>
            <a:ext cx="7318080" cy="3627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    у    м     а    г     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2. Я и туча, и туман,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И ручей, и океан,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И летаю, и бегу,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И стеклянной быть могу!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     у     м    а    г     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   о    д     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9131" t="0" r="16071" b="11683"/>
          <a:stretch/>
        </p:blipFill>
        <p:spPr>
          <a:xfrm>
            <a:off x="1258920" y="2060640"/>
            <a:ext cx="698508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3. Свои косички без опаски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Они обмакивают в краски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Потом окрашенной косичкой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В альбоме водят по страничке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     у    м    а    г    а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   о     д    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 и     с    т    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9179" t="0" r="18970" b="16340"/>
          <a:stretch/>
        </p:blipFill>
        <p:spPr>
          <a:xfrm>
            <a:off x="1258920" y="2060640"/>
            <a:ext cx="684216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e5ff"/>
                </a:solidFill>
                <a:latin typeface="Arial"/>
              </a:rPr>
              <a:t>4.  </a:t>
            </a: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Он признался ножу: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- Без работы я лежу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Построгай меня, дружок,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Чтобы я работать мог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507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     у    м    а     г      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  о     д     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и    с     т   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 а     р    а     н    д    а    ш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9179" t="0" r="18970" b="13072"/>
          <a:stretch/>
        </p:blipFill>
        <p:spPr>
          <a:xfrm>
            <a:off x="826920" y="2060640"/>
            <a:ext cx="69120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5. Разноцветные сестрицы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Заскучали без водицы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     у     м     а     г     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   о     д     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и     с     т    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 а     р     а     н     д     а     ш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      к     в     а     р     е     л      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9179" t="0" r="18970" b="16340"/>
          <a:stretch/>
        </p:blipFill>
        <p:spPr>
          <a:xfrm>
            <a:off x="1187280" y="1916280"/>
            <a:ext cx="76345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6. Есть еще другая краска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Хранится в баночке она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Она рисует точно в сказке, 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Вода почти ей не нужна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И натюрморт, портрет, пейзаж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Поможет написать…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     у     м     а     г     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   о     д     а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и     с     т    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 а     р     а     н     д     а     ш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      к     в     а     р     е     л      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г     у      а    ш      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9179" t="0" r="18970" b="16340"/>
          <a:stretch/>
        </p:blipFill>
        <p:spPr>
          <a:xfrm>
            <a:off x="1403280" y="1989000"/>
            <a:ext cx="756144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7. Разноцветные камешки таяли,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На доске следы оставили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6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     у     м     а     г     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   о     д      а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и     с     т    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 а     р      а      н      д      а      ш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      к     в     а     р     е     л      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г     у      а    ш      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    е       л     к     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9179" t="0" r="18970" b="16340"/>
          <a:stretch/>
        </p:blipFill>
        <p:spPr>
          <a:xfrm>
            <a:off x="890640" y="1773360"/>
            <a:ext cx="82533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8. Если ей работу дашь –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    Зря трудился карандаш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      у      м      а      г      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   о     д      а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и     с     т    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 а     р      а      н      д     а     ш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      к     в     а     р     е     л      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г     у      а    ш      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    е       л     к     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     а      с     т      и     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9179" t="0" r="18970" b="16340"/>
          <a:stretch/>
        </p:blipFill>
        <p:spPr>
          <a:xfrm>
            <a:off x="1106640" y="1844640"/>
            <a:ext cx="8037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Какое слово получилось по вертикали?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9179" t="0" r="18970" b="16340"/>
          <a:stretch/>
        </p:blipFill>
        <p:spPr>
          <a:xfrm>
            <a:off x="395280" y="1700280"/>
            <a:ext cx="8229600" cy="4681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1989000"/>
            <a:ext cx="91440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      у      </a:t>
            </a: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м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а      г      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    о     д      </a:t>
            </a: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 и      с     </a:t>
            </a: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т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      а      </a:t>
            </a: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р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а      н      д     а     ш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      к     в     а     р     </a:t>
            </a: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л      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г     у      а    </a:t>
            </a: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ш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    е       л     </a:t>
            </a: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к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л      </a:t>
            </a: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а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с     т      и     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nnabis</cp:lastModifiedBy>
  <dcterms:modified xsi:type="dcterms:W3CDTF">2008-11-18T20:46:41Z</dcterms:modified>
  <cp:revision>2</cp:revision>
  <dc:subject/>
  <dc:title>PowerPoint Presentation</dc:title>
</cp:coreProperties>
</file>