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5F10-1595-4486-B566-416A0444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CFC5-D297-427D-9453-77AFFA92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9ED5-02CE-413B-BA19-628A3B4D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5DAD-07ED-4A46-8130-6A2C31F5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4F27-8662-44D4-A590-22CA0879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AB68-A23E-4145-BCA9-5CDDBBF5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6C31-2949-4D2A-8ED5-2F38BB2B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5AE5-6C12-48B1-BDA0-D5880E3C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F119-931E-4F28-A2F7-22C4901F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92A-FAD9-420E-8FB9-DD0C8C7D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7620-90D9-40AB-8BC4-6C3BDB7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AE0E-6C56-4E62-B9E1-6E3B64F6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BC5E-3001-4010-9421-6A199BD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BA70-1774-4DA7-8CA8-6E0DABB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55D7-45BA-4512-887F-AB4C9EA3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FFC8-054C-46C9-B00D-A7B7E2CD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64D5-6A10-492C-B0FC-F46AC731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D5B7-29EA-450B-810C-3289503D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1EC9-3F0F-4928-90E7-B9F2A5E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39AA-1762-4B60-92A2-885517A9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E111-086A-45EF-AD2C-C29FD8E5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E8EA-F381-430C-9047-B6E12BDF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7A0F-8982-4761-8286-8D802D39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79A5-33FF-457C-A766-465B62C2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B9AF-20EB-4D36-8234-081C52E42F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CBD0-6687-4781-85AF-3FF1E99C2C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Передо мною поле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На нем изображу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дом, и пароходик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все что захочу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8739" t="0" r="15143" b="10000"/>
          <a:stretch/>
        </p:blipFill>
        <p:spPr>
          <a:xfrm>
            <a:off x="684360" y="2060640"/>
            <a:ext cx="7318080" cy="362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у    м     а    г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2. Я и туча, и туман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ручей, и океан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летаю, и бегу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стеклянной быть могу!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 м    а    г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д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9131" t="0" r="16071" b="11683"/>
          <a:stretch/>
        </p:blipFill>
        <p:spPr>
          <a:xfrm>
            <a:off x="1258920" y="2060640"/>
            <a:ext cx="6985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3. Свои косички без опаски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Они обмакивают в краск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Потом окрашенной косичкой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В альбоме водят по страничке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м    а    г    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и     с    т    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1258920" y="2060640"/>
            <a:ext cx="68421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Arial"/>
              </a:rPr>
              <a:t>4. 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н признался ножу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- Без работы я лежу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Построгай меня, дружок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Чтобы я работать мог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507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м    а     г 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о     д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и    с     т   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а     н    д    а    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9179" t="0" r="18970" b="13072"/>
          <a:stretch/>
        </p:blipFill>
        <p:spPr>
          <a:xfrm>
            <a:off x="826920" y="2060640"/>
            <a:ext cx="6912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5. Разноцветные сестрицы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Заскучали без водицы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 м     а     г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и     с     т   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 а     н     д     а     ш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е     л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1187280" y="1916280"/>
            <a:ext cx="76345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6. Есть еще другая краска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Хранится в баночке она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Она рисует точно в сказке,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Вода почти ей не нужна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натюрморт, портрет, пейзаж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Поможет написать…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 м     а     г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 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и     с     т   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 а     н     д     а     ш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е     л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     у      а    ш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1403280" y="1989000"/>
            <a:ext cx="756144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7. Разноцветные камешки таяли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На доске следы оставили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 м     а     г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  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и     с     т   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  а      н      д      а      ш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е     л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     у      а    ш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    е       л     к     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890640" y="1773360"/>
            <a:ext cx="8253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8. Если ей работу дашь –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Зря трудился карандаш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 у      м      а      г 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  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и     с     т   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  а      н      д     а     ш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е     л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     у      а    ш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    е       л     к     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     а      с     т      и     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1106640" y="1844640"/>
            <a:ext cx="803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Какое слово получилось по вертикали?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395280" y="1700280"/>
            <a:ext cx="8229600" cy="4681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1989000"/>
            <a:ext cx="91440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 у 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м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а      г      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 о     д 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и      с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т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 а 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р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а      н      д     а     ш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л      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     у      а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ш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    е       л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 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а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с     т      и     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nnabis</cp:lastModifiedBy>
  <dcterms:modified xsi:type="dcterms:W3CDTF">2008-11-18T20:46:41Z</dcterms:modified>
  <cp:revision>2</cp:revision>
  <dc:subject/>
  <dc:title>PowerPoint Presentation</dc:title>
</cp:coreProperties>
</file>