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F7B-A265-4BA3-A67B-8356A876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DD8-65AC-43DD-ADBF-7AF94021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ABD-4CD8-4AF7-8364-90171C06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D465-6879-44A6-A000-994FB6E7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B1CF-7556-44A3-AE78-F22347D9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EA31-B8CD-4BC1-B954-8129BCAE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9BE0-7B34-45F7-8A54-BE3999E4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81FA-6ACD-4583-A364-8FE9B9D4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47D6-93DA-4B48-BB5E-1A680B0E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1036-F188-4FB6-9DAA-23BEDA90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C6AD-ECA6-4544-8D0A-3125C49E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EDC6-7BA9-4008-84E0-8BE3101A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60F7-31E7-47AB-9C62-29DEBC0B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DE9B-376F-4C4E-BD70-B550C97C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21ED-4B3E-4B68-91B4-0AF52B25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7663-CBC2-4A74-AF02-8F0C339D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EAC0-05E7-4A12-999A-974157BD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078-3213-4331-B3D2-EB3744DD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96F2-EAFC-42D6-AC72-1DA69242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A177-C701-4E1A-B49E-18172FAB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84E-9E54-48C3-A10C-7DFA56EC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16F-FCC7-48E5-9C26-4AE4823B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C06-BF2E-46C7-A094-ACD40802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988E-1FEA-412F-9E45-B560538D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DFBD-5B68-45E2-AC73-08A55788D43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7542-4D05-4138-B90B-4557D893094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Проверим</a:t>
            </a:r>
            <a:r>
              <a:rPr b="1" i="1" lang="ru-RU" sz="4000" spc="-1" strike="noStrike">
                <a:solidFill>
                  <a:srgbClr val="30605a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наши знания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16040" y="1854360"/>
            <a:ext cx="2880000" cy="39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Что стало праобразом русской матрёшки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11280" y="2492280"/>
            <a:ext cx="51660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понская составная ку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rcRect l="5756" t="0" r="0" b="0"/>
          <a:stretch/>
        </p:blipFill>
        <p:spPr>
          <a:xfrm>
            <a:off x="324000" y="1916280"/>
            <a:ext cx="2361960" cy="403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Какое слово лежит в основании названия матрёшка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76720" y="1598760"/>
            <a:ext cx="43732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20685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Используются ли в росписи матрёшек элементы иконописи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987280" y="2492280"/>
            <a:ext cx="46623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230688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Сколько кукол в традиционной матрёшке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132000" y="3141720"/>
            <a:ext cx="451800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 куко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226404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Закрашивают ли фон фартука в семёновской матрёшке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59280" y="2708280"/>
            <a:ext cx="459072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33539" t="0" r="30643" b="0"/>
          <a:stretch/>
        </p:blipFill>
        <p:spPr>
          <a:xfrm>
            <a:off x="324000" y="1413000"/>
            <a:ext cx="20494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Какой цветок обозначает символ материнства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03280" y="2781000"/>
            <a:ext cx="44463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пов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rcRect l="8210" t="0" r="6949" b="0"/>
          <a:stretch/>
        </p:blipFill>
        <p:spPr>
          <a:xfrm>
            <a:off x="539640" y="1989000"/>
            <a:ext cx="2232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Georgia"/>
              </a:rPr>
              <a:t>Молодцы!</a:t>
            </a:r>
            <a:endParaRPr b="0" lang="en-US" sz="48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9640" y="1760400"/>
            <a:ext cx="6840720" cy="45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nnabis</cp:lastModifiedBy>
  <dcterms:modified xsi:type="dcterms:W3CDTF">2008-11-22T09:43:10Z</dcterms:modified>
  <cp:revision>3</cp:revision>
  <dc:subject/>
  <dc:title>PowerPoint Presentation</dc:title>
</cp:coreProperties>
</file>