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C7F-A513-42E6-B72A-A45DBA35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3E1-E3EC-4020-B0AF-E2760FD5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6B5-641E-49F0-B38A-828A9F62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704-CB2F-4A49-AB9A-3F228492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83B1-826A-404F-BDDA-EE75AAB5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87EA-E5F5-4C94-9149-FDF36F3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27A9-5B5E-431A-9774-B239E98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79B3-944D-42DC-9E3C-553CE5D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B4AB-DB86-4967-8C39-135C323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7ED-A173-4D0E-97A6-4C744FF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CF7-4669-4C92-A170-ACFA976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A40-8442-42A6-8567-248C209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A61-40EC-4C69-8C74-00875C0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A59-6340-4D0E-8EB7-E0ADAE3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9116-9945-4DB9-A9EE-3D7E79F6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06EA-C239-4BD3-8D20-EE30F665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F3B4-0A16-46A8-B1CA-81AC24CC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D38-A486-4E28-8B6A-4D0137B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A91-8416-4C23-9200-7993803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0BF-CD07-475C-81B1-442FA8B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BEE-3D91-4269-80EA-25AE148C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F09-F653-4F4E-96B9-20F5497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E52-3D44-41CC-A227-9AF5D5E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FF0-EDC5-4CF2-B1F5-F00179A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B59-3046-492C-9E65-EC5E6297FB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D63-91D8-43BE-86E0-6F17AA74DF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роверим</a:t>
            </a:r>
            <a:r>
              <a:rPr b="1" i="1" lang="ru-RU" sz="4000" spc="-1" strike="noStrike">
                <a:solidFill>
                  <a:srgbClr val="30605a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наши знани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6040" y="1854360"/>
            <a:ext cx="2880000" cy="39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Что стало праобразом русской матрёшк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1280" y="2492280"/>
            <a:ext cx="51660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понская составная ку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5756" t="0" r="0" b="0"/>
          <a:stretch/>
        </p:blipFill>
        <p:spPr>
          <a:xfrm>
            <a:off x="324000" y="1916280"/>
            <a:ext cx="2361960" cy="40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ое слово лежит в основании названия матрёшка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76720" y="1598760"/>
            <a:ext cx="43732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20685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Используются ли в росписи матрёшек элементы иконописи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987280" y="2492280"/>
            <a:ext cx="46623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3068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колько кукол в традиционной матрёшке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32000" y="3141720"/>
            <a:ext cx="45180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кук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2640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Закрашивают ли фон фартука в семёновской матрёшке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59280" y="2708280"/>
            <a:ext cx="4590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33539" t="0" r="30643" b="0"/>
          <a:stretch/>
        </p:blipFill>
        <p:spPr>
          <a:xfrm>
            <a:off x="324000" y="1413000"/>
            <a:ext cx="20494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ой цветок обозначает символ материнства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03280" y="2781000"/>
            <a:ext cx="44463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8210" t="0" r="6949" b="0"/>
          <a:stretch/>
        </p:blipFill>
        <p:spPr>
          <a:xfrm>
            <a:off x="539640" y="1989000"/>
            <a:ext cx="223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Молодцы!</a:t>
            </a:r>
            <a:endParaRPr b="0" lang="en-US" sz="4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60400"/>
            <a:ext cx="6840720" cy="45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nnabis</cp:lastModifiedBy>
  <dcterms:modified xsi:type="dcterms:W3CDTF">2008-11-22T09:43:10Z</dcterms:modified>
  <cp:revision>3</cp:revision>
  <dc:subject/>
  <dc:title>PowerPoint Presentation</dc:title>
</cp:coreProperties>
</file>