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21A-DC20-4734-A86D-560D7EB1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3DA-2A7F-4BA6-9201-04B82DD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057-A0C0-4CC2-8370-E53D406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FD6-6D0F-40EC-A298-F48CAFFB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87D-3FFA-43D7-9DA6-72C691C3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09C3-8485-488A-BADC-CBE38CA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0E5-3606-40CD-9A7B-38D118B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98D-2947-47AC-9AD6-4EF5646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1D71-9226-4C54-86A1-10FB87B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5D37-2460-4A7F-A182-57DF609C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42B-2A3B-4A59-8482-58D2F7F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550-9A13-4349-B6ED-F89F9A6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433-28B5-4985-A5A0-EE4E9BF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211-6E1E-422B-BF0F-976565F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7E4-62D3-4783-9BEC-BCB97A7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344-5F5F-4A40-9FE3-E28245E9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866-05C1-4114-AC00-98D9F692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B80-7A95-4810-A6C1-6B75A79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60C-66C8-4D7F-BA61-3CFEED42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76A-E37D-44F3-9B20-CD6EEF7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079-0426-49A0-80F1-54E6A27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186-90A5-42C3-98F1-85C7E2A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125-33EE-4030-8AF4-7B954830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EB1-C8B2-47B4-AC05-063690C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F7E0-DE98-4CC0-90FD-7B5D56B6C8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7CD-B145-4A40-A759-FE822704E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Arial"/>
              </a:rPr>
              <a:t>Перспекти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Рисунок55"/>
          <p:cNvPicPr/>
          <p:nvPr/>
        </p:nvPicPr>
        <p:blipFill>
          <a:blip r:embed="rId1"/>
          <a:stretch/>
        </p:blipFill>
        <p:spPr>
          <a:xfrm>
            <a:off x="3214800" y="2000160"/>
            <a:ext cx="2741400" cy="309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сунок23"/>
          <p:cNvPicPr/>
          <p:nvPr/>
        </p:nvPicPr>
        <p:blipFill>
          <a:blip r:embed="rId2"/>
          <a:stretch/>
        </p:blipFill>
        <p:spPr>
          <a:xfrm>
            <a:off x="6084720" y="404640"/>
            <a:ext cx="2521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Рисунок23"/>
          <p:cNvPicPr/>
          <p:nvPr/>
        </p:nvPicPr>
        <p:blipFill>
          <a:blip r:embed="rId3"/>
          <a:stretch/>
        </p:blipFill>
        <p:spPr>
          <a:xfrm>
            <a:off x="539640" y="40464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011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4572000" y="590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Любуясь произведениями великих художников, мы часто восклицаем: «Всё изображено, как в действительнос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79280" y="4437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Система знаний, помогающих правильно изображать на плоском листе предметы, находящиеся в пространстве, так, как мы видим их в натуре, носит название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148428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Художники знают секреты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1) Рельсы сходятся в одной точке, хотя мы знаем, что они параллельны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2) Деревья или фигуры людей, стоящие вдали, кажутся нам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3) Постройки или лес вдали мы воспринимаем пло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79640" y="1341360"/>
            <a:ext cx="6984720" cy="5050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Линейная перп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0920" y="692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Линейная перспектив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– это перспектива на вертикальной плоскости, которая является основой построения изображения на листе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79280" y="628560"/>
            <a:ext cx="5472360" cy="5600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726160" y="36450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Что такое точка сх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51640" y="4292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чему деревья, расположенные ближе к нам, более чёткие и яр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51640" y="530064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ак называется такая перспекти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724360" y="907920"/>
            <a:ext cx="32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В начале работы над рисунком надо определить положение гориз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Линия горизонт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всегда лежит на уровне глаз наблюд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Три основных уровня горизо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1"/>
          <p:cNvGrpSpPr/>
          <p:nvPr/>
        </p:nvGrpSpPr>
        <p:grpSpPr>
          <a:xfrm>
            <a:off x="539640" y="3068640"/>
            <a:ext cx="7749000" cy="1224000"/>
            <a:chOff x="539640" y="3068640"/>
            <a:chExt cx="7749000" cy="122400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 rot="10800000">
              <a:off x="539640" y="3068640"/>
              <a:ext cx="2880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3636360" y="3429000"/>
              <a:ext cx="46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на уровне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на линии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468360" y="1125000"/>
            <a:ext cx="8083440" cy="1257480"/>
            <a:chOff x="468360" y="1125000"/>
            <a:chExt cx="8083440" cy="1257480"/>
          </a:xfrm>
        </p:grpSpPr>
        <p:pic>
          <p:nvPicPr>
            <p:cNvPr id="116" name="Picture 4" descr=""/>
            <p:cNvPicPr/>
            <p:nvPr/>
          </p:nvPicPr>
          <p:blipFill>
            <a:blip r:embed="rId2"/>
            <a:stretch/>
          </p:blipFill>
          <p:spPr>
            <a:xfrm rot="10800000">
              <a:off x="468360" y="1124640"/>
              <a:ext cx="29145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564000" y="1197000"/>
              <a:ext cx="498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ниже уровня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выше линии горизонта, поэтому их видно сниз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3"/>
          <p:cNvGrpSpPr/>
          <p:nvPr/>
        </p:nvGrpSpPr>
        <p:grpSpPr>
          <a:xfrm>
            <a:off x="610920" y="4868640"/>
            <a:ext cx="7869600" cy="1199880"/>
            <a:chOff x="610920" y="4868640"/>
            <a:chExt cx="7869600" cy="1199880"/>
          </a:xfrm>
        </p:grpSpPr>
        <p:pic>
          <p:nvPicPr>
            <p:cNvPr id="119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610920" y="4868640"/>
              <a:ext cx="28796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0"/>
            <p:cNvSpPr/>
            <p:nvPr/>
          </p:nvSpPr>
          <p:spPr>
            <a:xfrm>
              <a:off x="3708360" y="5013360"/>
              <a:ext cx="477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выше уровня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ниже линии горизонта, поэтому их видно сверх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4000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240000" cy="256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241128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324000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3108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предели, с какой точки зрения (высокой или низкой) выполнены изображения на карт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775960" y="4149720"/>
            <a:ext cx="269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иже уровня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а уровне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ыше уровня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8:36:28Z</dcterms:created>
  <dc:creator>Comp</dc:creator>
  <dc:description/>
  <dc:language>en-US</dc:language>
  <cp:lastModifiedBy>Дмитрий Каленюк</cp:lastModifiedBy>
  <dcterms:modified xsi:type="dcterms:W3CDTF">2019-11-10T16:46:18Z</dcterms:modified>
  <cp:revision>5</cp:revision>
  <dc:subject/>
  <dc:title>Перспекти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