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3C1-0021-4CD0-B311-01E9A96F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B34-8868-49FE-9933-2757769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E4F-CF14-4428-B2D2-CC536FD5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175-E15D-44DF-9CA6-10DF4320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4CF3-7709-4C40-BA5D-8F65086A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4586-3DEF-4AFC-B1D5-DA1B3A32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D3D0-82FC-45B0-AF71-DC4F6EBC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8DAC-7E97-4535-9A05-859736E7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CF71-C6BA-4525-AC4C-75B17489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F408-9932-4F76-87B4-1D78881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0918-BCFA-41A3-8FD9-9FB4FD6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AC3-FB64-4E0E-AD73-1945BF52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E54C-98B6-45A0-BB9B-D014EB7E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414B-0B0B-4CAD-92CE-387C292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4B37-A53B-4248-92D2-68997AE7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1279-B6FF-463B-BB8B-85F90F8C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88D6-6FA3-429F-9835-8F0C12F2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D6D-E66C-43FB-8B9F-D96F82DB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79D-0394-40AC-AB03-90DA70DA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3D0-3717-4807-8E69-4F400D1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654-214C-42AD-B883-FFCC0BF4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8AE-0254-4D33-A58D-A3D310A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ACC-84D9-4813-B6FE-3FC03E34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136-9676-4375-AE59-39BC64F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C31B-42FA-4D7D-8120-0B53D90778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2F38-9212-44D2-A4EF-3FD6628940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Arial"/>
              </a:rPr>
              <a:t>Перспекти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Рисунок55"/>
          <p:cNvPicPr/>
          <p:nvPr/>
        </p:nvPicPr>
        <p:blipFill>
          <a:blip r:embed="rId1"/>
          <a:stretch/>
        </p:blipFill>
        <p:spPr>
          <a:xfrm>
            <a:off x="3214800" y="2000160"/>
            <a:ext cx="2741400" cy="3097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исунок23"/>
          <p:cNvPicPr/>
          <p:nvPr/>
        </p:nvPicPr>
        <p:blipFill>
          <a:blip r:embed="rId2"/>
          <a:stretch/>
        </p:blipFill>
        <p:spPr>
          <a:xfrm>
            <a:off x="6084720" y="404640"/>
            <a:ext cx="25210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Рисунок23"/>
          <p:cNvPicPr/>
          <p:nvPr/>
        </p:nvPicPr>
        <p:blipFill>
          <a:blip r:embed="rId3"/>
          <a:stretch/>
        </p:blipFill>
        <p:spPr>
          <a:xfrm>
            <a:off x="539640" y="404640"/>
            <a:ext cx="2521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011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4572000" y="5904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Любуясь произведениями великих художников, мы часто восклицаем: «Всё изображено, как в действительност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79280" y="443700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Система знаний, помогающих правильно изображать на плоском листе предметы, находящиеся в пространстве, так, как мы видим их в натуре, носит название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79280" y="1484280"/>
            <a:ext cx="43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Художники знают секреты рис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1) Рельсы сходятся в одной точке, хотя мы знаем, что они параллельны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2) Деревья или фигуры людей, стоящие вдали, кажутся нам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3) Постройки или лес вдали мы воспринимаем плос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079640" y="1341360"/>
            <a:ext cx="6984720" cy="5050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Линейная перп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50920" y="692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Линейная перспектив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– это перспектива на вертикальной плоскости, которая является основой построения изображения на листе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79280" y="628560"/>
            <a:ext cx="5472360" cy="5600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726160" y="364500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Что такое точка сх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51640" y="4292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очему деревья, расположенные ближе к нам, более чёткие и яр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51640" y="530064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Как называется такая перспекти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724360" y="907920"/>
            <a:ext cx="32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В начале работы над рисунком надо определить положение горизо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Линия горизонт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всегда лежит на уровне глаз наблюд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Три основных уровня горизо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1"/>
          <p:cNvGrpSpPr/>
          <p:nvPr/>
        </p:nvGrpSpPr>
        <p:grpSpPr>
          <a:xfrm>
            <a:off x="539640" y="3068640"/>
            <a:ext cx="7749000" cy="1224000"/>
            <a:chOff x="539640" y="3068640"/>
            <a:chExt cx="7749000" cy="122400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 rot="10800000">
              <a:off x="539640" y="3068640"/>
              <a:ext cx="2880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3636360" y="3429000"/>
              <a:ext cx="46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6600ff"/>
                  </a:solidFill>
                  <a:uFillTx/>
                  <a:latin typeface="Arial"/>
                </a:rPr>
                <a:t>Точка зрения на уровне горизон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ff"/>
                  </a:solidFill>
                  <a:latin typeface="Arial"/>
                </a:rPr>
                <a:t>Предметы находятся на линии горизон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2"/>
          <p:cNvGrpSpPr/>
          <p:nvPr/>
        </p:nvGrpSpPr>
        <p:grpSpPr>
          <a:xfrm>
            <a:off x="468360" y="1125000"/>
            <a:ext cx="8083440" cy="1257480"/>
            <a:chOff x="468360" y="1125000"/>
            <a:chExt cx="8083440" cy="1257480"/>
          </a:xfrm>
        </p:grpSpPr>
        <p:pic>
          <p:nvPicPr>
            <p:cNvPr id="116" name="Picture 4" descr=""/>
            <p:cNvPicPr/>
            <p:nvPr/>
          </p:nvPicPr>
          <p:blipFill>
            <a:blip r:embed="rId2"/>
            <a:stretch/>
          </p:blipFill>
          <p:spPr>
            <a:xfrm rot="10800000">
              <a:off x="468360" y="1124640"/>
              <a:ext cx="29145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3564000" y="1197000"/>
              <a:ext cx="498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6600ff"/>
                  </a:solidFill>
                  <a:uFillTx/>
                  <a:latin typeface="Arial"/>
                </a:rPr>
                <a:t>Точка зрения ниже уровня горизон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ff"/>
                  </a:solidFill>
                  <a:latin typeface="Arial"/>
                </a:rPr>
                <a:t>Предметы находятся выше линии горизонта, поэтому их видно сниз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3"/>
          <p:cNvGrpSpPr/>
          <p:nvPr/>
        </p:nvGrpSpPr>
        <p:grpSpPr>
          <a:xfrm>
            <a:off x="610920" y="4868640"/>
            <a:ext cx="7869600" cy="1199880"/>
            <a:chOff x="610920" y="4868640"/>
            <a:chExt cx="7869600" cy="1199880"/>
          </a:xfrm>
        </p:grpSpPr>
        <p:pic>
          <p:nvPicPr>
            <p:cNvPr id="119" name="Picture 7" descr=""/>
            <p:cNvPicPr/>
            <p:nvPr/>
          </p:nvPicPr>
          <p:blipFill>
            <a:blip r:embed="rId3"/>
            <a:stretch/>
          </p:blipFill>
          <p:spPr>
            <a:xfrm rot="10800000">
              <a:off x="610920" y="4868640"/>
              <a:ext cx="28796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0"/>
            <p:cNvSpPr/>
            <p:nvPr/>
          </p:nvSpPr>
          <p:spPr>
            <a:xfrm>
              <a:off x="3708360" y="5013360"/>
              <a:ext cx="477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6600ff"/>
                  </a:solidFill>
                  <a:uFillTx/>
                  <a:latin typeface="Arial"/>
                </a:rPr>
                <a:t>Точка зрения выше уровня горизон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ff"/>
                  </a:solidFill>
                  <a:latin typeface="Arial"/>
                </a:rPr>
                <a:t>Предметы находятся ниже линии горизонта, поэтому их видно сверх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24000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240000" cy="256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395280" y="3933720"/>
            <a:ext cx="2411280" cy="259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5580000" y="3933720"/>
            <a:ext cx="324000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31082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Определи, с какой точки зрения (высокой или низкой) выполнены изображения на карти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775960" y="4149720"/>
            <a:ext cx="269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иже уровня гориз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а уровне гориз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ыше уровня гориз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8:36:28Z</dcterms:created>
  <dc:creator>Comp</dc:creator>
  <dc:description/>
  <dc:language>en-US</dc:language>
  <cp:lastModifiedBy>Дмитрий Каленюк</cp:lastModifiedBy>
  <dcterms:modified xsi:type="dcterms:W3CDTF">2019-11-10T16:46:18Z</dcterms:modified>
  <cp:revision>5</cp:revision>
  <dc:subject/>
  <dc:title>Перспекти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