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CA1-E7B7-43FF-BD38-01390E75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30F-7C50-49FA-810A-05369601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201-2B31-4C5C-82C6-77C79214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C53-C0F3-45CC-B432-48F1B2DE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2074-E2F6-4BA3-8365-0B277A4D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6BA6-B097-431A-8BEC-4381B6FB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9979-0A7E-4B42-8DA9-A615E160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E822-D87F-4BEB-81D7-01C40A25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2D82-76F4-47C7-A4FF-445739F6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FF5C-BEB1-4B82-9835-2E041D25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199F-FE99-466A-BE64-3A88075E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B16-A1BD-4EE0-9A9E-B28AD66F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DB75-AC9B-4124-BA80-C14D5641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D290-0313-45C5-950F-5561952E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58B2-6D00-464C-835E-BEABDABF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2567-BE69-4536-A6B8-9DDE4A0A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143A-A739-41BA-AFB1-1EC2B6A7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B39-1599-4B03-8A53-5D8AF7A0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2B3-37FE-4552-9493-EA051784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860-47C9-409F-9E6D-F24FE67F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55E-5A10-420C-8454-A644FC29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D3C-35E8-4C48-81C8-0458A6AF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01B-F4C7-45D2-82E2-9000FCCF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794-4408-411A-9E8C-AB9D99D3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C03A-C812-4DCE-A791-D8F8083B1CA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0675-7981-4F73-AEED-49B884DDE7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6633"/>
                </a:solidFill>
                <a:uFillTx/>
                <a:latin typeface="Garamond"/>
              </a:rPr>
              <a:t>Тема:</a:t>
            </a:r>
            <a:br>
              <a:rPr sz="4600"/>
            </a:br>
            <a:r>
              <a:rPr b="1" i="1" lang="en-US" sz="4600" spc="-1" strike="noStrike">
                <a:solidFill>
                  <a:srgbClr val="006633"/>
                </a:solidFill>
                <a:latin typeface="Garamond"/>
              </a:rPr>
              <a:t>Жизнь </a:t>
            </a:r>
            <a:br>
              <a:rPr sz="4600"/>
            </a:br>
            <a:r>
              <a:rPr b="1" i="1" lang="en-US" sz="4600" spc="-1" strike="noStrike">
                <a:solidFill>
                  <a:srgbClr val="006633"/>
                </a:solidFill>
                <a:latin typeface="Garamond"/>
              </a:rPr>
              <a:t>первобытных людей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393336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4" descr="164833_pic1"/>
          <p:cNvPicPr/>
          <p:nvPr/>
        </p:nvPicPr>
        <p:blipFill>
          <a:blip r:embed="rId1"/>
          <a:stretch/>
        </p:blipFill>
        <p:spPr>
          <a:xfrm>
            <a:off x="2050920" y="3370320"/>
            <a:ext cx="5078520" cy="348768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5" descr="img003.jpg"/>
          <p:cNvPicPr/>
          <p:nvPr/>
        </p:nvPicPr>
        <p:blipFill>
          <a:blip r:embed="rId2"/>
          <a:srcRect l="-190" t="0" r="3511" b="0"/>
          <a:stretch/>
        </p:blipFill>
        <p:spPr>
          <a:xfrm>
            <a:off x="0" y="0"/>
            <a:ext cx="9144000" cy="3354480"/>
          </a:xfrm>
          <a:prstGeom prst="rect">
            <a:avLst/>
          </a:prstGeom>
          <a:ln w="3240">
            <a:solidFill>
              <a:srgbClr val="000000">
                <a:alpha val="99000"/>
              </a:srgbClr>
            </a:solidFill>
            <a:miter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321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Найдите схо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613080" y="3933720"/>
            <a:ext cx="5267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Человеческое                    стадо 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– древнейший коллектив людей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40720" y="4005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3557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95640" y="3184560"/>
            <a:ext cx="5148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вторим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ревних людей, живших в Юго-Восточной Африке, называли 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ми занятиями первобытных людей были _______________ и 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й огонь древние люди получили 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раст человечества 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лавным отличием древнейших людей от животных было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ревнейшими орудиями труда были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учить записи в тетрад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рисовать в тетради орудия труда первобытных люд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08000" y="476280"/>
            <a:ext cx="471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Первобытные люди 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– первые люди                 на Земле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Xthtg gthdj, xtkf lkz ghtptynfwbq"/>
          <p:cNvPicPr/>
          <p:nvPr/>
        </p:nvPicPr>
        <p:blipFill>
          <a:blip r:embed="rId1"/>
          <a:srcRect l="1286" t="1036" r="1286" b="5823"/>
          <a:stretch/>
        </p:blipFill>
        <p:spPr>
          <a:xfrm>
            <a:off x="0" y="0"/>
            <a:ext cx="306864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5" descr="img003.jpg"/>
          <p:cNvPicPr/>
          <p:nvPr/>
        </p:nvPicPr>
        <p:blipFill>
          <a:blip r:embed="rId2"/>
          <a:srcRect l="-190" t="0" r="3511" b="0"/>
          <a:stretch/>
        </p:blipFill>
        <p:spPr>
          <a:xfrm>
            <a:off x="0" y="3503520"/>
            <a:ext cx="9144000" cy="3354480"/>
          </a:xfrm>
          <a:prstGeom prst="rect">
            <a:avLst/>
          </a:prstGeom>
          <a:ln w="3240">
            <a:solidFill>
              <a:srgbClr val="000000">
                <a:alpha val="99000"/>
              </a:srgbClr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094200" y="2133720"/>
            <a:ext cx="6049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Homo Habili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«человек умелый»</a:t>
            </a:r>
            <a:br>
              <a:rPr sz="2200"/>
            </a:b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Homo erectu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«человек прямоходящий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3" descr="img001.jpg"/>
          <p:cNvPicPr/>
          <p:nvPr/>
        </p:nvPicPr>
        <p:blipFill>
          <a:blip r:embed="rId1"/>
          <a:srcRect l="1074" t="2719" r="0" b="2071"/>
          <a:stretch/>
        </p:blipFill>
        <p:spPr>
          <a:xfrm>
            <a:off x="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200" y="15120"/>
            <a:ext cx="8786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00"/>
              </a:solidFill>
              <a:latin typeface="Georgia"/>
              <a:ea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6357960" y="692280"/>
            <a:ext cx="2786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йшие люди появились                 в Юго-Восточной Африке около                     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2 мл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600 тысяч         лет наз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Занятия первобытных люд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бирательств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хо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5" descr="img003.jpg"/>
          <p:cNvPicPr/>
          <p:nvPr/>
        </p:nvPicPr>
        <p:blipFill>
          <a:blip r:embed="rId1"/>
          <a:srcRect l="-190" t="0" r="3511" b="0"/>
          <a:stretch/>
        </p:blipFill>
        <p:spPr>
          <a:xfrm>
            <a:off x="0" y="1125360"/>
            <a:ext cx="9144000" cy="3354480"/>
          </a:xfrm>
          <a:prstGeom prst="rect">
            <a:avLst/>
          </a:prstGeom>
          <a:ln w="3240">
            <a:solidFill>
              <a:srgbClr val="000000">
                <a:alpha val="9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612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72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550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рудия труда первобытных люд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Содержимое 5" descr="img003.jpg"/>
          <p:cNvPicPr/>
          <p:nvPr/>
        </p:nvPicPr>
        <p:blipFill>
          <a:blip r:embed="rId1"/>
          <a:srcRect l="60424" t="23434" r="15794" b="0"/>
          <a:stretch/>
        </p:blipFill>
        <p:spPr>
          <a:xfrm>
            <a:off x="3419640" y="1557360"/>
            <a:ext cx="2831760" cy="3286080"/>
          </a:xfrm>
          <a:prstGeom prst="rect">
            <a:avLst/>
          </a:prstGeom>
          <a:ln w="3240">
            <a:solidFill>
              <a:srgbClr val="000000">
                <a:alpha val="99000"/>
              </a:srgbClr>
            </a:solidFill>
            <a:miter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447640" cy="33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Админ\Рабочий стол\img004.jpg"/>
          <p:cNvPicPr/>
          <p:nvPr/>
        </p:nvPicPr>
        <p:blipFill>
          <a:blip r:embed="rId3"/>
          <a:stretch/>
        </p:blipFill>
        <p:spPr>
          <a:xfrm>
            <a:off x="6877080" y="1341360"/>
            <a:ext cx="1928880" cy="36734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0" y="537372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55080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Рубило                                              Палка-копалка       </a:t>
            </a:r>
            <a:br>
              <a:rPr sz="2600"/>
            </a:b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                                                                                 Дубина</a:t>
            </a:r>
            <a:br>
              <a:rPr sz="2600"/>
            </a:br>
            <a:r>
              <a:rPr b="1" lang="en-US" sz="2600" spc="-1" strike="noStrike">
                <a:solidFill>
                  <a:srgbClr val="ff3300"/>
                </a:solidFill>
                <a:latin typeface="Garamond"/>
              </a:rPr>
              <a:t>Умение изготовлять орудия труда было главным отличием людей от живот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21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164833_pic1"/>
          <p:cNvPicPr/>
          <p:nvPr/>
        </p:nvPicPr>
        <p:blipFill>
          <a:blip r:embed="rId1"/>
          <a:stretch/>
        </p:blipFill>
        <p:spPr>
          <a:xfrm>
            <a:off x="2050920" y="3370320"/>
            <a:ext cx="5078520" cy="34876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img003.jpg"/>
          <p:cNvPicPr/>
          <p:nvPr/>
        </p:nvPicPr>
        <p:blipFill>
          <a:blip r:embed="rId2"/>
          <a:srcRect l="-190" t="0" r="3511" b="0"/>
          <a:stretch/>
        </p:blipFill>
        <p:spPr>
          <a:xfrm>
            <a:off x="0" y="0"/>
            <a:ext cx="9144000" cy="3354480"/>
          </a:xfrm>
          <a:prstGeom prst="rect">
            <a:avLst/>
          </a:prstGeom>
          <a:ln w="3240">
            <a:solidFill>
              <a:srgbClr val="000000">
                <a:alpha val="99000"/>
              </a:srgbClr>
            </a:solidFill>
            <a:miter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321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Найдите отлич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владение огнем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– первое изобретение человече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2736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Труд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ожность добывания               ог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обходимость постоянно поддерживать ого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59640" y="1557000"/>
            <a:ext cx="266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Поль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готовление пищ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пугивание диких звер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мощь во время ох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готовление орудий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64833_pic1"/>
          <p:cNvPicPr/>
          <p:nvPr/>
        </p:nvPicPr>
        <p:blipFill>
          <a:blip r:embed="rId1"/>
          <a:stretch/>
        </p:blipFill>
        <p:spPr>
          <a:xfrm>
            <a:off x="2484360" y="1773360"/>
            <a:ext cx="4248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9T11:33:27Z</dcterms:created>
  <dc:creator>qwe</dc:creator>
  <dc:description/>
  <dc:language>en-US</dc:language>
  <cp:lastModifiedBy>qwe</cp:lastModifiedBy>
  <dcterms:modified xsi:type="dcterms:W3CDTF">2019-09-09T16:47:18Z</dcterms:modified>
  <cp:revision>6</cp:revision>
  <dc:subject/>
  <dc:title>Тема: Жизнь  первобытных  людей</dc:title>
</cp:coreProperties>
</file>