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3DAA6-5DD1-41EF-BFCD-C00D8754B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878A8-5A0A-4E0D-A807-6EF08C5C4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7DE1C-FA65-4A04-B9B0-5BD297CE1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F818F-03E3-44C3-84A7-B13BFFFE6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04D1F-91A2-46D5-B9F5-C4CDB8226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BDC36-137C-4943-9FB3-E2AB07901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1E7CF-79D2-4D03-9ADE-C1316A6B4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64816-A246-4ED4-8907-B3C5BE6AE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BFF49-7B29-44C6-8D3D-B17339CA9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2B4E8-B617-450A-9AA7-FC9ABF583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9FF52-3418-4D31-9BDB-7019591E1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42F8A-EB1D-41A6-9023-105176E09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8EBB1-119C-469E-9931-3D66271DEA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1916280"/>
            <a:ext cx="7772400" cy="23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333399"/>
                </a:solidFill>
                <a:latin typeface="Arial"/>
              </a:rPr>
              <a:t>Дымковский </a:t>
            </a:r>
            <a:br>
              <a:rPr sz="6000"/>
            </a:br>
            <a:r>
              <a:rPr b="1" lang="ru-RU" sz="6000" spc="-1" strike="noStrike">
                <a:solidFill>
                  <a:srgbClr val="333399"/>
                </a:solidFill>
                <a:latin typeface="Arial"/>
              </a:rPr>
              <a:t>петушок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549360"/>
            <a:ext cx="7632720" cy="5688000"/>
          </a:xfrm>
          <a:prstGeom prst="rect">
            <a:avLst/>
          </a:prstGeom>
          <a:noFill/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095560" y="19080"/>
            <a:ext cx="4952880" cy="681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038320" y="19080"/>
            <a:ext cx="5067360" cy="681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038320" y="19080"/>
            <a:ext cx="5067360" cy="681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987560" y="25560"/>
            <a:ext cx="5168880" cy="680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101680" y="6480"/>
            <a:ext cx="4940640" cy="684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108160" y="6480"/>
            <a:ext cx="4927680" cy="684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095560" y="19080"/>
            <a:ext cx="4952880" cy="681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1T07:36:00Z</dcterms:created>
  <dc:creator>sk</dc:creator>
  <dc:description/>
  <dc:language>en-US</dc:language>
  <cp:lastModifiedBy>Галина</cp:lastModifiedBy>
  <dcterms:modified xsi:type="dcterms:W3CDTF">2011-11-06T17:42:55Z</dcterms:modified>
  <cp:revision>15</cp:revision>
  <dc:subject/>
  <dc:title>Слайд 1</dc:title>
</cp:coreProperties>
</file>