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F48-6D6C-4D47-AFAC-6739C78C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F0B-018C-4AAF-9D6A-A2EFD72D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1AB-B83E-4F63-A19C-D14A84A7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046-4093-4FFC-ABC2-DDA3A3FE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DFE-3527-45DD-B1BD-F8659769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F1E-4139-4737-86C4-29728AFF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CFC-7218-4173-BF69-5F5B308F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72C-B17A-456E-80FE-84011A96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D60F-BFA3-4C9D-AC19-DFC40E33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F80-3839-4AF0-8AED-F1B7D7BB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E5E-E0B3-4C47-BEF0-49E613DF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C23-5E20-4D16-8331-D1E4867C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90EF-CE8A-49AB-8169-D8CB46FE0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Дымковский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етуш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549360"/>
            <a:ext cx="7632720" cy="5688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95560" y="19080"/>
            <a:ext cx="49528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38320" y="19080"/>
            <a:ext cx="5067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38320" y="19080"/>
            <a:ext cx="5067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7560" y="25560"/>
            <a:ext cx="516888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01680" y="6480"/>
            <a:ext cx="494064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08160" y="6480"/>
            <a:ext cx="492768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95560" y="19080"/>
            <a:ext cx="49528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Галина</cp:lastModifiedBy>
  <dcterms:modified xsi:type="dcterms:W3CDTF">2011-11-06T17:42:55Z</dcterms:modified>
  <cp:revision>15</cp:revision>
  <dc:subject/>
  <dc:title>Слайд 1</dc:title>
</cp:coreProperties>
</file>