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404-9EAA-482C-B36B-37115BC9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E58-3592-4D6A-94C3-077E7694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2BD98B-BA32-4E49-AC4B-C3D52B18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4406BE-0637-4D64-B566-4A88AB8F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AD9E8-1715-4EC6-A0EF-6FBBF9D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E2B74D-B900-4A9F-A33C-F67BF17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04D89-F420-450C-B26D-C584C7F1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364EEF-ECE4-4009-B4EA-267490A0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9AE468-7A52-41C5-A43E-35A97D5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89276F-F992-49D8-90A8-63E479D3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94C02-3D3C-44EC-BD89-75B2D01A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6A2F44-4C1B-4051-8C94-2ED98F9A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E26-78F7-4245-848E-4AF62EFF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64F1BA-3D8D-4670-BB84-43C4D730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7E0603-61FA-4AA3-97F1-9111AAC0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98D56D-7D74-440D-BBAC-F35D54B1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19D592-AEF9-4793-82C2-92B80228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E4FF30-7630-4B71-8CA0-3E589A4D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EE7646-6620-4480-A0A4-33524BC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F7780B-2B83-4D28-A17C-862F9C69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485286-9717-4FB6-BB48-B404B1A8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7B2D2F-D170-4FD4-93D6-49BF93DC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2E8FA0-5730-42D5-81ED-A1BCD9A8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B17-0702-4B47-BFA7-E0DAE894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270D97-CACF-4E10-AEF8-EC0D595C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4C027-975C-4B06-8723-C7E1A28329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C88AC-8F67-4A34-B589-F34BAF1403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EFFE3-04ED-4271-8B41-9D9249DF61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0DD52-F024-419F-AB8A-F2884348F4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895E6-F223-4877-8C21-9307FE4780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26938-1198-461F-A554-DB02557A17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B7753-9271-41AD-901B-839ABD124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047-D29E-40F8-8EC9-0F530B6F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F6461-5BEB-407D-A9BB-AD56B37038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876D1-3970-44E0-893B-331F707BC3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652F2-23D3-4EEE-95E0-0A28FAD146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E809C-DEE1-4B05-81CD-628F3D41C8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7B7FC-D7B8-4DDE-B304-7D00CE4AB4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5D378-5D8D-4C9D-8D03-4BBC65B1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0C3BC-E5B0-4A4D-ABC8-1BBC426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0C691-C61A-4739-8DCB-3F042811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048C7-F405-4C91-9A46-66028F81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36B75-E13B-4FEC-B5F9-D4169832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E33-75F0-48EF-BC55-B86DF9DF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FB1BB-438E-4D99-AE4C-FFE09BE7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973E4-2B55-4D3F-9FA8-06EFCC5A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DAD15-B30E-4674-8679-5C59724C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A2757-0F0E-4C98-9750-705AC2B3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A79B1-404D-4810-A19F-681C9978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4B9E1-B182-42BF-8A1D-20453B15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83073-D153-4A83-B453-5C657301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185AF-81D3-4C5C-9862-35218C28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EF754-3440-4ED4-A5EF-1F779F4C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001D8-EF82-40C7-B22F-CBC509B6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FF5-A091-4470-9D3B-03CA7A72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6E9BDF-CD06-494F-A892-A68A8A05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8EDD2A-ED36-4A12-A9A3-6672AFAB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BFAC6-E0FF-4B8E-8E77-0044ED90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18BF2-6C10-42B4-B9F9-CA5858E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349EF-E301-47B7-B4D4-6FF307E0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84B44-813D-4722-A059-2D05CC48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7BC9E-E8E3-4396-9BB2-83CDB0E2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0F8E3-5725-4325-8203-9055AFC6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C3F78-1298-4B7E-B514-1FD56E97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3A30B-347C-4CD7-B60F-CF72F585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750-2448-4F6F-8C82-706BDDDC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9B979-DB69-4740-BFAE-67372C19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ABA8B-F0DE-4F3E-9EF4-E661C838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7ADB5-53DA-470E-9094-346BAD78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57028-9A76-49B3-A79F-2B908777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E693D-A82A-4D94-AD89-76E9B6B1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70955-0033-495C-954C-EC9FFFE9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19E56-05BB-4E16-8871-A810CDEE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B8A8E-3CDE-4194-AE8D-CBCFE9CE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AA11B-518E-4C9F-8D0F-278E5955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160ED-A57A-462A-91CC-365DFBCC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087-BF37-463A-880B-60BC8F3C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6BBA6-3AF8-409D-81E7-990CEBDA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8F41D-057E-4ED7-B499-6604F84C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24034-3C37-46EC-BB85-B4D7EDCF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F6A1F-5F62-4403-A21A-7E02813B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AD01D-5F68-4A7D-82BD-798BEC6C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340D4-0F92-4C6B-911F-CB94D93A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E83E0-0452-4A8F-A546-CA712B19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586FC-B2FC-4C19-B064-DB88BFBD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32688-7DD3-456D-B195-49429025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B9961-3492-4212-871B-3D89D2E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A97-CBA0-49EB-A0E4-953DC120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D4F7D-9B77-4DB6-9968-D6F5DE1D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312F1-3694-47E3-A8A3-2C6228D3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D1D9A-CD31-402B-B6BB-3F68C85D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ECB7A-5BAB-4D0E-BF7A-E9DC6059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0750F-E425-455B-ADEA-711EB6DE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9F401-7E70-41A7-BF14-1AE97744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5B289-3D8B-446C-8DAD-9D45E87E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99F76-D8E2-4F59-99E7-BE3176D6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605E6-2B12-422A-8457-15F38EF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C75C1-B67F-442F-BDDF-3D41AD45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41D-D646-4610-A1FD-B653C71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EB542-4AED-4373-99A0-F54FA803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3AF607-BA17-4B36-BA5F-22344DE6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B32EAC-E443-493C-8A63-7127C8B6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E24CE-C01F-46B3-B41D-DAF42A5F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D6EDF-E3EC-428F-B862-5A0AAF52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A5E6C7-A02C-4A36-B305-29B00EF8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97D4EC-5CC7-44FF-BE1D-C6B84B44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9D343-9DCD-4022-AA5E-0792CFB9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E1A5D-1AE5-45F3-A041-51536113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FFB6A2-744D-421D-A1F9-4A59A30E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612-DE33-4DAD-89D3-DCFB7CB7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962BD-CBBF-4C2D-A5CB-03EC50AD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F0D7D-6C1C-42B9-848E-3F8CB53F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AD764-74CE-430C-ADE3-C3CA725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43BC35-96D5-4023-898D-AB782A8C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0A4D40-4C8E-4BB2-959F-B515F8E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9FF329-6380-47B5-962F-ECDF3D01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958050-7C2A-4260-88C6-0F530548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6B6715-044B-403C-94AC-975DAD22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CE5BF1-F2D6-4293-95BF-CC3081AA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42C464-8589-48C8-B2FE-35B2AF56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AC45-B161-460B-9021-8A3D5FCF9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E755-3A44-4015-9D64-E68FD6630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6F7B-A3B2-4B1B-8292-D40F2D94B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1670-DBF5-4DDD-9BAB-8EE86214B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14C7-7C85-4D43-9728-6A72B6301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822A-5F61-4AA6-B12A-5369112910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1634-CEA8-4B1E-807D-C65DF3A5F4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69D3-0BD3-4364-AADD-4E1AED739D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ABD1-DC65-4E8E-A7A0-39E95AB370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1788-0D54-4D23-88F3-286815A06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rcpk.marsu.ru/works_iso/2006-11-27/elsukova/%CF%F0%E8%F8%E2%E8%ED.jpg" TargetMode="External"/><Relationship Id="rId2" Type="http://schemas.openxmlformats.org/officeDocument/2006/relationships/hyperlink" Target="http://biography.sgu.ru/bio/data/files/pictures/image/39450.jpg%20-%20&#1048;.&#1064;&#1080;&#1096;&#1082;&#1080;&#1085;" TargetMode="External"/><Relationship Id="rId3" Type="http://schemas.openxmlformats.org/officeDocument/2006/relationships/hyperlink" Target="http://biography.sgu.ru/bio/data/files/pictures/image/39450.jpg%20-%20&#1048;.&#1064;&#1080;&#1096;&#1082;&#1080;&#1085;" TargetMode="External"/><Relationship Id="rId4" Type="http://schemas.openxmlformats.org/officeDocument/2006/relationships/hyperlink" Target="http://bse.sci-lib.com/pictures/04/18/221205183.jpg" TargetMode="External"/><Relationship Id="rId5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571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Пейзаж родной земл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"/>
          <p:cNvSpPr/>
          <p:nvPr/>
        </p:nvSpPr>
        <p:spPr>
          <a:xfrm>
            <a:off x="1000080" y="11430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рок изобразительного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3582360" y="514368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C:\Documents and Settings\вадик\Рабочий стол\Растения\НОВЫЕ КОНКУРСЫ\209.jpg"/>
          <p:cNvPicPr/>
          <p:nvPr/>
        </p:nvPicPr>
        <p:blipFill>
          <a:blip r:embed="rId1"/>
          <a:stretch/>
        </p:blipFill>
        <p:spPr>
          <a:xfrm>
            <a:off x="785880" y="1643040"/>
            <a:ext cx="3286080" cy="4354560"/>
          </a:xfrm>
          <a:prstGeom prst="rect">
            <a:avLst/>
          </a:prstGeom>
          <a:ln w="0">
            <a:noFill/>
          </a:ln>
        </p:spPr>
      </p:pic>
      <p:sp>
        <p:nvSpPr>
          <p:cNvPr id="470" name="TextBox 5"/>
          <p:cNvSpPr/>
          <p:nvPr/>
        </p:nvSpPr>
        <p:spPr>
          <a:xfrm>
            <a:off x="1928880" y="428760"/>
            <a:ext cx="59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ихаил Пришвин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3929040" y="1857240"/>
            <a:ext cx="442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«Охранять природу – значит охранять Родину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C:\Documents and Settings\вадик\Рабочий стол\Растения\НОВЫЕ КОНКУРСЫ\Шишкин_Берёзовая роща.jpg"/>
          <p:cNvPicPr/>
          <p:nvPr/>
        </p:nvPicPr>
        <p:blipFill>
          <a:blip r:embed="rId1"/>
          <a:stretch/>
        </p:blipFill>
        <p:spPr>
          <a:xfrm>
            <a:off x="571680" y="285840"/>
            <a:ext cx="238104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3" name="Picture 5" descr="C:\Documents and Settings\вадик\Рабочий стол\Растения\НОВЫЕ КОНКУРСЫ\зол.ос.jpg"/>
          <p:cNvPicPr/>
          <p:nvPr/>
        </p:nvPicPr>
        <p:blipFill>
          <a:blip r:embed="rId2"/>
          <a:stretch/>
        </p:blipFill>
        <p:spPr>
          <a:xfrm>
            <a:off x="1500120" y="4214880"/>
            <a:ext cx="3714840" cy="23810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4" name="Picture 6" descr="C:\Documents and Settings\вадик\Рабочий стол\Растения\НОВЫЕ КОНКУРСЫ\grachi_prileteli.jpg"/>
          <p:cNvPicPr/>
          <p:nvPr/>
        </p:nvPicPr>
        <p:blipFill>
          <a:blip r:embed="rId3"/>
          <a:stretch/>
        </p:blipFill>
        <p:spPr>
          <a:xfrm>
            <a:off x="6286680" y="285840"/>
            <a:ext cx="240480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5" name="Picture 3" descr="C:\Documents and Settings\вадик\Рабочий стол\Растения\НОВЫЕ КОНКУРСЫ\На озере Грабарь.jpg"/>
          <p:cNvPicPr/>
          <p:nvPr/>
        </p:nvPicPr>
        <p:blipFill>
          <a:blip r:embed="rId4"/>
          <a:stretch/>
        </p:blipFill>
        <p:spPr>
          <a:xfrm>
            <a:off x="3500280" y="285840"/>
            <a:ext cx="231012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76" name="TextBox 9"/>
          <p:cNvSpPr/>
          <p:nvPr/>
        </p:nvSpPr>
        <p:spPr>
          <a:xfrm>
            <a:off x="357120" y="335772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Шишкин «Берёзовая рощ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0"/>
          <p:cNvSpPr/>
          <p:nvPr/>
        </p:nvSpPr>
        <p:spPr>
          <a:xfrm>
            <a:off x="3571920" y="335772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Грабарь         «На озе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1"/>
          <p:cNvSpPr/>
          <p:nvPr/>
        </p:nvSpPr>
        <p:spPr>
          <a:xfrm>
            <a:off x="6215040" y="335772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.Саврасов       «Грачи приле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"/>
          <p:cNvSpPr/>
          <p:nvPr/>
        </p:nvSpPr>
        <p:spPr>
          <a:xfrm>
            <a:off x="5214960" y="50007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Левитан                 «Золотая осе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4"/>
          <p:cNvSpPr/>
          <p:nvPr/>
        </p:nvSpPr>
        <p:spPr>
          <a:xfrm>
            <a:off x="1143000" y="1643040"/>
            <a:ext cx="7215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Пейзаж</a:t>
            </a:r>
            <a:r>
              <a:rPr b="1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исунок, картина, изображающая виды природы, а также описание природы в литературном произвед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(С.И.Оже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2146320" y="285840"/>
            <a:ext cx="1481040" cy="11649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"/>
          <p:cNvPicPr/>
          <p:nvPr/>
        </p:nvPicPr>
        <p:blipFill>
          <a:blip r:embed="rId2"/>
          <a:stretch/>
        </p:blipFill>
        <p:spPr>
          <a:xfrm>
            <a:off x="5297400" y="365040"/>
            <a:ext cx="1609920" cy="1201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"/>
          <p:cNvPicPr/>
          <p:nvPr/>
        </p:nvPicPr>
        <p:blipFill>
          <a:blip r:embed="rId3"/>
          <a:stretch/>
        </p:blipFill>
        <p:spPr>
          <a:xfrm>
            <a:off x="1962000" y="5310360"/>
            <a:ext cx="1567080" cy="1292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"/>
          <p:cNvPicPr/>
          <p:nvPr/>
        </p:nvPicPr>
        <p:blipFill>
          <a:blip r:embed="rId4"/>
          <a:stretch/>
        </p:blipFill>
        <p:spPr>
          <a:xfrm>
            <a:off x="5376960" y="5237280"/>
            <a:ext cx="1646280" cy="137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4"/>
          <p:cNvSpPr/>
          <p:nvPr/>
        </p:nvSpPr>
        <p:spPr>
          <a:xfrm>
            <a:off x="785880" y="100008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акти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5"/>
          <p:cNvSpPr/>
          <p:nvPr/>
        </p:nvSpPr>
        <p:spPr>
          <a:xfrm>
            <a:off x="1285920" y="2000160"/>
            <a:ext cx="7429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1)  Изобразите красками на бумаге пейзаж родной природ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1285920" y="3143160"/>
            <a:ext cx="735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2)  По возможности не используйте простой карандаш, пишите сразу крас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7"/>
          <p:cNvSpPr/>
          <p:nvPr/>
        </p:nvSpPr>
        <p:spPr>
          <a:xfrm>
            <a:off x="1285920" y="4714920"/>
            <a:ext cx="721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3) При необходимости смешивайте краски прямо в изображ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5"/>
          <p:cNvSpPr/>
          <p:nvPr/>
        </p:nvSpPr>
        <p:spPr>
          <a:xfrm>
            <a:off x="500040" y="28584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сть в осени первоначаль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3" descr="C:\Documents and Settings\вадик\Рабочий стол\Растения\НОВЫЕ КОНКУРСЫ\Урок 2\uuvyargnfwchpx_preview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Box 7"/>
          <p:cNvSpPr/>
          <p:nvPr/>
        </p:nvSpPr>
        <p:spPr>
          <a:xfrm>
            <a:off x="-500040" y="28584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Лес, точно тер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распис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4"/>
          <p:cNvSpPr/>
          <p:nvPr/>
        </p:nvSpPr>
        <p:spPr>
          <a:xfrm>
            <a:off x="1071720" y="928800"/>
            <a:ext cx="70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1428840" y="221472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1) Подобрать пословицы об осени, осенних месяц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6"/>
          <p:cNvSpPr/>
          <p:nvPr/>
        </p:nvSpPr>
        <p:spPr>
          <a:xfrm>
            <a:off x="1428840" y="371484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2) Написать стихотворение, посвящённое прекрасному времени года – ос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071720" y="357120"/>
            <a:ext cx="70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785880" y="1285920"/>
            <a:ext cx="79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mrcpk.marsu.ru/works_iso/2006-11-27/elsukova/%CF%F0%E8%F8%E2%E8%ED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портрет Пришв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6"/>
          <p:cNvSpPr/>
          <p:nvPr/>
        </p:nvSpPr>
        <p:spPr>
          <a:xfrm>
            <a:off x="785880" y="2000160"/>
            <a:ext cx="77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biography.sgu.ru/bio/data/files/pictures/image/39450.jpg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 - И.Шишк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«Березовая рощ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7"/>
          <p:cNvSpPr/>
          <p:nvPr/>
        </p:nvSpPr>
        <p:spPr>
          <a:xfrm>
            <a:off x="785880" y="2571840"/>
            <a:ext cx="75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bse.sci-lib.com/pictures/04/18/22120518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И.Грабарь «На озер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9"/>
          <p:cNvSpPr/>
          <p:nvPr/>
        </p:nvSpPr>
        <p:spPr>
          <a:xfrm>
            <a:off x="714240" y="3143160"/>
            <a:ext cx="77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1.afisha.ru/MediaStorage/69/6d/696d457db9b1464ab656241df6ea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А.Саврасов   «Грачи прилетел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0"/>
          <p:cNvSpPr/>
          <p:nvPr/>
        </p:nvSpPr>
        <p:spPr>
          <a:xfrm>
            <a:off x="785880" y="3786120"/>
            <a:ext cx="77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g-fotki.yandex.ru/get/3503/senapa.3e/0_261d9_84f9dd5c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И.Левитан «Золотая осе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1"/>
          <p:cNvSpPr/>
          <p:nvPr/>
        </p:nvSpPr>
        <p:spPr>
          <a:xfrm>
            <a:off x="785880" y="43578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kumertime.ru/wp-content/uploads/2010/09/les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Лес, точно терем распис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2"/>
          <p:cNvSpPr/>
          <p:nvPr/>
        </p:nvSpPr>
        <p:spPr>
          <a:xfrm>
            <a:off x="785880" y="5000760"/>
            <a:ext cx="75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ihi.ru/pics/2009/10/16/84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Есть в осени первонач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7:14:16Z</dcterms:created>
  <dc:creator>Admin</dc:creator>
  <dc:description/>
  <dc:language>en-US</dc:language>
  <cp:lastModifiedBy>Дмитрий Каленюк</cp:lastModifiedBy>
  <dcterms:modified xsi:type="dcterms:W3CDTF">2019-11-10T16:51:11Z</dcterms:modified>
  <cp:revision>63</cp:revision>
  <dc:subject/>
  <dc:title>Интегрированный урок как средство развития универсальных учебных действий</dc:title>
</cp:coreProperties>
</file>