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785-1D97-4FCB-A1FB-8E6B436B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735-E4BC-4E7B-BA93-71F3130B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9C1653-A1B7-4B9E-B70D-D7B9F493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186845-68EF-4FC1-AA97-09F2B03C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87BAA7-5013-44D8-8E02-A897FF2B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8881C9-4916-495D-A5E2-BE8CCD5D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05318C-574C-4676-BEF9-617630A1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D2ECBF-A5B2-4E37-A764-9BBBF8B9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19BB0E-EECE-468D-93DA-A001D526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19AE8A-CADF-460C-BBAB-0D598785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4977AD-F2F4-4702-81B7-3E5A8153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11DA75-C1A0-473F-A5F6-BAC9096C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F7A-4203-4482-BCF5-B06972F4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A38CE4-6778-420E-887D-9C1668BB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C6B9A2-AADC-41A8-9004-C598C7DB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FA3F93-BB36-4F8C-A8E7-F68CE3C8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E0F165-EECA-49C5-85E5-1AFE3937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2D53CD-988E-411A-9E9C-37A9A712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A3AD14-A0EC-481A-9B65-D50B2ABC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37543F-B027-431D-A484-9DB8E918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95FA84-013A-464B-B5C8-41E096BD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AF3105-1339-461A-B2A6-EA43DF16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E759D9-9384-4050-AF76-D31FDFAF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5B7-DC6F-4136-80CB-44EC035C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0E2EA1-9B41-4A24-853B-BB6AB1C0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EE201-FBE2-4C1F-989A-3F5FDCCC42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FE869-A353-4A63-828A-C580014D26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5CFEC-9C18-4A5B-866E-3656E48E4F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E5733-E53E-44EA-92DF-C71EA6ACA4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76925-EE55-4CEF-A7B3-33DEC8E933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8F89E-B1B7-4442-B7A3-0B88669A42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73AC2-4893-4B50-900C-717F341614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6E7-C7B7-41D6-8121-AF63B473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14AC7-569E-44AE-AEAD-DE3AECFE04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B2A0A-1434-4F6A-B319-E73FF6AAAD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D7039-DF5D-420A-8439-D69A00F2DF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C8516-E5D4-4E69-A115-910972190E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41357-0E0B-4B68-8C22-A6ADB541EA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0DACA-1270-4141-947C-8DA7EC2A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028AB-27EC-4FF5-8234-61222FFD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ADE19-41A3-4A88-B14F-FD9DC082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0CCCC-4106-42B7-927F-0E5E7419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4981E-A9F6-41B8-BEEF-D826791E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219-951D-4D53-AD91-E932F80C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82B83-B11A-4FB3-981F-7E134DEE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F59D1-A248-452E-B8FB-65C41CF1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44A5A-BB2C-45FB-8623-35429750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2EFE2-8251-4B2D-BE76-84243916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DD22B-4C85-4B6F-BCDC-355403C8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D01FB-D0E4-49E3-A509-68E18158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52147-93E5-4E82-835C-918C20C8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8FF027-8162-4C40-AD43-4626EBAA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17B6E-802A-442E-B49F-753BAAA0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75D499-1AB0-4677-9F37-35D22B5A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D102-2716-4410-B856-BADA58B5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A2CCA-C572-412C-AD62-67C4F6B9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ECA0A1-531E-46E1-BB04-0F5CC920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6B4D77-4BFD-45E8-A71C-C3BFE9F0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2530F2-1ADA-4828-9FA0-034B3AB8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BEA22B-E8CE-412F-BEAF-9B4668EC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C01858-B662-4762-A0C7-0CBF8FAA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01A84-2BEE-4F7D-B228-86E74378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E03F95-ACC7-43C8-ACD8-5599DE8B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4A7EE4-9EE5-482C-A6BE-C1ED56D2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EBF2C-C560-4600-B2AF-74B33051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47B-F6AD-4A8B-8B20-34EEDEB4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9D609-B55F-4E02-8C68-4E4CAD6A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2FED7-8B4B-44FE-86BF-42A2F4FC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89441-8022-49F4-BF13-B8F72189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A8C4A-268A-4B33-9CF0-5DB1523E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DAC3A-3891-4503-849E-AD551907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55360-1B2E-40B2-80FC-669BD27F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F1B80A-7F8C-41BA-ACE8-7BAAEE58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DFA3C-2D48-4F0D-89BD-37C26D11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75172D-A07B-4864-8925-7029A287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AAD8A-7EA8-44FF-86C4-947FB724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52EF-E4EA-47EF-8103-B3191A6D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4D995-54EB-4F3D-905C-76D3DAAC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6C653-B0CC-42BE-98D8-03321A6C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4E63F7-B86A-4D35-AD0D-DA68BA4F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9C127-DE51-4ADB-BEFD-300C6754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DBC2C-065C-4084-BCCE-3D64EC69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D1C58F-AF03-4FF7-9BA5-82D8F6B7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D5A21-632F-42E4-9C41-37FF52A7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F7D4E-C278-490E-9343-141A2C00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489346-E520-4D80-96BD-BA2C7B68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A18472-D8E7-4C5D-8614-8D0AA6F3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360-96F5-4A70-87C6-6A311BE5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DBF813-986E-4946-BF6D-207129B4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680150-964C-4290-9DF0-CADA9A18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67B4D-6809-41EF-9316-0B76BBDF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C3233-465D-4DD4-A43D-075D2C9B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C141A0-64F6-4E06-A131-4CC6BE74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4599D-9D8B-4265-9191-E95A2FEC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4B9D1D-1A6A-420D-B739-8F4B9CB9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0BB96-A619-4387-B236-85DC9D5B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BA0E22-05D1-4078-996C-43BDF476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96527A-E593-481F-98CE-BD690356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995-4714-4DD0-BEC2-31D0C671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8CABC6-F931-4C68-ABAB-891C9A93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ECBB8C-9CF0-4415-B4F4-3C7F2147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E5B682-798A-4705-8211-3E3CA148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D6F9B8-F27D-42E1-908C-95470AD6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2FD3EB-9522-4794-8107-560CCBC3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4DE7CB-0EA6-4037-ACAF-9510BABB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83091C-5E5D-4AE1-8783-0F2F48DB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C0288C-9E1E-4216-BBAB-A70A67B7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7BAB85-CEF5-43A5-9513-27499779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57D8E1-8772-4779-B05B-CE64AD44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87F-839C-472D-8BAA-8323A6A9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BEA1D1-2546-4B10-A9BE-F84D87F1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E710AD-1766-4B6C-914B-228B600C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2D25E3-D003-4B22-90DB-92DE9540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296703-00C4-4673-A857-C53C049E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7973DA-F175-4DD4-88E0-FDE072D5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3E06D9-401E-4F0C-97A3-61980757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511754-DC75-4AE1-88E4-EC437001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217F32-6E14-46C0-824B-5CC7D757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2CE6A7-C59E-4A8D-8340-225B8A61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A250E4-7CE4-44F7-9CA3-E744D62E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41B9-55AF-47FB-9344-3BA0505E18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C:\Documents and Settings\Admin\Рабочий стол\для шаблонов\прозр2.gif"/>
          <p:cNvPicPr/>
          <p:nvPr/>
        </p:nvPicPr>
        <p:blipFill>
          <a:blip r:embed="rId5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1E00-F056-49C3-81AB-D2D3D77C7E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Admin\Рабочий стол\для шаблонов\ввсс.gif"/>
          <p:cNvPicPr/>
          <p:nvPr/>
        </p:nvPicPr>
        <p:blipFill>
          <a:blip r:embed="rId5"/>
          <a:stretch/>
        </p:blipFill>
        <p:spPr>
          <a:xfrm>
            <a:off x="857160" y="1357200"/>
            <a:ext cx="7400880" cy="389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Admin\Рабочий стол\угадай\Зелёный.gif"/>
          <p:cNvPicPr/>
          <p:nvPr/>
        </p:nvPicPr>
        <p:blipFill>
          <a:blip r:embed="rId6"/>
          <a:stretch/>
        </p:blipFill>
        <p:spPr>
          <a:xfrm>
            <a:off x="357120" y="6630840"/>
            <a:ext cx="1067040" cy="22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Admin\Рабочий стол\для шаблонов\Копия прозр.gif"/>
          <p:cNvPicPr/>
          <p:nvPr/>
        </p:nvPicPr>
        <p:blipFill>
          <a:blip r:embed="rId9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Рабочий стол\для шаблонов\прозр2.gif"/>
          <p:cNvPicPr/>
          <p:nvPr/>
        </p:nvPicPr>
        <p:blipFill>
          <a:blip r:embed="rId10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20FA-4069-4E97-99F8-5AB77F447B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\Рабочий стол\для шаблонов\прозр2.gif"/>
          <p:cNvPicPr/>
          <p:nvPr/>
        </p:nvPicPr>
        <p:blipFill>
          <a:blip r:embed="rId7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26CE-3611-413E-98C9-0F49705029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89B2-D709-476F-B17C-D8EDCDE251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9D2E-48D8-4FC8-B288-8F7530D7DE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7521-E55B-421A-9693-0A8B86FF10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BA8A-9FF3-4418-A9DA-43CAE360D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B25F-C379-492A-AC83-B49B2F0E52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761B-8C91-4255-AAE0-2217A8EF68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rcpk.marsu.ru/works_iso/2006-11-27/elsukova/%CF%F0%E8%F8%E2%E8%ED.jpg" TargetMode="External"/><Relationship Id="rId2" Type="http://schemas.openxmlformats.org/officeDocument/2006/relationships/hyperlink" Target="http://biography.sgu.ru/bio/data/files/pictures/image/39450.jpg%20-%20&#1048;.&#1064;&#1080;&#1096;&#1082;&#1080;&#1085;" TargetMode="External"/><Relationship Id="rId3" Type="http://schemas.openxmlformats.org/officeDocument/2006/relationships/hyperlink" Target="http://biography.sgu.ru/bio/data/files/pictures/image/39450.jpg%20-%20&#1048;.&#1064;&#1080;&#1096;&#1082;&#1080;&#1085;" TargetMode="External"/><Relationship Id="rId4" Type="http://schemas.openxmlformats.org/officeDocument/2006/relationships/hyperlink" Target="http://bse.sci-lib.com/pictures/04/18/221205183.jpg" TargetMode="External"/><Relationship Id="rId5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5716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Пейзаж родной земл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2"/>
          <p:cNvSpPr/>
          <p:nvPr/>
        </p:nvSpPr>
        <p:spPr>
          <a:xfrm>
            <a:off x="1000080" y="11430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рок изобразительного искус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4"/>
          <p:cNvSpPr/>
          <p:nvPr/>
        </p:nvSpPr>
        <p:spPr>
          <a:xfrm>
            <a:off x="3582360" y="514368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4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C:\Documents and Settings\вадик\Рабочий стол\Растения\НОВЫЕ КОНКУРСЫ\209.jpg"/>
          <p:cNvPicPr/>
          <p:nvPr/>
        </p:nvPicPr>
        <p:blipFill>
          <a:blip r:embed="rId1"/>
          <a:stretch/>
        </p:blipFill>
        <p:spPr>
          <a:xfrm>
            <a:off x="785880" y="1643040"/>
            <a:ext cx="3286080" cy="4354560"/>
          </a:xfrm>
          <a:prstGeom prst="rect">
            <a:avLst/>
          </a:prstGeom>
          <a:ln w="0">
            <a:noFill/>
          </a:ln>
        </p:spPr>
      </p:pic>
      <p:sp>
        <p:nvSpPr>
          <p:cNvPr id="470" name="TextBox 5"/>
          <p:cNvSpPr/>
          <p:nvPr/>
        </p:nvSpPr>
        <p:spPr>
          <a:xfrm>
            <a:off x="1928880" y="428760"/>
            <a:ext cx="59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ихаил Пришвин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6"/>
          <p:cNvSpPr/>
          <p:nvPr/>
        </p:nvSpPr>
        <p:spPr>
          <a:xfrm>
            <a:off x="3929040" y="1857240"/>
            <a:ext cx="442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«Охранять природу – значит охранять Родину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4" descr="C:\Documents and Settings\вадик\Рабочий стол\Растения\НОВЫЕ КОНКУРСЫ\Шишкин_Берёзовая роща.jpg"/>
          <p:cNvPicPr/>
          <p:nvPr/>
        </p:nvPicPr>
        <p:blipFill>
          <a:blip r:embed="rId1"/>
          <a:stretch/>
        </p:blipFill>
        <p:spPr>
          <a:xfrm>
            <a:off x="571680" y="285840"/>
            <a:ext cx="2381040" cy="3071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73" name="Picture 5" descr="C:\Documents and Settings\вадик\Рабочий стол\Растения\НОВЫЕ КОНКУРСЫ\зол.ос.jpg"/>
          <p:cNvPicPr/>
          <p:nvPr/>
        </p:nvPicPr>
        <p:blipFill>
          <a:blip r:embed="rId2"/>
          <a:stretch/>
        </p:blipFill>
        <p:spPr>
          <a:xfrm>
            <a:off x="1500120" y="4214880"/>
            <a:ext cx="3714840" cy="23810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74" name="Picture 6" descr="C:\Documents and Settings\вадик\Рабочий стол\Растения\НОВЫЕ КОНКУРСЫ\grachi_prileteli.jpg"/>
          <p:cNvPicPr/>
          <p:nvPr/>
        </p:nvPicPr>
        <p:blipFill>
          <a:blip r:embed="rId3"/>
          <a:stretch/>
        </p:blipFill>
        <p:spPr>
          <a:xfrm>
            <a:off x="6286680" y="285840"/>
            <a:ext cx="2404800" cy="3071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75" name="Picture 3" descr="C:\Documents and Settings\вадик\Рабочий стол\Растения\НОВЫЕ КОНКУРСЫ\На озере Грабарь.jpg"/>
          <p:cNvPicPr/>
          <p:nvPr/>
        </p:nvPicPr>
        <p:blipFill>
          <a:blip r:embed="rId4"/>
          <a:stretch/>
        </p:blipFill>
        <p:spPr>
          <a:xfrm>
            <a:off x="3500280" y="285840"/>
            <a:ext cx="2310120" cy="3071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76" name="TextBox 9"/>
          <p:cNvSpPr/>
          <p:nvPr/>
        </p:nvSpPr>
        <p:spPr>
          <a:xfrm>
            <a:off x="357120" y="335772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.Шишкин «Берёзовая рощ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0"/>
          <p:cNvSpPr/>
          <p:nvPr/>
        </p:nvSpPr>
        <p:spPr>
          <a:xfrm>
            <a:off x="3571920" y="3357720"/>
            <a:ext cx="221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.Грабарь         «На озер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1"/>
          <p:cNvSpPr/>
          <p:nvPr/>
        </p:nvSpPr>
        <p:spPr>
          <a:xfrm>
            <a:off x="6215040" y="3357720"/>
            <a:ext cx="26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А.Саврасов       «Грачи прилете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2"/>
          <p:cNvSpPr/>
          <p:nvPr/>
        </p:nvSpPr>
        <p:spPr>
          <a:xfrm>
            <a:off x="5214960" y="500076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.Левитан                 «Золотая осен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4"/>
          <p:cNvSpPr/>
          <p:nvPr/>
        </p:nvSpPr>
        <p:spPr>
          <a:xfrm>
            <a:off x="1143000" y="1643040"/>
            <a:ext cx="7215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Пейзаж</a:t>
            </a:r>
            <a:r>
              <a:rPr b="1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исунок, картина, изображающая виды природы, а также описание природы в литературном произведе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(С.И.Ожег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2146320" y="285840"/>
            <a:ext cx="1481040" cy="11649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" descr=""/>
          <p:cNvPicPr/>
          <p:nvPr/>
        </p:nvPicPr>
        <p:blipFill>
          <a:blip r:embed="rId2"/>
          <a:stretch/>
        </p:blipFill>
        <p:spPr>
          <a:xfrm>
            <a:off x="5297400" y="365040"/>
            <a:ext cx="1609920" cy="1201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"/>
          <p:cNvPicPr/>
          <p:nvPr/>
        </p:nvPicPr>
        <p:blipFill>
          <a:blip r:embed="rId3"/>
          <a:stretch/>
        </p:blipFill>
        <p:spPr>
          <a:xfrm>
            <a:off x="1962000" y="5310360"/>
            <a:ext cx="1567080" cy="12920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"/>
          <p:cNvPicPr/>
          <p:nvPr/>
        </p:nvPicPr>
        <p:blipFill>
          <a:blip r:embed="rId4"/>
          <a:stretch/>
        </p:blipFill>
        <p:spPr>
          <a:xfrm>
            <a:off x="5376960" y="5237280"/>
            <a:ext cx="1646280" cy="137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4"/>
          <p:cNvSpPr/>
          <p:nvPr/>
        </p:nvSpPr>
        <p:spPr>
          <a:xfrm>
            <a:off x="785880" y="100008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актическо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5"/>
          <p:cNvSpPr/>
          <p:nvPr/>
        </p:nvSpPr>
        <p:spPr>
          <a:xfrm>
            <a:off x="1285920" y="2000160"/>
            <a:ext cx="7429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1)  Изобразите красками на бумаге пейзаж родной природ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1285920" y="3143160"/>
            <a:ext cx="735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2)  По возможности не используйте простой карандаш, пишите сразу крас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7"/>
          <p:cNvSpPr/>
          <p:nvPr/>
        </p:nvSpPr>
        <p:spPr>
          <a:xfrm>
            <a:off x="1285920" y="4714920"/>
            <a:ext cx="7215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3) При необходимости смешивайте краски прямо в изображен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Box 5"/>
          <p:cNvSpPr/>
          <p:nvPr/>
        </p:nvSpPr>
        <p:spPr>
          <a:xfrm>
            <a:off x="500040" y="28584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Есть в осени первоначальной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3" descr="C:\Documents and Settings\вадик\Рабочий стол\Растения\НОВЫЕ КОНКУРСЫ\Урок 2\uuvyargnfwchpx_preview.jpg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TextBox 7"/>
          <p:cNvSpPr/>
          <p:nvPr/>
        </p:nvSpPr>
        <p:spPr>
          <a:xfrm>
            <a:off x="-500040" y="28584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Лес, точно тер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расписной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4"/>
          <p:cNvSpPr/>
          <p:nvPr/>
        </p:nvSpPr>
        <p:spPr>
          <a:xfrm>
            <a:off x="1071720" y="928800"/>
            <a:ext cx="70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1428840" y="221472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1) Подобрать пословицы об осени, осенних месяц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6"/>
          <p:cNvSpPr/>
          <p:nvPr/>
        </p:nvSpPr>
        <p:spPr>
          <a:xfrm>
            <a:off x="1428840" y="3714840"/>
            <a:ext cx="642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2) Написать стихотворение, посвящённое прекрасному времени года – ос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4"/>
          <p:cNvSpPr/>
          <p:nvPr/>
        </p:nvSpPr>
        <p:spPr>
          <a:xfrm>
            <a:off x="1071720" y="357120"/>
            <a:ext cx="70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нтернет ресур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5"/>
          <p:cNvSpPr/>
          <p:nvPr/>
        </p:nvSpPr>
        <p:spPr>
          <a:xfrm>
            <a:off x="785880" y="1285920"/>
            <a:ext cx="79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mrcpk.marsu.ru/works_iso/2006-11-27/elsukova/%CF%F0%E8%F8%E2%E8%ED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портрет Пришв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6"/>
          <p:cNvSpPr/>
          <p:nvPr/>
        </p:nvSpPr>
        <p:spPr>
          <a:xfrm>
            <a:off x="785880" y="2000160"/>
            <a:ext cx="77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biography.sgu.ru/bio/data/files/pictures/image/39450.jpg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 - И.Шишки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«Березовая рощ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7"/>
          <p:cNvSpPr/>
          <p:nvPr/>
        </p:nvSpPr>
        <p:spPr>
          <a:xfrm>
            <a:off x="785880" y="2571840"/>
            <a:ext cx="75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bse.sci-lib.com/pictures/04/18/22120518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И.Грабарь «На озер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9"/>
          <p:cNvSpPr/>
          <p:nvPr/>
        </p:nvSpPr>
        <p:spPr>
          <a:xfrm>
            <a:off x="714240" y="3143160"/>
            <a:ext cx="77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1.afisha.ru/MediaStorage/69/6d/696d457db9b1464ab656241df6ea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А.Саврасов   «Грачи прилетел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10"/>
          <p:cNvSpPr/>
          <p:nvPr/>
        </p:nvSpPr>
        <p:spPr>
          <a:xfrm>
            <a:off x="785880" y="3786120"/>
            <a:ext cx="771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img-fotki.yandex.ru/get/3503/senapa.3e/0_261d9_84f9dd5c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И.Левитан «Золотая осе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11"/>
          <p:cNvSpPr/>
          <p:nvPr/>
        </p:nvSpPr>
        <p:spPr>
          <a:xfrm>
            <a:off x="785880" y="435780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kumertime.ru/wp-content/uploads/2010/09/les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Лес, точно терем распис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12"/>
          <p:cNvSpPr/>
          <p:nvPr/>
        </p:nvSpPr>
        <p:spPr>
          <a:xfrm>
            <a:off x="785880" y="5000760"/>
            <a:ext cx="75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ihi.ru/pics/2009/10/16/845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Есть в осени первонача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7:14:16Z</dcterms:created>
  <dc:creator>Admin</dc:creator>
  <dc:description/>
  <dc:language>en-US</dc:language>
  <cp:lastModifiedBy>Дмитрий Каленюк</cp:lastModifiedBy>
  <dcterms:modified xsi:type="dcterms:W3CDTF">2019-11-10T16:51:11Z</dcterms:modified>
  <cp:revision>63</cp:revision>
  <dc:subject/>
  <dc:title>Интегрированный урок как средство развития универсальных учебных действий</dc:title>
</cp:coreProperties>
</file>