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4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25C-AFA3-4C7B-A244-914D1BEC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659-9D25-485C-96A9-C8573B5B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804-6BDC-4EA1-B4E1-8B7F0CBB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8FB-7AA0-469C-990D-E3CA2F51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437-A89B-4999-B6E4-DAA8521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F7A-11AD-436B-989D-99D9EB1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0D8-6A71-4E5D-B1C2-8AB2741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571-A3BB-4CE7-B0AB-7B018B7A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79C-5CF7-43D2-BB26-84F4300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8BF-A6DC-4E99-A271-F7EEB8E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84B-687A-4626-9E8E-1F2A7F2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149-5A23-4074-8839-4EF3568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3596-F902-4EE3-AB52-E8FE5B324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5/lenuschkam.18b/0_2a818_1bee6e87_XL" TargetMode="External"/><Relationship Id="rId3" Type="http://schemas.openxmlformats.org/officeDocument/2006/relationships/hyperlink" Target="http://img1.liveinternet.ru/images/foto/b/3/apps/0/904/904393_6.jpg" TargetMode="External"/><Relationship Id="rId4" Type="http://schemas.openxmlformats.org/officeDocument/2006/relationships/hyperlink" Target="http://fotki.yandex.ru/tag/&#1076;&#1086;&#1084;/users/gaysha1/view/286979/?page=0&amp;how=week" TargetMode="External"/><Relationship Id="rId5" Type="http://schemas.openxmlformats.org/officeDocument/2006/relationships/hyperlink" Target="http://s51.radikal.ru/i131/0912/10/bf2a0d0a1064.jpg" TargetMode="External"/><Relationship Id="rId6" Type="http://schemas.openxmlformats.org/officeDocument/2006/relationships/hyperlink" Target="http://img11.nnm.ru/7/d/a/c/5/1c401f9372ecb116804646d089b_prev.jpg" TargetMode="External"/><Relationship Id="rId7" Type="http://schemas.openxmlformats.org/officeDocument/2006/relationships/hyperlink" Target="http://img0.liveinternet.ru/images/attach/c/0/53/27/53027036_1262015527_46.jpg" TargetMode="External"/><Relationship Id="rId8" Type="http://schemas.openxmlformats.org/officeDocument/2006/relationships/hyperlink" Target="http://melochi-jizni.ru/_ph/12/2/246652657.jpg" TargetMode="External"/><Relationship Id="rId9" Type="http://schemas.openxmlformats.org/officeDocument/2006/relationships/hyperlink" Target="http://pani.zosya.haifainfo.ru/image/Tserdak/otkriki/Snegovik/6.jpg" TargetMode="External"/><Relationship Id="rId10" Type="http://schemas.openxmlformats.org/officeDocument/2006/relationships/hyperlink" Target="http://content.foto.mail.ru/mail/money.00/107/i-168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ni.zosya.haifainfo.ru/image/Tserdak/otkriki/Snegovik/6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ntent.foto.mail.ru/mail/money.00/107/i-1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042920" y="1341360"/>
            <a:ext cx="7128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неговик 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шит на карнавал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692360" y="260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изобразительного искусства в 1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95280" y="5373720"/>
            <a:ext cx="84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779800-14dfd1ec4fd73b66"/>
          <p:cNvPicPr/>
          <p:nvPr/>
        </p:nvPicPr>
        <p:blipFill>
          <a:blip r:embed="rId2"/>
          <a:stretch/>
        </p:blipFill>
        <p:spPr>
          <a:xfrm>
            <a:off x="6443640" y="981000"/>
            <a:ext cx="2324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708360" y="333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83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зите Снеговика с помощью кругов разной велич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948_a4"/>
          <p:cNvPicPr/>
          <p:nvPr/>
        </p:nvPicPr>
        <p:blipFill>
          <a:blip r:embed="rId2"/>
          <a:srcRect l="0" t="0" r="57299" b="62843"/>
          <a:stretch/>
        </p:blipFill>
        <p:spPr>
          <a:xfrm>
            <a:off x="539640" y="1989000"/>
            <a:ext cx="3294000" cy="39560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74" name="Text Box 8"/>
          <p:cNvSpPr/>
          <p:nvPr/>
        </p:nvSpPr>
        <p:spPr>
          <a:xfrm>
            <a:off x="971640" y="6093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24360" y="429264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лепили снежный ком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Будешь, ком, снеговиком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ху мы поставим д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верхний — го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4500720" y="335772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852000" y="4147560"/>
            <a:ext cx="481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 — морковка. Это раз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— стекляшки вместо глаз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веклой, при счёте «три!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 рисуем. Посмотр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588000" y="62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55640" y="587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1948_a4"/>
          <p:cNvPicPr/>
          <p:nvPr/>
        </p:nvPicPr>
        <p:blipFill>
          <a:blip r:embed="rId2"/>
          <a:srcRect l="49718" t="48669" r="5631" b="3858"/>
          <a:stretch/>
        </p:blipFill>
        <p:spPr>
          <a:xfrm>
            <a:off x="324000" y="1125360"/>
            <a:ext cx="3103560" cy="45309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443640" y="26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68360" y="2133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здайте эскиз карнавального костюма для Снеговика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684360" y="620640"/>
            <a:ext cx="763272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урнал Мод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неговико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5769000" cy="39402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_3cc9_f2458862_L[1]"/>
          <p:cNvPicPr/>
          <p:nvPr/>
        </p:nvPicPr>
        <p:blipFill>
          <a:blip r:embed="rId2"/>
          <a:stretch/>
        </p:blipFill>
        <p:spPr>
          <a:xfrm>
            <a:off x="197964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227772_snowman02"/>
          <p:cNvPicPr/>
          <p:nvPr/>
        </p:nvPicPr>
        <p:blipFill>
          <a:blip r:embed="rId2"/>
          <a:stretch/>
        </p:blipFill>
        <p:spPr>
          <a:xfrm>
            <a:off x="2400480" y="990720"/>
            <a:ext cx="4343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3975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39625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g13216"/>
          <p:cNvPicPr/>
          <p:nvPr/>
        </p:nvPicPr>
        <p:blipFill>
          <a:blip r:embed="rId2"/>
          <a:stretch/>
        </p:blipFill>
        <p:spPr>
          <a:xfrm>
            <a:off x="179280" y="260280"/>
            <a:ext cx="4280040" cy="6400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508720" y="2852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00720" y="450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оровод, хоровод...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яшет маленький народ.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нцевать у нашей елк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ы готовы целый год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newy82[1]"/>
          <p:cNvPicPr/>
          <p:nvPr/>
        </p:nvPicPr>
        <p:blipFill>
          <a:blip r:embed="rId3"/>
          <a:stretch/>
        </p:blipFill>
        <p:spPr>
          <a:xfrm>
            <a:off x="3780000" y="2492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newy82[1]"/>
          <p:cNvPicPr/>
          <p:nvPr/>
        </p:nvPicPr>
        <p:blipFill>
          <a:blip r:embed="rId4"/>
          <a:stretch/>
        </p:blipFill>
        <p:spPr>
          <a:xfrm>
            <a:off x="2987640" y="1268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newy82[1]"/>
          <p:cNvPicPr/>
          <p:nvPr/>
        </p:nvPicPr>
        <p:blipFill>
          <a:blip r:embed="rId5"/>
          <a:stretch/>
        </p:blipFill>
        <p:spPr>
          <a:xfrm>
            <a:off x="1042920" y="13413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newy82[1]"/>
          <p:cNvPicPr/>
          <p:nvPr/>
        </p:nvPicPr>
        <p:blipFill>
          <a:blip r:embed="rId6"/>
          <a:stretch/>
        </p:blipFill>
        <p:spPr>
          <a:xfrm>
            <a:off x="324000" y="23493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newy82[1]"/>
          <p:cNvPicPr/>
          <p:nvPr/>
        </p:nvPicPr>
        <p:blipFill>
          <a:blip r:embed="rId7"/>
          <a:stretch/>
        </p:blipFill>
        <p:spPr>
          <a:xfrm>
            <a:off x="2195640" y="692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8"/>
          <a:stretch/>
        </p:blipFill>
        <p:spPr>
          <a:xfrm>
            <a:off x="5076720" y="476280"/>
            <a:ext cx="2803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2340000" y="486900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овый год шагает по планете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юбят взрослые его и дети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ерез год опять придет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нам веселый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904393_6"/>
          <p:cNvPicPr/>
          <p:nvPr/>
        </p:nvPicPr>
        <p:blipFill>
          <a:blip r:embed="rId2"/>
          <a:stretch/>
        </p:blipFill>
        <p:spPr>
          <a:xfrm>
            <a:off x="900000" y="549360"/>
            <a:ext cx="7417080" cy="52354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755640" y="5950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е вокруг бело и снеж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8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39640" y="404640"/>
            <a:ext cx="806472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тернет – ресур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н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3005/lenuschkam.18b/0_2a818_1bee6e87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1.liveinternet.ru/images/foto/b/3/apps/0/904/904393_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ные узоры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tki.yandex.ru/tag/дом/users/gaysha1/view/286979/?page=0&amp;how=wee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ей на ветвях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51.radikal.ru/i131/0912/10/bf2a0d0a106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11.nnm.ru/7/d/a/c/5/1c401f9372ecb116804646d089b_prev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лепят снеговик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g0.liveinternet.ru/images/attach/c/0/53/27/53027036_1262015527_4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еговик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elochi-jizni.ru/_ph/12/2/24665265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и сорока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ani.zosya.haifainfo.ru/image/Tserdak/otkriki/Snegovik/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 пишут С Новым годом!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ontent.foto.mail.ru/mail/money.00/107/i-16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у елки  - http://papa-vlad.narod.ru/data/istorija/4-Novyj-god.files/0029-085-11-A-verite-li-vy-chto-pervaja-novogodnjaja-otkrytka-pojavilas-v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ейка снеговиков - http://img.sunhome.ru/UsersGallery/122004/18234714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в пальто - http://img0.liveinternet.ru/images/foto/b/1/apps/1/227/1227772_snowman02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- http://m.vgorode.ru/media_image/1007282/1842623/6.j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17-18 слайдах картинки сканированы автором из персональной коллекции откры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04292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зор на окнах неж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70549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6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116000" y="580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ей на ветвях как в сказ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69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6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332000" y="692280"/>
            <a:ext cx="6481800" cy="4730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1332000" y="5734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мороз лишь для остраст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6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03280" y="5516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о он не пугает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ти весело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4800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4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24000" y="2060640"/>
            <a:ext cx="396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оявился во дво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н в холодном декаб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еуклюжий и смеш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 катка стоит с метл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К ветру зимнему привы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аш приятель ..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265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31 из 23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76280"/>
            <a:ext cx="3966840" cy="56880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395280" y="5157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о однажды сорока Снеговику сказа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артинка 807 из 307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2400" y="333360"/>
            <a:ext cx="4464000" cy="62643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324000" y="1773360"/>
            <a:ext cx="3673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ъ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поляне у терема состоится праздник. Жду всех в карнавальных костю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д Моро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18:57Z</dcterms:created>
  <dc:creator>Admin</dc:creator>
  <dc:description/>
  <dc:language>en-US</dc:language>
  <cp:lastModifiedBy>Дмитрий Каленюк</cp:lastModifiedBy>
  <dcterms:modified xsi:type="dcterms:W3CDTF">2019-11-10T17:06:08Z</dcterms:modified>
  <cp:revision>62</cp:revision>
  <dc:subject/>
  <dc:title>Слайд 1</dc:title>
</cp:coreProperties>
</file>