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2D8-3B99-462D-A599-86D1C0E7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4A2-3851-409E-89A9-961976B5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998-B0C1-4D85-BAB5-1DC1B48D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F7C-2EBF-42B7-B374-484829D7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A053-8229-47D0-8AE3-52F559A4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3F9-C851-443C-92D0-6C95A05F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7C5-D286-47EC-8A9F-95E38B7C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8C7-2D1C-4D88-BD15-20E742DA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951-3AC2-473D-8AA1-E4473DCE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8B6-82EA-4A31-8CFC-25867300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D36-4894-4C4B-993D-AF4E5518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429-9C0A-4A78-B3C5-A63C8614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6E17-B32F-4E6A-BAF3-3AC1571B4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Расписное яйцо на подстав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765000"/>
            <a:ext cx="7488360" cy="5112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62040" y="19080"/>
            <a:ext cx="60199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9600" y="19080"/>
            <a:ext cx="61848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2600"/>
            <a:ext cx="59054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6680" y="19080"/>
            <a:ext cx="59306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31880" y="19080"/>
            <a:ext cx="58802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31880" y="19080"/>
            <a:ext cx="58802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81120" y="12600"/>
            <a:ext cx="59817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62040" y="19080"/>
            <a:ext cx="60199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Галина</cp:lastModifiedBy>
  <dcterms:modified xsi:type="dcterms:W3CDTF">2011-11-06T16:14:46Z</dcterms:modified>
  <cp:revision>8</cp:revision>
  <dc:subject/>
  <dc:title>Слайд 1</dc:title>
</cp:coreProperties>
</file>