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750-B43F-4BF0-8675-EED170C4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70B-A385-4142-B942-8051DA7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9A7-EE98-46FE-BDF1-E286593C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EFB-0840-49AB-BB13-022FCD99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FA3-0DEF-4302-B6C3-185086A6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7ED-1AC9-4EE0-8E92-58F973D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6F8-D57B-4DF2-8A33-9A05BCC4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00B-9B6A-4F6D-BF4D-F2E5B6C0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EF0-4264-48EC-94D7-94BE6AC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378-7117-4329-868C-17061D6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BEF-A29E-4D61-AF21-EEF782A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14E-2BFB-4F33-968A-B012001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5D16-C9EA-4EA4-B503-AEB286D7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765000"/>
            <a:ext cx="7488360" cy="511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9600" y="19080"/>
            <a:ext cx="61848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2600"/>
            <a:ext cx="5905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6680" y="19080"/>
            <a:ext cx="5930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31880" y="19080"/>
            <a:ext cx="5880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81120" y="12600"/>
            <a:ext cx="59817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62040" y="19080"/>
            <a:ext cx="60199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14:46Z</dcterms:modified>
  <cp:revision>8</cp:revision>
  <dc:subject/>
  <dc:title>Слайд 1</dc:title>
</cp:coreProperties>
</file>