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A8E-D4C4-4DBA-93FC-9E822F59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77B-1BC5-4110-9405-24F9A1E0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5F6-8901-44E4-B710-729A8E0F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DE1-983D-4E26-B2E2-3B758A54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3B8-9977-4C29-8AD3-0848E37F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1DB-ADFC-435B-AD71-445F3ACB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158-2BB5-4043-9DC9-2B5526A8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1BE-1004-46B7-9FB0-46A38475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8C1-0058-453D-9183-BCE2097A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F7E-77B7-4171-ADC5-8447AE6E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3EA-7107-458A-9200-9A8B1BEA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432-0894-4415-AB3C-17E55B66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7779-AA9D-47BD-AAF4-55DBBFD0D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Светот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Рисунок55"/>
          <p:cNvPicPr/>
          <p:nvPr/>
        </p:nvPicPr>
        <p:blipFill>
          <a:blip r:embed="rId1"/>
          <a:stretch/>
        </p:blipFill>
        <p:spPr>
          <a:xfrm>
            <a:off x="3000240" y="2286000"/>
            <a:ext cx="2905200" cy="32828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286000" y="5715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3880" y="188640"/>
            <a:ext cx="84362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Светотен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спределение света на поверхности предмета, которое зависит от формы предмета, характера поверхности(гладкая, шероховатая и т.п.), окраски и освещения, расстояния от зрителя до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3995640" y="2565360"/>
            <a:ext cx="44211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4722840" y="1401840"/>
            <a:ext cx="4421160" cy="4052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6408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С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вещённая поверхность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94200" y="260280"/>
            <a:ext cx="70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ен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бственная тень) – часть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, куда лучи света не попадают, то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свещённая поверхность предм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5080" y="260280"/>
            <a:ext cx="74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олут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ерхность предмета, освещё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ыми, скользящими лучами света. Слу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ом между освещённым участком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ен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96000" y="404640"/>
            <a:ext cx="71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Рефле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ражение в теневой части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а и цвета другой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69440" y="404640"/>
            <a:ext cx="656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Бл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амое светлое пятно на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24720" y="260280"/>
            <a:ext cx="7768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адающая т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ень, которая обра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конкретного предмета на какой-либ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а, стены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24720" y="5305320"/>
            <a:ext cx="776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адающая тен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тень, которая обра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 конкретного предмета на какой-либ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тола, стены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94200" y="260280"/>
            <a:ext cx="70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Тен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собственная тень) – часть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мета, куда лучи света не попадают, то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освещённая поверхность предме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21080" cy="292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4286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исуй клубок ниток карандашом и наложи штрихи, как показано на рису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751040" y="1450800"/>
            <a:ext cx="5484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1:08:25Z</dcterms:created>
  <dc:creator>Comp</dc:creator>
  <dc:description/>
  <dc:language>en-US</dc:language>
  <cp:lastModifiedBy>Дмитрий Каленюк</cp:lastModifiedBy>
  <dcterms:modified xsi:type="dcterms:W3CDTF">2019-11-10T16:46:54Z</dcterms:modified>
  <cp:revision>6</cp:revision>
  <dc:subject/>
  <dc:title>Светотен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