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CB79-851F-4F2E-BE0E-E4A37E280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AE46-3CDD-4A1A-AAFD-4048D0E0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1411-6073-4D45-A938-7F41DE279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5996-DEAA-4AE1-8F47-9B01FAFF9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B21B-BD80-4BDD-849F-19328983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6579-D81A-47D5-8641-AC1238CE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83BD-53C0-4596-AAA2-9320BFDF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AE56-472E-4DBB-A0D7-B6DEF78F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434F-6D6B-4E16-92BC-D9DDE94C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2365-5B11-4293-BA54-2B9FCB10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911E-05B6-4534-8155-B0074B6C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CECA-A715-4173-B4D8-F033ECCA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762B-C939-4279-9C78-0DF945CDB0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Светот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Рисунок55"/>
          <p:cNvPicPr/>
          <p:nvPr/>
        </p:nvPicPr>
        <p:blipFill>
          <a:blip r:embed="rId1"/>
          <a:stretch/>
        </p:blipFill>
        <p:spPr>
          <a:xfrm>
            <a:off x="3000240" y="2286000"/>
            <a:ext cx="2905200" cy="328284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2286000" y="5715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53880" y="188640"/>
            <a:ext cx="84362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Светотен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распределение света на поверхности предмета, которое зависит от формы предмета, характера поверхности(гладкая, шероховатая и т.п.), окраски и освещения, расстояния от зрителя до предм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3995640" y="2565360"/>
            <a:ext cx="442116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9" descr=""/>
          <p:cNvPicPr/>
          <p:nvPr/>
        </p:nvPicPr>
        <p:blipFill>
          <a:blip r:embed="rId1"/>
          <a:stretch/>
        </p:blipFill>
        <p:spPr>
          <a:xfrm>
            <a:off x="4722840" y="1401840"/>
            <a:ext cx="4421160" cy="4052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64087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Св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свещённая поверхность предм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94200" y="260280"/>
            <a:ext cx="70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Тен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обственная тень) – часть поверх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мета, куда лучи света не попадают, то е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свещённая поверхность предм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25080" y="260280"/>
            <a:ext cx="748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Полутен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оверхность предмета, освещён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ыми, скользящими лучами света. Служ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ходом между освещённым участком предм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ен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96000" y="404640"/>
            <a:ext cx="711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Рефлек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тражение в теневой части предм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та и цвета другой поверх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469440" y="404640"/>
            <a:ext cx="656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Бли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амое светлое пятно на поверх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м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24720" y="260280"/>
            <a:ext cx="7768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Падающая тен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тень, которая образ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конкретного предмета на какой-либо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ла, стены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324720" y="5305320"/>
            <a:ext cx="776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Падающая тень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тень, которая образ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т конкретного предмета на какой-либо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тола, стены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394200" y="260280"/>
            <a:ext cx="705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Тень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(собственная тень) – часть поверх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едмета, куда лучи света не попадают, то е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еосвещённая поверхность предме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321080" cy="2925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4211640" y="3645000"/>
            <a:ext cx="4286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исуй клубок ниток карандашом и наложи штрихи, как показано на рисун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1751040" y="1450800"/>
            <a:ext cx="54849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21:08:25Z</dcterms:created>
  <dc:creator>Comp</dc:creator>
  <dc:description/>
  <dc:language>en-US</dc:language>
  <cp:lastModifiedBy>Дмитрий Каленюк</cp:lastModifiedBy>
  <dcterms:modified xsi:type="dcterms:W3CDTF">2019-11-10T16:46:54Z</dcterms:modified>
  <cp:revision>6</cp:revision>
  <dc:subject/>
  <dc:title>Светотен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