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3423-FE9C-4167-A75B-6BFC3B639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A604-7C7B-479A-8352-2352E50C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3EF5-9DC4-41A0-8E35-9CC117E67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0E49-09B6-42B6-80A1-8FD046D3F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6C68-0294-48B1-9CCC-ADE6B7693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947C7-C7D9-41A6-9C9B-5517C794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8BC63-F683-479B-8CD0-558024BF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7867E-8A9A-464A-BBEB-CDB20148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988F-E171-4E8A-A080-2A5F3A27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5EAC-73E5-488A-87E6-18616AB0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D39D-33E9-49BF-A0D5-43D07F91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9FF8-4848-496A-BBFB-89B418B4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A0C1-C51E-4DCA-AC72-F98DEDCE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6BE1-7DF9-4E1F-8E3C-6BD68AA9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8EFC-5899-47F1-8CF1-72E89B02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D05E-2018-453D-A143-9C90129E7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BC1B-25D8-4BA5-A37D-14879D2AE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B355-2759-48F6-A8E4-A1C32059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CC36-2F8A-4426-BEDD-20F92CAA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A3D4-F0F4-483D-ACED-C0242C0E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79AD-C6BE-47A6-BBBA-48200D24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1F62-3C2E-4216-9BC0-165F7B43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F289-F459-467F-BEF7-3DB408DE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CE40-AD32-42BF-88BC-60A75534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e4f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1767c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28DD-FE6C-40A5-8096-386D6EA15263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e4f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1767c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6698-FA78-4513-8801-5C8DC3D2CBF5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681.photobucket.com/albums/vv173/estrella-lv/Venki/DSC_0020.jpg" TargetMode="External"/><Relationship Id="rId2" Type="http://schemas.openxmlformats.org/officeDocument/2006/relationships/hyperlink" Target="http://i681.photobucket.com/albums/vv173/estrella-lv/Venki/DSC_0020.jpg" TargetMode="External"/><Relationship Id="rId3" Type="http://schemas.openxmlformats.org/officeDocument/2006/relationships/hyperlink" Target="http://i681.photobucket.com/albums/vv173/estrella-lv/Venki/DSC_0020.jpg" TargetMode="External"/><Relationship Id="rId4" Type="http://schemas.openxmlformats.org/officeDocument/2006/relationships/hyperlink" Target="http://i681.photobucket.com/albums/vv173/estrella-lv/Venki/DSC_0020.jpg" TargetMode="External"/><Relationship Id="rId5" Type="http://schemas.openxmlformats.org/officeDocument/2006/relationships/hyperlink" Target="http://i681.photobucket.com/albums/vv173/estrella-lv/Venki/DSC_0020.jpg" TargetMode="External"/><Relationship Id="rId6" Type="http://schemas.openxmlformats.org/officeDocument/2006/relationships/hyperlink" Target="http://i681.photobucket.com/albums/vv173/estrella-lv/Venki/DSC_0020.jpg" TargetMode="External"/><Relationship Id="rId7" Type="http://schemas.openxmlformats.org/officeDocument/2006/relationships/hyperlink" Target="http://i681.photobucket.com/albums/vv173/estrella-lv/Venki/DSC_0020.jpg" TargetMode="External"/><Relationship Id="rId8" Type="http://schemas.openxmlformats.org/officeDocument/2006/relationships/hyperlink" Target="http://i681.photobucket.com/albums/vv173/estrella-lv/Venki/DSC_0020.jpg" TargetMode="External"/><Relationship Id="rId9" Type="http://schemas.openxmlformats.org/officeDocument/2006/relationships/image" Target="../media/image21.jpe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31640" y="260280"/>
            <a:ext cx="6840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cc"/>
                </a:solidFill>
                <a:latin typeface="Times New Roman"/>
              </a:rPr>
              <a:t>Венок в подарок</a:t>
            </a:r>
            <a:endParaRPr b="1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03280" y="2852280"/>
            <a:ext cx="64008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Презентацию подготовил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МОУ СОШ №13, г. Обнинск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Жукова Татьяна Анатольевн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2880000" cy="287352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724360" y="1844640"/>
            <a:ext cx="2194200" cy="287964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Конфетный венок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6626160" cy="504036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51" name=""/>
          <p:cNvSpPr/>
          <p:nvPr/>
        </p:nvSpPr>
        <p:spPr>
          <a:xfrm>
            <a:off x="324000" y="6237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86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Сделаем в подарок маме веночек?</a:t>
            </a:r>
            <a:br>
              <a:rPr sz="4000"/>
            </a:b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Приготовим для работы: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55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Цветную бумагу и картон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Клей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Ножницы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Карандаш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Циркуль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356000" y="2349360"/>
            <a:ext cx="4465800" cy="334980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55" name=""/>
          <p:cNvSpPr txBox="1"/>
          <p:nvPr/>
        </p:nvSpPr>
        <p:spPr>
          <a:xfrm>
            <a:off x="395280" y="5226120"/>
            <a:ext cx="4392720" cy="16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Помни!</a:t>
            </a:r>
            <a:endParaRPr b="1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Осторожно работай </a:t>
            </a:r>
            <a:endParaRPr b="1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с ножницами.</a:t>
            </a:r>
            <a:endParaRPr b="1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440208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Этапы работы: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676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ырезать прямоугольную полоску зелёного цвета (мягкий картон) 56 х 5 см для ободка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ырезать лепестки (заготовка- прямоугольник 8х5 см,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на один цветок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5 лепестков)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ырезать сердцевинки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2 c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219640" y="3141720"/>
            <a:ext cx="3745080" cy="280980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59" name=""/>
          <p:cNvSpPr txBox="1"/>
          <p:nvPr/>
        </p:nvSpPr>
        <p:spPr>
          <a:xfrm>
            <a:off x="468360" y="5373720"/>
            <a:ext cx="4464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cc"/>
                  </a:solidFill>
                  <a:miter/>
                </a:ln>
                <a:solidFill>
                  <a:srgbClr val="0000cc"/>
                </a:solidFill>
                <a:latin typeface="Times New Roman"/>
              </a:rPr>
              <a:t>Работай аккуратно!</a:t>
            </a:r>
            <a:endParaRPr b="0" lang="en-US" sz="2800" spc="1" strike="noStrike">
              <a:ln w="9360">
                <a:solidFill>
                  <a:srgbClr val="0000cc"/>
                </a:solidFill>
                <a:miter/>
              </a:ln>
              <a:solidFill>
                <a:srgbClr val="0000cc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914400" y="765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Закрути каждый лепесток на карандаш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5832720" cy="437508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757080" y="333000"/>
            <a:ext cx="66974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Собираем веночек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148360" y="692280"/>
            <a:ext cx="3816360" cy="286200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148360" y="3789360"/>
            <a:ext cx="3816360" cy="286236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395280" y="1916280"/>
            <a:ext cx="3349800" cy="446544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965920" y="188640"/>
            <a:ext cx="3178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Ресурсы: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8229600" cy="65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http</a:t>
            </a:r>
            <a:r>
              <a:rPr b="0" lang="ru-RU" sz="14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://i681.photobucket.com/</a:t>
            </a:r>
            <a:r>
              <a:rPr b="0" lang="ru-RU" sz="14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albums</a:t>
            </a:r>
            <a:r>
              <a:rPr b="0" lang="ru-RU" sz="1400" spc="-1" strike="noStrike" u="sng">
                <a:solidFill>
                  <a:srgbClr val="0000cc"/>
                </a:solidFill>
                <a:uFillTx/>
                <a:latin typeface="Times New Roman"/>
                <a:hlinkClick r:id="rId4"/>
              </a:rPr>
              <a:t>/vv173/</a:t>
            </a:r>
            <a:r>
              <a:rPr b="0" lang="ru-RU" sz="1400" spc="-1" strike="noStrike" u="sng">
                <a:solidFill>
                  <a:srgbClr val="0000cc"/>
                </a:solidFill>
                <a:uFillTx/>
                <a:latin typeface="Times New Roman"/>
                <a:hlinkClick r:id="rId5"/>
              </a:rPr>
              <a:t>estrella-lv</a:t>
            </a:r>
            <a:r>
              <a:rPr b="0" lang="ru-RU" sz="1400" spc="-1" strike="noStrike" u="sng">
                <a:solidFill>
                  <a:srgbClr val="0000cc"/>
                </a:solidFill>
                <a:uFillTx/>
                <a:latin typeface="Times New Roman"/>
                <a:hlinkClick r:id="rId6"/>
              </a:rPr>
              <a:t>/</a:t>
            </a:r>
            <a:r>
              <a:rPr b="0" lang="ru-RU" sz="1400" spc="-1" strike="noStrike" u="sng">
                <a:solidFill>
                  <a:srgbClr val="0000cc"/>
                </a:solidFill>
                <a:uFillTx/>
                <a:latin typeface="Times New Roman"/>
                <a:hlinkClick r:id="rId7"/>
              </a:rPr>
              <a:t>Venki</a:t>
            </a:r>
            <a:r>
              <a:rPr b="0" lang="ru-RU" sz="1400" spc="-1" strike="noStrike" u="sng">
                <a:solidFill>
                  <a:srgbClr val="0000cc"/>
                </a:solidFill>
                <a:uFillTx/>
                <a:latin typeface="Times New Roman"/>
                <a:hlinkClick r:id="rId8"/>
              </a:rPr>
              <a:t>/DSC_0020.jpg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конфетный венок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http://www.sad4you.ru/images/stories/Floristic/2_Radost_dlya_dushi/20_Kupelskiy_venok/1.jpg венок из полевых цветов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http://www.etost.ru/day/8marta/istor.shtml из истории праздника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http://img0.liveinternet.ru/images/attach/c/0/48/214/48214552_1216831591374514066629.jpg хоровод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http://www.stihi.ru/pics/2009/09/02/5012.jpg девушка в венке из ромашек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http://img0.liveinternet.ru/images/attach/c/0/51/618/51618096_berloga_net_279532722.jpg розы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http://www.chitalnya.ru/work.php?work=62869 стихотворение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Андрей - Виктория Андреев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http://dek-pri.narod.ru/decor_prikl/batik/kalash_bat12_b.jpg венок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http://s39.radikal.ru/i085/0903/ae/e8a330e01284.jpg  8 марта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http://slovari.yandex.ru/dict/shansky/article/1/sha-0434.htm словарь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http://megalife.com.ua/uploads/posts/2009-12/thumbs/1261596585_6.jpg девушка в венке из осенних листьев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http://www.photogorky.ru/photos/740047c3de9938013aa6c3c8a907373f.jp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девушка у воды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http://content.foto.mail.ru/mail/rovager/1417/i-1452.jpg Храм богини Весты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http://im6-tub.yandex.net/i?id=223373506&amp;tov=6 девочка с венком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http://images.cards.mail.ru/6c/49/303aae1f6acf9bd89672daf563ce496c.jpg Иван Купала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http://www.sai.msu.su/cjackson/waterhou/grafx/waterho1.jpg  фреска – женщины с цветами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http://fr.academic.ru/pictures/frwiki/80/Pompejanischer_Maler_um_60_v._Chr._001.jpg  фреска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9"/>
          <a:stretch/>
        </p:blipFill>
        <p:spPr>
          <a:xfrm>
            <a:off x="8028000" y="4292640"/>
            <a:ext cx="911160" cy="136836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181440" y="549000"/>
            <a:ext cx="496908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Скоро праздник!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7200" y="2860560"/>
            <a:ext cx="3676680" cy="20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В России 8 марта празднуется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с 1913 года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859280" y="907920"/>
            <a:ext cx="3898800" cy="547236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Древние модницы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3899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Уже в древнем Риме существовал женский день. Облачённые в лучшие одежды, с благоухающими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венками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на головах, римлянки приходили в храм богини Весты - хранительницы домашнего очага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427640" y="1484280"/>
            <a:ext cx="4449600" cy="446400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56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Что такое венок?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067280" y="1557360"/>
            <a:ext cx="4825800" cy="356220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179280" y="2133720"/>
            <a:ext cx="392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Венец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буквально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"украшение, сплетённое, свитое" (из листьев, цветов)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40040" y="5661000"/>
            <a:ext cx="688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Венок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-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праздничный головной убор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Храм богини Весты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6040440" cy="407988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300720" y="1268280"/>
            <a:ext cx="2624040" cy="537372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Праздник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Ивана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Купала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 был присущ многим славянским народам.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330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Купальские праздники совершались во времена язычества в честь Бога Солнца, супругой которого была светоносная Заряда, красная девица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43280" y="2133720"/>
            <a:ext cx="4146840" cy="403200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40" name=""/>
          <p:cNvSpPr txBox="1"/>
          <p:nvPr/>
        </p:nvSpPr>
        <p:spPr>
          <a:xfrm>
            <a:off x="5796000" y="6237360"/>
            <a:ext cx="183816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Times New Roman"/>
              </a:rPr>
              <a:t>7 июля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Девушки бросали в воду 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венки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, по ним гадали, скоро ли замуж?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635280" y="2637000"/>
            <a:ext cx="5327640" cy="398916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3264120" cy="489564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914400" y="549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В пряди чёрных волос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Заплетаю цветы: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Сто одиннадцать роз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Для твоей красоты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                          И вокруг головы 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                          Из ромашек венок –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                          Оберег от молвы, 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                Чтоб никто сглазить не мог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219640" y="404640"/>
            <a:ext cx="3456000" cy="259272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50920" y="3141720"/>
            <a:ext cx="2752560" cy="352908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Венок из полевых цветов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201080" cy="475632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18:03:38Z</dcterms:created>
  <dc:creator>Tania</dc:creator>
  <dc:description/>
  <dc:language>en-US</dc:language>
  <cp:lastModifiedBy>Tania</cp:lastModifiedBy>
  <dcterms:modified xsi:type="dcterms:W3CDTF">2010-08-29T04:35:32Z</dcterms:modified>
  <cp:revision>15</cp:revision>
  <dc:subject/>
  <dc:title>Слайд 1</dc:title>
</cp:coreProperties>
</file>