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F0C-6804-4BE9-ACC0-D887A64C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B44-6745-42A7-98DA-AC095B0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34E-9E46-454F-93A5-E1A5BC84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CC9-5DAB-40CE-998B-98EBAD7B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991B-AA36-4F53-9442-DE0CDC14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8140-D001-4AC6-A682-5C027A7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D926-E039-4A66-9A51-D4BCD91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74E-1F35-4AC5-87F9-0E1D020C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565-B713-4646-8EBE-3AE25CB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226F-B7D3-4814-A4C6-81D3671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6C0-A0DC-4A70-AF2E-3108678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20C-01A7-45BF-9238-CEFEE5F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78E5-CEB2-46FC-8581-58A9697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0B1E-6DD8-429A-8939-C808C9A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BE2C-8B03-4FB6-B1CC-380B5614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270F-8356-4A69-B324-44A0B922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885-49DF-4803-9204-8217572C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B4E-662E-4004-84AD-60C4D1EA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E7C-64D8-4232-9AB9-2B90DD1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0DE-E76C-4738-B065-0B4A5B8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2A8-01DF-4842-90A6-A476A486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6FD-F117-4866-AFD2-3EC0CFD0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924-156F-4F6E-B7DB-A6BCE85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526-0056-442E-B321-77AC552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4A9-C499-40A0-8EF6-814E9D444E91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E84-024F-4A14-AB5B-E958B8B2B0E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681.photobucket.com/albums/vv173/estrella-lv/Venki/DSC_0020.jpg" TargetMode="External"/><Relationship Id="rId2" Type="http://schemas.openxmlformats.org/officeDocument/2006/relationships/hyperlink" Target="http://i681.photobucket.com/albums/vv173/estrella-lv/Venki/DSC_0020.jpg" TargetMode="External"/><Relationship Id="rId3" Type="http://schemas.openxmlformats.org/officeDocument/2006/relationships/hyperlink" Target="http://i681.photobucket.com/albums/vv173/estrella-lv/Venki/DSC_0020.jpg" TargetMode="External"/><Relationship Id="rId4" Type="http://schemas.openxmlformats.org/officeDocument/2006/relationships/hyperlink" Target="http://i681.photobucket.com/albums/vv173/estrella-lv/Venki/DSC_0020.jpg" TargetMode="External"/><Relationship Id="rId5" Type="http://schemas.openxmlformats.org/officeDocument/2006/relationships/hyperlink" Target="http://i681.photobucket.com/albums/vv173/estrella-lv/Venki/DSC_0020.jpg" TargetMode="External"/><Relationship Id="rId6" Type="http://schemas.openxmlformats.org/officeDocument/2006/relationships/hyperlink" Target="http://i681.photobucket.com/albums/vv173/estrella-lv/Venki/DSC_0020.jpg" TargetMode="External"/><Relationship Id="rId7" Type="http://schemas.openxmlformats.org/officeDocument/2006/relationships/hyperlink" Target="http://i681.photobucket.com/albums/vv173/estrella-lv/Venki/DSC_0020.jpg" TargetMode="External"/><Relationship Id="rId8" Type="http://schemas.openxmlformats.org/officeDocument/2006/relationships/hyperlink" Target="http://i681.photobucket.com/albums/vv173/estrella-lv/Venki/DSC_0020.jpg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840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Times New Roman"/>
              </a:rPr>
              <a:t>Венок в подарок</a:t>
            </a:r>
            <a:endParaRPr b="1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резентацию подготови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МОУ СОШ №13, г. Обнинск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Жукова Татьяна Анатолье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880000" cy="2873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194200" cy="2879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Конфетный вен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6160" cy="5040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2400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Сделаем в подарок маме веночек?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Приготовим для работы: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ветную бумагу и картон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К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Ножниц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Карандаш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иркул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465800" cy="334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5280" y="5226120"/>
            <a:ext cx="439272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омни!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Осторожно работай 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 ножницами.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402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Этапы работ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прямоугольную полоску зелёного цвета (мягкий картон) 56 х 5 см для ободка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лепестки (заготовка- прямоугольник 8х5 см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один цветок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5 лепестков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резать сердцевинк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2 c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745080" cy="280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9" name=""/>
          <p:cNvSpPr txBox="1"/>
          <p:nvPr/>
        </p:nvSpPr>
        <p:spPr>
          <a:xfrm>
            <a:off x="468360" y="5373720"/>
            <a:ext cx="446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аботай аккуратно!</a:t>
            </a:r>
            <a:endParaRPr b="0" lang="en-US" sz="2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Закрути каждый лепесток на карандаш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832720" cy="4375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757080" y="333000"/>
            <a:ext cx="6697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обираем веноче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8360" y="692280"/>
            <a:ext cx="3816360" cy="286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349800" cy="4465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65920" y="188640"/>
            <a:ext cx="3178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Ресурсы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22960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://i681.photobucket.com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lbums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/vv173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estrella-lv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Venki</a:t>
            </a:r>
            <a:r>
              <a:rPr b="0" lang="ru-RU" sz="1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/DSC_0020.jpg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конфетный ве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d4you.ru/images/stories/Floristic/2_Radost_dlya_dushi/20_Kupelskiy_venok/1.jpg венок из полевых цвет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etost.ru/day/8marta/istor.shtml из истории праздни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48/214/48214552_1216831591374514066629.jpg хорово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tihi.ru/pics/2009/09/02/5012.jpg девушка в венке из ромаше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g0.liveinternet.ru/images/attach/c/0/51/618/51618096_berloga_net_279532722.jpg роз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chitalnya.ru/work.php?work=62869 стихотворени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Андрей - Виктория Андреев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dek-pri.narod.ru/decor_prikl/batik/kalash_bat12_b.jpg венок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39.radikal.ru/i085/0903/ae/e8a330e01284.jpg  8 март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slovari.yandex.ru/dict/shansky/article/1/sha-0434.htm словар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megalife.com.ua/uploads/posts/2009-12/thumbs/1261596585_6.jpg девушка в венке из осенних листье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photogorky.ru/photos/740047c3de9938013aa6c3c8a907373f.jp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девушка у вод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content.foto.mail.ru/mail/rovager/1417/i-1452.jpg Храм богини Весты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6-tub.yandex.net/i?id=223373506&amp;tov=6 девочка с венком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images.cards.mail.ru/6c/49/303aae1f6acf9bd89672daf563ce496c.jpg Иван Купал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www.sai.msu.su/cjackson/waterhou/grafx/waterho1.jpg  фреска – женщины с цвета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http://fr.academic.ru/pictures/frwiki/80/Pompejanischer_Maler_um_60_v._Chr._001.jpg  фрес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8028000" y="4292640"/>
            <a:ext cx="911160" cy="1368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81440" y="549000"/>
            <a:ext cx="4969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коро праздник!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7200" y="2860560"/>
            <a:ext cx="367668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В России 8 марта празднуется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 1913 год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898800" cy="5472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Древние модниц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899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Уже в древнем Риме существовал женский день. Облачённые в лучшие одежды, с благоухающими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венками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головах, римлянки приходили в храм богини Весты - хранительницы домашнего очаг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449600" cy="4464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Что такое венок?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35622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9280" y="2133720"/>
            <a:ext cx="39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Венец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буквально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"украшение, сплетённое, свитое" (из листьев, цветов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0040" y="56610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Вено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праздничный головной убо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Храм богини Вест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6040440" cy="4079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624040" cy="5373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Праздник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вана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Купала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был присущ многим славянским народам.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33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Купальские праздники совершались во времена язычества в честь Бога Солнца, супругой которого была светоносная Заряда, красная девица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46840" cy="40320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5796000" y="6237360"/>
            <a:ext cx="1838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7 июля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Девушки бросали в воду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венки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, по ним гадали, скоро ли замуж?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327640" cy="39891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264120" cy="4895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В пряди чёрных волос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Заплетаю цветы: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Сто одиннадцать ро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Для твоей красоты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И вокруг головы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Из ромашек венок –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Оберег от молвы,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Чтоб никто сглазить не мог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456000" cy="2592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752560" cy="35290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енок из полевых цветов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201080" cy="47563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03:38Z</dcterms:created>
  <dc:creator>Tania</dc:creator>
  <dc:description/>
  <dc:language>en-US</dc:language>
  <cp:lastModifiedBy>Tania</cp:lastModifiedBy>
  <dcterms:modified xsi:type="dcterms:W3CDTF">2010-08-29T04:35:32Z</dcterms:modified>
  <cp:revision>15</cp:revision>
  <dc:subject/>
  <dc:title>Слайд 1</dc:title>
</cp:coreProperties>
</file>