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FB0-CA0E-4BCE-98F4-FE5C1315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E5A-0620-4279-8F6D-8436223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907-51DB-4713-BB6D-DD2B57D2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C02-0AE1-45C2-A49E-2C95E13B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5BC-FF85-46E6-B65A-F22E77C3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55AD-A981-4770-93E0-F9D9E66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7530-1E4A-409D-94E1-DE90A716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C74-D07E-4B09-BD45-8A3FD01D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D15E-BF2D-4B0F-9364-DDF73DA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E7D0-B9B6-4462-BCF6-1B2CEE3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5273-A053-4E68-A7E7-540405D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8E9-746B-4326-A65C-38783CE1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4A2-1879-4212-AF12-6D35D5A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68F-BEC9-4667-8ADA-03B44CAD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0F7B-BC61-408D-972E-524CC21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85F-E27C-4DA0-A66B-BDB1D0DA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B659-42A0-49B1-9463-3BC8D22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D89-8EAA-47F0-89E1-1584C018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327-0620-41EC-B75C-E4AE8123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E90-9B5B-40CD-AAFE-0EB71DB6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191-4577-44F0-9E95-2D1445C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67F-DB67-4F80-80A7-36BD85E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076-9D26-448C-8808-FBD2554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6B3-0811-4B01-81B6-3128FE8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910-3466-407A-8E59-7AB7B04E2603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575-08B7-4E49-9467-82D4390C0A40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DO%A1%25DO%25BO&#1088;%25DO%25BO&#1092;%25DO%25BO%25DO%BD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еселый девичий хоровод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7488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Художественный труд. 3 клас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Раздел программы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: работа с бумагой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Вид художественной обработки материала</a:t>
            </a:r>
            <a:r>
              <a:rPr b="1" lang="en-US" sz="2000" spc="-1" strike="noStrike">
                <a:solidFill>
                  <a:srgbClr val="404176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 начальное объемное конструирование скручивания, складывания, вырезания с декоративной разделкой, склеивания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Вид творческой работы:</a:t>
            </a:r>
            <a:r>
              <a:rPr b="1" i="1" lang="en-US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Объемное конструирование из бумаги игрушки-куклы  в русском народном костюме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Автор разработки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: учитель технологии МОУ «СОШ № 2 им. А.С.Пушкина» г. Костомукши Старикова В.В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4529160" cy="6264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50920" y="5229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Сарафан  (этнографический словарь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Выставка «Веселый девичий хоровод»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500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family-history.ru/material/history/kostum/kostum_3.htm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1. Л. В. Ефимова - Русский народный костюм (18-20вв.). [1989]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narodko.ru/article/vio/carafan.ht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bashedu.ru/konkurs/kirsanova/SDM/club/russian.ht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narodko.ru/article/vio/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71640" y="9079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403280" y="1314000"/>
            <a:ext cx="255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Женский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комплекс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с сарафаном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состоял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из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убах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и сарафан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6240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595680" cy="554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87280" y="1700280"/>
            <a:ext cx="24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оверх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рафана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овязывал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дник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708360" y="907920"/>
            <a:ext cx="3960720" cy="5616720"/>
            <a:chOff x="3708360" y="907920"/>
            <a:chExt cx="3960720" cy="5616720"/>
          </a:xfrm>
        </p:grpSpPr>
        <p:pic>
          <p:nvPicPr>
            <p:cNvPr id="350" name="" descr="Русский народный крестьянский костюм"/>
            <p:cNvPicPr/>
            <p:nvPr/>
          </p:nvPicPr>
          <p:blipFill>
            <a:blip r:embed="rId1"/>
            <a:stretch/>
          </p:blipFill>
          <p:spPr>
            <a:xfrm>
              <a:off x="3708360" y="907920"/>
              <a:ext cx="3960720" cy="23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4716360" y="3068640"/>
              <a:ext cx="2585880" cy="345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37620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1480" y="3235320"/>
            <a:ext cx="235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Женские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головные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уборы -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вязка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окошник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«сорока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836640"/>
            <a:ext cx="3728880" cy="5400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424040" y="1844640"/>
            <a:ext cx="449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ужская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традиционная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убаха -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рубаха - косоворотк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3168720" cy="2270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Последовательность конструирования бумажной куклы в русском народном костюме.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1557360"/>
            <a:ext cx="2808360" cy="188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059280" y="1628640"/>
            <a:ext cx="2519280" cy="1792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724360" y="155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667640" y="1197000"/>
            <a:ext cx="1297080" cy="2521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250920" y="4076640"/>
            <a:ext cx="1966680" cy="2089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2556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780000" y="3645000"/>
            <a:ext cx="4752720" cy="2774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473800" cy="2735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227640" y="155736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Узорное прокалывание бумаги при помощи шила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436536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Кукла готова</a:t>
            </a: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5159520" cy="5472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68360" y="9117000"/>
            <a:ext cx="4960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Последовательность конструирования </a:t>
            </a:r>
            <a:r>
              <a:rPr b="0" lang="en-US" sz="2800" spc="-1" strike="noStrike" u="sng">
                <a:solidFill>
                  <a:srgbClr val="c09e4a"/>
                </a:solidFill>
                <a:uFillTx/>
                <a:latin typeface="Times New Roman"/>
                <a:hlinkClick r:id="rId1"/>
              </a:rPr>
              <a:t>сарафан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456000" cy="2294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580000" y="1052640"/>
            <a:ext cx="3311640" cy="28051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195640" y="3213000"/>
            <a:ext cx="3365280" cy="3456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30117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9:01:30Z</dcterms:created>
  <dc:creator>Старикова</dc:creator>
  <dc:description/>
  <dc:language>en-US</dc:language>
  <cp:lastModifiedBy>Галина</cp:lastModifiedBy>
  <dcterms:modified xsi:type="dcterms:W3CDTF">2009-08-31T17:49:24Z</dcterms:modified>
  <cp:revision>17</cp:revision>
  <dc:subject/>
  <dc:title>Веселый девичий хоровод </dc:title>
</cp:coreProperties>
</file>