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100-CA01-4026-963E-36354419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2D5-0420-40F7-A176-6F70A8B3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370-EB81-401D-8125-3B5A2A88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B23-1F6E-437B-B156-6D734B0C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FB77-56B1-425F-B296-4FCF6040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1C93-5CBC-4001-B785-ACCCEFE6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8671-F970-4242-856C-EDDE8925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A78B-D31A-491E-86D2-443C5186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572A-617A-4549-8CE4-A99532C3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D446-7FEB-4AC0-B155-2B0B21DF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E2C7-9603-4CBE-9533-C79A2019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038-14C2-4677-B524-C7332C41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CA02-D309-4182-BCCA-890C3EBA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E6B9-B10A-4D2B-BC32-C5202F7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8FEE-B9FD-4B28-B2F2-AEFF38D0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F794-8984-45EE-A348-67F37DA6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B56B-C726-46E3-816A-C995B49B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C04-8E3E-4D6B-9A98-BBB8C8F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A5C-E206-4989-823C-C396E93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940-D219-446A-947B-009829D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F47-B794-4331-8B52-EC5266F1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828-0D7C-4732-8CDA-6FB8589E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063-C495-4DFF-8668-42EC4238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660-A6C9-4704-9AC8-2F72DEDA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177B-3946-48D9-BD1F-3B91AAA4473A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F77E-BE0D-430B-9835-3D51BD5A3B35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25DO%A1%25DO%25BO&#1088;%25DO%25BO&#1092;%25DO%25BO%25DO%BD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Веселый девичий хоровод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71640" y="3716280"/>
            <a:ext cx="7488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Художественный труд. 3 класс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04176"/>
                </a:solidFill>
                <a:uFillTx/>
                <a:latin typeface="Times New Roman"/>
              </a:rPr>
              <a:t>Раздел программы</a:t>
            </a: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: работа с бумагой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04176"/>
                </a:solidFill>
                <a:uFillTx/>
                <a:latin typeface="Times New Roman"/>
              </a:rPr>
              <a:t>Вид художественной обработки материала</a:t>
            </a:r>
            <a:r>
              <a:rPr b="1" lang="en-US" sz="2000" spc="-1" strike="noStrike">
                <a:solidFill>
                  <a:srgbClr val="404176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 начальное объемное конструирование скручивания, складывания, вырезания с декоративной разделкой, склеивания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404176"/>
                </a:solidFill>
                <a:uFillTx/>
                <a:latin typeface="Times New Roman"/>
              </a:rPr>
              <a:t>Вид творческой работы:</a:t>
            </a:r>
            <a:r>
              <a:rPr b="1" i="1" lang="en-US" sz="18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Объемное конструирование из бумаги игрушки-куклы  в русском народном костюме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04176"/>
                </a:solidFill>
                <a:uFillTx/>
                <a:latin typeface="Times New Roman"/>
              </a:rPr>
              <a:t>Автор разработки</a:t>
            </a:r>
            <a:r>
              <a:rPr b="1" lang="en-US" sz="1800" spc="-1" strike="noStrike">
                <a:solidFill>
                  <a:srgbClr val="404176"/>
                </a:solidFill>
                <a:latin typeface="Times New Roman"/>
              </a:rPr>
              <a:t>: учитель технологии МОУ «СОШ № 2 им. А.С.Пушкина» г. Костомукши Старикова В.В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4529160" cy="6264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50920" y="522936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Сарафан  (этнографический словарь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176"/>
                </a:solidFill>
                <a:latin typeface="Times New Roman"/>
              </a:rPr>
              <a:t>Выставка «Веселый девичий хоровод»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5000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http://www.family-history.ru/material/history/kostum/kostum_3.htm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1. Л. В. Ефимова - Русский народный костюм (18-20вв.). [1989]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http://www.narodko.ru/article/vio/carafan.htm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http://www.bashedu.ru/konkurs/kirsanova/SDM/club/russian.htm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http://www.narodko.ru/article/vio/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71640" y="9079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403280" y="1314000"/>
            <a:ext cx="255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Женский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комплекс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с сарафаном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состоял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из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убахи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и сарафан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6240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572000" y="765000"/>
            <a:ext cx="3595680" cy="554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87280" y="1700280"/>
            <a:ext cx="244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оверх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арафана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овязывал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ередник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708360" y="907920"/>
            <a:ext cx="3960720" cy="5616720"/>
            <a:chOff x="3708360" y="907920"/>
            <a:chExt cx="3960720" cy="5616720"/>
          </a:xfrm>
        </p:grpSpPr>
        <p:pic>
          <p:nvPicPr>
            <p:cNvPr id="350" name="" descr="Русский народный крестьянский костюм"/>
            <p:cNvPicPr/>
            <p:nvPr/>
          </p:nvPicPr>
          <p:blipFill>
            <a:blip r:embed="rId1"/>
            <a:stretch/>
          </p:blipFill>
          <p:spPr>
            <a:xfrm>
              <a:off x="3708360" y="907920"/>
              <a:ext cx="3960720" cy="23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>
              <a:off x="4716360" y="3068640"/>
              <a:ext cx="2585880" cy="345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>
            <a:off x="37620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1480" y="3235320"/>
            <a:ext cx="235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Женские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головные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уборы -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овязка,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окошник,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«сорока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836640"/>
            <a:ext cx="3728880" cy="5400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424040" y="1844640"/>
            <a:ext cx="449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Мужская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традиционная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рубаха -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рубаха - косоворотк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3168720" cy="22701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69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176"/>
                </a:solidFill>
                <a:latin typeface="Times New Roman"/>
              </a:rPr>
              <a:t>Последовательность конструирования бумажной куклы в русском народном костюме.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1557360"/>
            <a:ext cx="2808360" cy="1889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059280" y="1628640"/>
            <a:ext cx="2519280" cy="17924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724360" y="1557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667640" y="1197000"/>
            <a:ext cx="1297080" cy="2521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250920" y="4076640"/>
            <a:ext cx="1966680" cy="2089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2556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780000" y="3645000"/>
            <a:ext cx="4752720" cy="27748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5473800" cy="27352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227640" y="155736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176"/>
                </a:solidFill>
                <a:latin typeface="Times New Roman"/>
              </a:rPr>
              <a:t>Узорное прокалывание бумаги при помощи шила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436536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Times New Roman"/>
              </a:rPr>
              <a:t>Кукла готова</a:t>
            </a:r>
            <a:r>
              <a:rPr b="0" lang="en-US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5159520" cy="54723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68360" y="9117000"/>
            <a:ext cx="49608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Последовательность конструирования </a:t>
            </a:r>
            <a:r>
              <a:rPr b="0" lang="en-US" sz="2800" spc="-1" strike="noStrike" u="sng">
                <a:solidFill>
                  <a:srgbClr val="c09e4a"/>
                </a:solidFill>
                <a:uFillTx/>
                <a:latin typeface="Times New Roman"/>
                <a:hlinkClick r:id="rId1"/>
              </a:rPr>
              <a:t>сарафан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456000" cy="2294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580000" y="1052640"/>
            <a:ext cx="3311640" cy="28051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195640" y="3213000"/>
            <a:ext cx="3365280" cy="3456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5867280" y="4437000"/>
            <a:ext cx="301176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9:01:30Z</dcterms:created>
  <dc:creator>Старикова</dc:creator>
  <dc:description/>
  <dc:language>en-US</dc:language>
  <cp:lastModifiedBy>Галина</cp:lastModifiedBy>
  <dcterms:modified xsi:type="dcterms:W3CDTF">2009-08-31T17:49:24Z</dcterms:modified>
  <cp:revision>17</cp:revision>
  <dc:subject/>
  <dc:title>Веселый девичий хоровод </dc:title>
</cp:coreProperties>
</file>