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AEA-2F4A-4694-B590-59B65F42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C7C-ADD4-4E1E-BFFF-37A48AD5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876-7B60-4E18-B0A5-763E3BA1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C5A-D242-4CF9-BEAA-1FE4D737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BF6-DBC6-4772-9732-AFB63656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DAD-DED0-4790-B5CD-3042D03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DFE-AB89-449A-BBF9-344E02A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8C3-34E7-47A1-B52C-060938D4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B1E-2A13-4AEF-858F-7B2C5E28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C08-22E2-412B-9250-A73C6EF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728-7935-4C55-B9DF-4F7913FD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F36-265D-40AD-B76D-D7C5E28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83B-1B30-49F9-9DE7-DDC1B1539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259920"/>
            <a:ext cx="641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Разноцветные ко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1339920"/>
            <a:ext cx="7885080" cy="551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692280"/>
            <a:ext cx="8951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 наплакал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М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 в мешке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Что-то такое, о достоинств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свойствах чего заранее не зн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ить как кошка с собакой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Сс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шки на душе скребут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Тревожно, неспокой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оброе слово и кошке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8158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11560" y="0"/>
            <a:ext cx="4520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79600" y="33336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пасибо за хорошую рабо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3691080" cy="45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41800" cy="229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0:28:36Z</dcterms:created>
  <dc:creator>Галина</dc:creator>
  <dc:description/>
  <dc:language>en-US</dc:language>
  <cp:lastModifiedBy>Галина</cp:lastModifiedBy>
  <dcterms:modified xsi:type="dcterms:W3CDTF">2010-08-29T20:47:54Z</dcterms:modified>
  <cp:revision>3</cp:revision>
  <dc:subject/>
  <dc:title>Слайд 1</dc:title>
</cp:coreProperties>
</file>