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6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8E4-D937-4BC6-9A9A-96C60A6D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A71-B6B6-47E9-8FF4-C1C4FEF8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791-FBC4-45D7-82C5-E403CDD4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630C-9A19-4B45-9A93-014CF462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16E-D7F8-4019-A7CF-F057CF21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16A1-6C10-42ED-8094-97E504DD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9784-19A7-44D1-90F7-1CCC9974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2C7-D4FA-4EF0-863D-C4A4B59D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2C6-2A1E-4F5F-8BEB-8A24F56F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0BF-286E-4BE8-9C1A-2AF729B1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2257-62C8-4E8C-B946-99375574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335-B845-4BFD-9C02-45A5380E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E7AD-71C6-466D-B554-326286698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80320" y="259920"/>
            <a:ext cx="641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Разноцветные кот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55640" y="1339920"/>
            <a:ext cx="7885080" cy="5518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5040" y="692280"/>
            <a:ext cx="8951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от наплакал. – </a:t>
            </a:r>
            <a:r>
              <a:rPr b="1" i="1" lang="ru-RU" sz="2800" spc="-1" strike="noStrike">
                <a:solidFill>
                  <a:srgbClr val="9900ff"/>
                </a:solidFill>
                <a:latin typeface="Arial"/>
              </a:rPr>
              <a:t>М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от в мешке. – </a:t>
            </a:r>
            <a:r>
              <a:rPr b="1" i="1" lang="ru-RU" sz="2800" spc="-1" strike="noStrike">
                <a:solidFill>
                  <a:srgbClr val="9900ff"/>
                </a:solidFill>
                <a:latin typeface="Arial"/>
              </a:rPr>
              <a:t>Что-то такое, о достоинств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Arial"/>
              </a:rPr>
              <a:t>свойствах чего заранее не зна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Жить как кошка с собакой. – </a:t>
            </a:r>
            <a:r>
              <a:rPr b="1" i="1" lang="ru-RU" sz="2800" spc="-1" strike="noStrike">
                <a:solidFill>
                  <a:srgbClr val="9900ff"/>
                </a:solidFill>
                <a:latin typeface="Arial"/>
              </a:rPr>
              <a:t>Ссор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ошки на душе скребут. – </a:t>
            </a:r>
            <a:r>
              <a:rPr b="1" i="1" lang="ru-RU" sz="2800" spc="-1" strike="noStrike">
                <a:solidFill>
                  <a:srgbClr val="9900ff"/>
                </a:solidFill>
                <a:latin typeface="Arial"/>
              </a:rPr>
              <a:t>Тревожно, неспокой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Доброе слово и кошке прия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93080" y="4797360"/>
            <a:ext cx="18158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16240" y="0"/>
            <a:ext cx="4511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316240" y="0"/>
            <a:ext cx="451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316240" y="0"/>
            <a:ext cx="45115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16240" y="0"/>
            <a:ext cx="45115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311560" y="0"/>
            <a:ext cx="45208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79600" y="333360"/>
            <a:ext cx="68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Спасибо за хорошую работ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771640" y="2060640"/>
            <a:ext cx="3691080" cy="4508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588000" y="4149720"/>
            <a:ext cx="2341800" cy="2293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79280" y="1700280"/>
            <a:ext cx="2533680" cy="2533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20:28:36Z</dcterms:created>
  <dc:creator>Галина</dc:creator>
  <dc:description/>
  <dc:language>en-US</dc:language>
  <cp:lastModifiedBy>Галина</cp:lastModifiedBy>
  <dcterms:modified xsi:type="dcterms:W3CDTF">2010-08-29T20:47:54Z</dcterms:modified>
  <cp:revision>3</cp:revision>
  <dc:subject/>
  <dc:title>Слайд 1</dc:title>
</cp:coreProperties>
</file>