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34E-9EAD-457B-A82A-DACDEBD6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15D-418E-49C2-BF46-F8DCC14E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233-8E1E-4A2B-9D41-FFFE6849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A99-A648-4670-8F86-04843F7A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FC49-D698-49FE-B3B6-061B6D2F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2EAA-324D-412D-B9E1-C4C3E390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F41E-2A14-42FA-AA45-5238126E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8F0F-FF26-45CB-9140-7C26C17B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F584-751E-4E32-8070-51A07F06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E077-4259-4304-AB86-4C02737B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56AE-71B8-4721-8F4D-F59E46BD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C91-FFAC-4606-87BC-935CF56F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0726-416C-41B2-B0E1-CC0AF68D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51E1-61FD-4108-A1CD-B8BA3329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1C70-CB32-4EE2-85D6-208AE0F0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C744-79BB-47EF-9CCB-504508A7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BC1C-757C-4E8D-93E1-ECC78713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7FA-B9BA-4F06-95A1-0C09BCA5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8A0-E1F2-4F40-BBE4-3F37C5A9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12F-4631-4540-A210-10584B80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D8A-3046-49EC-BBBC-BDDC1683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0A4-7572-48CB-B1A2-7BC941E4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6365-8041-42FA-943E-6A31B428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A6F-9343-4BBA-BF7D-CB63C558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4F3E-287C-403D-BDD6-5267B4FB1C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FE9E-7381-4695-A31D-AB6986AE699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Муниципальное общеобразовательное учреждение Владимирская средняя школа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4800" spc="-1" strike="noStrike" u="sng">
                <a:solidFill>
                  <a:srgbClr val="feec94"/>
                </a:solidFill>
                <a:uFillTx/>
                <a:latin typeface="Arial"/>
              </a:rPr>
              <a:t>Урок музыки в 5 классе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4000" y="3933720"/>
            <a:ext cx="8064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а: учитель музы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иселёва Татьяна Василье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457200" y="277920"/>
          <a:ext cx="8435880" cy="5852880"/>
        </p:xfrm>
        <a:graphic>
          <a:graphicData uri="http://schemas.openxmlformats.org/drawingml/2006/table">
            <a:tbl>
              <a:tblPr/>
              <a:tblGrid>
                <a:gridCol w="2109960"/>
                <a:gridCol w="1788840"/>
                <a:gridCol w="2592360"/>
                <a:gridCol w="1944720"/>
              </a:tblGrid>
              <a:tr h="58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) слушание произведения Р.Бойко «Осенний пейзаж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) сравнение картин художников (слайд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хожи ли прослушанные поизведения по характеру? Попробуйте доказа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какие картины вы представляете, слушая эту музыку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чём сходство данных картин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какое они вызывают настроени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как художникам удалось передать грусть, вызванную наступлением осени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ащиеся обосновывают свою точку зр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лают словесное  рисование прослушанной музы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чают на вопросы. Анализирую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4356000" y="333360"/>
            <a:ext cx="4570560" cy="6191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3557520" cy="371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0" y="260280"/>
            <a:ext cx="4284720" cy="2797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4"/>
          <a:stretch/>
        </p:blipFill>
        <p:spPr>
          <a:xfrm>
            <a:off x="250920" y="2637000"/>
            <a:ext cx="3819600" cy="44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"/>
          <p:cNvPicPr/>
          <p:nvPr/>
        </p:nvPicPr>
        <p:blipFill>
          <a:blip r:embed="rId5"/>
          <a:stretch/>
        </p:blipFill>
        <p:spPr>
          <a:xfrm>
            <a:off x="0" y="6572160"/>
            <a:ext cx="4952880" cy="285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6"/>
          <a:stretch/>
        </p:blipFill>
        <p:spPr>
          <a:xfrm>
            <a:off x="4572000" y="6237360"/>
            <a:ext cx="40766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79280" y="476280"/>
          <a:ext cx="8713800" cy="5913360"/>
        </p:xfrm>
        <a:graphic>
          <a:graphicData uri="http://schemas.openxmlformats.org/drawingml/2006/table">
            <a:tbl>
              <a:tblPr/>
              <a:tblGrid>
                <a:gridCol w="2089080"/>
                <a:gridCol w="1943280"/>
                <a:gridCol w="2535120"/>
                <a:gridCol w="2146320"/>
              </a:tblGrid>
              <a:tr h="344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) работа со стихотворением А.С.Пушкина «ОСЕНЬ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ое словосочетание использует автор, чтобы показать, что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ень-грустное время год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как относится Пушкин к осени? Подтвердите примерами из тек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их читает подготовленный уче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ащиеся отвечают на вопрос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7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) обобщ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то общего между всеми этими произведениями искусств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делайте выв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комментарии учител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лают выв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457200" y="476280"/>
          <a:ext cx="8362800" cy="5832360"/>
        </p:xfrm>
        <a:graphic>
          <a:graphicData uri="http://schemas.openxmlformats.org/drawingml/2006/table">
            <a:tbl>
              <a:tblPr/>
              <a:tblGrid>
                <a:gridCol w="1913040"/>
                <a:gridCol w="2346120"/>
                <a:gridCol w="2117880"/>
                <a:gridCol w="1985760"/>
              </a:tblGrid>
              <a:tr h="19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физкультминут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нять эмоциональное напряже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ожу игру «Аплодисменты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ти играют в пар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Работа над развитием вокально-певческих навы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) загад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лайд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вивать вокально-певческие навы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гадывают загад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Я – ваша подруг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Я – ваша попутчиц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 пути без меня ничего не получитс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о мною, друзья, всегда интересн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Узнали , кто я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Ну конечно же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457200" y="620640"/>
          <a:ext cx="8229600" cy="5510160"/>
        </p:xfrm>
        <a:graphic>
          <a:graphicData uri="http://schemas.openxmlformats.org/drawingml/2006/table">
            <a:tbl>
              <a:tblPr/>
              <a:tblGrid>
                <a:gridCol w="2243160"/>
                <a:gridCol w="1800360"/>
                <a:gridCol w="2128680"/>
                <a:gridCol w="2057400"/>
              </a:tblGrid>
              <a:tr h="27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) повторение правил п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лайд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тают правила п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) упражнение на дых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ожу упражнение на дыхание(считаем Егоро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авила пен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 время пения сиди прямо. Лучше петь сто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д началом пения спокойно бери дыхание. Не поднимай плеч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рерывай слово дыхани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ении правильно произноси гласные и четко согласные, чтобы были понятны все сло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яни звук. Пой выразитель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457200" y="549360"/>
          <a:ext cx="8229600" cy="5581440"/>
        </p:xfrm>
        <a:graphic>
          <a:graphicData uri="http://schemas.openxmlformats.org/drawingml/2006/table">
            <a:tbl>
              <a:tblPr/>
              <a:tblGrid>
                <a:gridCol w="2459160"/>
                <a:gridCol w="1655640"/>
                <a:gridCol w="2057400"/>
                <a:gridCol w="2057400"/>
              </a:tblGrid>
              <a:tr h="27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) работа с попевк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лайд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ти поют на одном дыхании, на одной ноте , растягивая гласные и чётко произнеся согласны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 хоровое и индивидуальное  исполнение песни «Маленький принц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 чём эта песня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жно ли её поставить в один ряд с изученными произведениями искусств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чают на вопрос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пев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Тропинкою осеннею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Шагаем мы с тобой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Тропинкою осеннею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Тропинкою лесной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68360" y="333360"/>
          <a:ext cx="8229600" cy="6229440"/>
        </p:xfrm>
        <a:graphic>
          <a:graphicData uri="http://schemas.openxmlformats.org/drawingml/2006/table">
            <a:tbl>
              <a:tblPr/>
              <a:tblGrid>
                <a:gridCol w="2057400"/>
                <a:gridCol w="1830240"/>
                <a:gridCol w="2521080"/>
                <a:gridCol w="1820880"/>
              </a:tblGrid>
              <a:tr h="39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) Этап рефлекс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явить степень усвоения учебного материал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ие качества помогают человеку глубже почувствовать  и понять произведение искусств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назовите несколько произведений различных видов искусства, объединённых общей темой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ащиеся отвечают на вопрос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9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) Итог урок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ть оценку работы учащихся на уро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ениваю работу учащихся, выставляю отметки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ект уро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узыки в 5класс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ема: «Искусства различны, тема един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р программы: В.В.Алеев, Т.И.Науменк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Спасибо за уро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820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Цель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Раскрытие взаимосвязи между различными видами искусства: музыкой, живописью, литературой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Образовательные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Учить понимать смысл произведений различных видов искусств. Учить понимать особенности музыкального языка. Осуществлять межпредметные связ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 Воспитатель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Воспитывать в детях чувство прекрасного через соприкосновение с миром искусства. Воспитывать интерес к музыкальной культур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 Развивающ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Развивать вокально-певческие навыки и умения, музыкальный слух, память, мышление. Развивать творческое воображение и речь учащихся путём словесного рисования по прослушанной мелод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60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Тип уро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зучение нового материа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етоды работ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Словесные: беседа, объяснение учител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Наглядные: компьютерные сл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Формы работ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Фронтальн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Работа в пар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борудование уро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Компьют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Мультимедийный про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Фонохрестоматия 5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Аудиомагнитоф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предметные связи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литература, изобразительная деятель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eec94"/>
                </a:solidFill>
                <a:uFillTx/>
                <a:latin typeface="Times New Roman"/>
              </a:rPr>
              <a:t>Структура урока:</a:t>
            </a: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1. Оргмомент.  Вход детей в класс под музыку Чайковского. (1мин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2. Сообщение темы и цели урока. (3 мин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3.Изучение нового материала. Анализ художественного ряда, состоящего из произведений различных видов искусств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  (20 мин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Слушание П.И.Чайковский «Октябрь» из цикла «Времена года».(аудиозапись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арактеристика (характер, средства музыкальной выразительности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Слушание Р.Бойко «Осенний пейзаж».(аудиозапись) Словесное рисов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Сравнение картин художников.(И.И.Левитан «Золотая осень», «Осенний день. Сокольники», И.И.Бродский «Опавшие листья»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Работа с отрывком  из стихотворения  А.С.Пушкина «Осень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Об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4.Физкультминутка. (2 мин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5.Работа над развитием вокально-певческих навыков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:      (15 мин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Работа с загад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Повторение правил п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Упражнение на дых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Работа с попев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Хоровое и индивидуальное исполнение песни «Маленький принц»(фонограмм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муз. М.Таривердиева, сл. Н. Добронравова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6.Этап рефлексии.  (2мин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7.Итог урока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.  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Выход детей под музыку Чайковского.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        (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2 мин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Ход урок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981000"/>
          <a:ext cx="8497800" cy="5448240"/>
        </p:xfrm>
        <a:graphic>
          <a:graphicData uri="http://schemas.openxmlformats.org/drawingml/2006/table">
            <a:tbl>
              <a:tblPr/>
              <a:tblGrid>
                <a:gridCol w="2089080"/>
                <a:gridCol w="2663640"/>
                <a:gridCol w="2160720"/>
                <a:gridCol w="15843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ы уро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дактическая задач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ятельность учащих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91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Организационный моме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Сообщение темы и цели уро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моционально настроить детей на ур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готовить учащихся к изучению новой те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ожительно настраиваю детей на ур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тупительное слово 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«Осень, осыпается весь наш бедный сад…»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(А.Толстой)</a:t>
            </a:r>
            <a:br>
              <a:rPr sz="2000"/>
            </a:br>
            <a:r>
              <a:rPr b="1" i="1" lang="ru-RU" sz="3500" spc="-1" strike="noStrike">
                <a:solidFill>
                  <a:srgbClr val="feec94"/>
                </a:solidFill>
                <a:latin typeface="Times New Roman"/>
              </a:rPr>
              <a:t>Тема: Искусства различны, тема едина.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2238480" cy="2447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2"/>
          <a:stretch/>
        </p:blipFill>
        <p:spPr>
          <a:xfrm>
            <a:off x="1587600" y="3941640"/>
            <a:ext cx="2214360" cy="272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3"/>
          <a:stretch/>
        </p:blipFill>
        <p:spPr>
          <a:xfrm>
            <a:off x="5508720" y="1413000"/>
            <a:ext cx="2735280" cy="2690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"/>
          <p:cNvPicPr/>
          <p:nvPr/>
        </p:nvPicPr>
        <p:blipFill>
          <a:blip r:embed="rId4"/>
          <a:stretch/>
        </p:blipFill>
        <p:spPr>
          <a:xfrm>
            <a:off x="4932360" y="4149720"/>
            <a:ext cx="4032360" cy="2631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"/>
          <p:cNvPicPr/>
          <p:nvPr/>
        </p:nvPicPr>
        <p:blipFill>
          <a:blip r:embed="rId5"/>
          <a:stretch/>
        </p:blipFill>
        <p:spPr>
          <a:xfrm>
            <a:off x="1763640" y="3500280"/>
            <a:ext cx="1971720" cy="324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"/>
          <p:cNvPicPr/>
          <p:nvPr/>
        </p:nvPicPr>
        <p:blipFill>
          <a:blip r:embed="rId6"/>
          <a:stretch/>
        </p:blipFill>
        <p:spPr>
          <a:xfrm>
            <a:off x="1835280" y="6237360"/>
            <a:ext cx="1800000" cy="36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7"/>
          <a:stretch/>
        </p:blipFill>
        <p:spPr>
          <a:xfrm>
            <a:off x="6012000" y="3860640"/>
            <a:ext cx="15904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50920" y="260280"/>
          <a:ext cx="8642160" cy="7302600"/>
        </p:xfrm>
        <a:graphic>
          <a:graphicData uri="http://schemas.openxmlformats.org/drawingml/2006/table">
            <a:tbl>
              <a:tblPr/>
              <a:tblGrid>
                <a:gridCol w="2017440"/>
                <a:gridCol w="1727280"/>
                <a:gridCol w="3024360"/>
                <a:gridCol w="1873080"/>
              </a:tblGrid>
              <a:tr h="3445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Изучение нового материала. Анализ художественного ряда, состоящего из произведений различных видов искусств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крыть взаимосвязь между различными видами искус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)слушание произведения П.И.Чайковского «ОСЕНЬ» из цикла «Времена год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даю вопросы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понравилось ли вам произведение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какое настроение оно у вас вызывает?почему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ерите эпитеты,характеризующие мелоди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назовите средства музыкальной выразительност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чают на вопрос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писывают эпитеты в тетрадь, сравнивают, обмениваются. называют средства музыкальной выразительнос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есёлая, тревожная, спокойная, плавная, грустная, медленная, бодрая, быстрая, торжественная, взволнованная, энергичная, нежная, поэтична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5:06:01Z</dcterms:created>
  <dc:creator>1</dc:creator>
  <dc:description/>
  <dc:language>en-US</dc:language>
  <cp:lastModifiedBy>Холодова СВ</cp:lastModifiedBy>
  <cp:lastPrinted>2019-11-18T05:52:19Z</cp:lastPrinted>
  <dcterms:modified xsi:type="dcterms:W3CDTF">2019-11-18T06:00:57Z</dcterms:modified>
  <cp:revision>9</cp:revision>
  <dc:subject/>
  <dc:title>«Осень, осыпается весь наш бедный сад…» (А.Толстой) Тема: Искусства различны, тема едина. </dc:title>
</cp:coreProperties>
</file>