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3000-0162-4170-BFFE-F99EB6C3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D4D2-7B87-4127-8430-E64770FA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2C85-03B2-437B-BA7D-B54BCB38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9678-354B-4EA8-974F-04480099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31B3-204A-4A2C-AC17-67A42C43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186B-4761-45DF-95F1-7EC355E4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7672-26C0-46DA-BE66-608DA2FB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2CFB-7B2B-419E-8324-A0B9C88F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50A1-D849-4C35-9652-A950EEDB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2EE3-0079-4A97-B1A7-C07C929E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B486-D2D3-4A9D-90FF-5FDF8774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762E-18C3-439C-A69E-4A3EE339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D2CA-181A-4755-8887-B0CF3DDD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D0AE-0308-4C37-A5D6-0D2526A0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A81D-C23B-4285-B2F1-F2F55CB1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99CE-7FD8-4548-B68F-81A51017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DC90-41DF-4591-B3B9-06CC504C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FAE4-84F0-4CCF-8BE7-DBDC3125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163A-AE95-40DA-9F84-B30327BF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E984-3E74-4F2B-95A9-9FE99425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8A72-6780-4BDC-8283-861AF0A6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2467-F62B-4C2A-8BA9-A076F55B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7C18-9D67-4C39-AE07-9BD47DEF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88CD-0950-4DCF-B77B-52873295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8751-7361-496F-9001-9E9B33CFD9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CBFF-FDF1-4D89-B40E-16BE730DD3B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Муниципальное общеобразовательное учреждение Владимирская средняя школа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4800" spc="-1" strike="noStrike" u="sng">
                <a:solidFill>
                  <a:srgbClr val="feec94"/>
                </a:solidFill>
                <a:uFillTx/>
                <a:latin typeface="Arial"/>
              </a:rPr>
              <a:t>Урок музыки в 5 классе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4000" y="3933720"/>
            <a:ext cx="8064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полнила: учитель музы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иселёва Татьяна Василье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457200" y="277920"/>
          <a:ext cx="8435880" cy="5852880"/>
        </p:xfrm>
        <a:graphic>
          <a:graphicData uri="http://schemas.openxmlformats.org/drawingml/2006/table">
            <a:tbl>
              <a:tblPr/>
              <a:tblGrid>
                <a:gridCol w="2109960"/>
                <a:gridCol w="1788840"/>
                <a:gridCol w="2592360"/>
                <a:gridCol w="1944720"/>
              </a:tblGrid>
              <a:tr h="58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) слушание произведения Р.Бойко «Осенний пейзаж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) сравнение картин художников (слайд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хожи ли прослушанные поизведения по характеру? Попробуйте доказат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какие картины вы представляете, слушая эту музыку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чём сходство данных картин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какое они вызывают настроение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как художникам удалось передать грусть, вызванную наступлением осени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ащиеся обосновывают свою точку зре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лают словесное  рисование прослушанной музык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вечают на вопросы. Анализирую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1"/>
          <a:stretch/>
        </p:blipFill>
        <p:spPr>
          <a:xfrm>
            <a:off x="4356000" y="333360"/>
            <a:ext cx="4570560" cy="6191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395280" y="3141720"/>
            <a:ext cx="3557520" cy="371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0" y="260280"/>
            <a:ext cx="4284720" cy="2797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"/>
          <p:cNvPicPr/>
          <p:nvPr/>
        </p:nvPicPr>
        <p:blipFill>
          <a:blip r:embed="rId4"/>
          <a:stretch/>
        </p:blipFill>
        <p:spPr>
          <a:xfrm>
            <a:off x="250920" y="2637000"/>
            <a:ext cx="3819600" cy="447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"/>
          <p:cNvPicPr/>
          <p:nvPr/>
        </p:nvPicPr>
        <p:blipFill>
          <a:blip r:embed="rId5"/>
          <a:stretch/>
        </p:blipFill>
        <p:spPr>
          <a:xfrm>
            <a:off x="0" y="6572160"/>
            <a:ext cx="4952880" cy="285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"/>
          <p:cNvPicPr/>
          <p:nvPr/>
        </p:nvPicPr>
        <p:blipFill>
          <a:blip r:embed="rId6"/>
          <a:stretch/>
        </p:blipFill>
        <p:spPr>
          <a:xfrm>
            <a:off x="4572000" y="6237360"/>
            <a:ext cx="407664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79280" y="476280"/>
          <a:ext cx="8713800" cy="5913360"/>
        </p:xfrm>
        <a:graphic>
          <a:graphicData uri="http://schemas.openxmlformats.org/drawingml/2006/table">
            <a:tbl>
              <a:tblPr/>
              <a:tblGrid>
                <a:gridCol w="2089080"/>
                <a:gridCol w="1943280"/>
                <a:gridCol w="2535120"/>
                <a:gridCol w="2146320"/>
              </a:tblGrid>
              <a:tr h="344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) работа со стихотворением А.С.Пушкина «ОСЕНЬ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кое словосочетание использует автор, чтобы показать, что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сень-грустное время года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как относится Пушкин к осени? Подтвердите примерами из текс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их читает подготовленный уче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ащиеся отвечают на вопрос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7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) обобщ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то общего между всеми этими произведениями искусства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делайте выво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комментарии учител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лают выв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457200" y="476280"/>
          <a:ext cx="8362800" cy="5832360"/>
        </p:xfrm>
        <a:graphic>
          <a:graphicData uri="http://schemas.openxmlformats.org/drawingml/2006/table">
            <a:tbl>
              <a:tblPr/>
              <a:tblGrid>
                <a:gridCol w="1913040"/>
                <a:gridCol w="2346120"/>
                <a:gridCol w="2117880"/>
                <a:gridCol w="1985760"/>
              </a:tblGrid>
              <a:tr h="19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физкультминут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нять эмоциональное напряжени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вожу игру «Аплодисменты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ти играют в пар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Работа над развитием вокально-певческих навы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) загад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слайд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вивать вокально-певческие навык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гадывают загадк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Я – ваша подруг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Я – ваша попутчиц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В пути без меня ничего не получится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Со мною, друзья, всегда интересно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Узнали , кто я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Ну конечно же 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457200" y="620640"/>
          <a:ext cx="8229600" cy="5510160"/>
        </p:xfrm>
        <a:graphic>
          <a:graphicData uri="http://schemas.openxmlformats.org/drawingml/2006/table">
            <a:tbl>
              <a:tblPr/>
              <a:tblGrid>
                <a:gridCol w="2243160"/>
                <a:gridCol w="1800360"/>
                <a:gridCol w="2128680"/>
                <a:gridCol w="2057400"/>
              </a:tblGrid>
              <a:tr h="27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) повторение правил п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слайд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тают правила п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) упражнение на дых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вожу упражнение на дыхание(считаем Егорок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авила пения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 время пения сиди прямо. Лучше петь сто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ед началом пения спокойно бери дыхание. Не поднимай плеч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прерывай слово дыхание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пении правильно произноси гласные и четко согласные, чтобы были понятны все сло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яни звук. Пой выразительн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457200" y="549360"/>
          <a:ext cx="8229600" cy="5581440"/>
        </p:xfrm>
        <a:graphic>
          <a:graphicData uri="http://schemas.openxmlformats.org/drawingml/2006/table">
            <a:tbl>
              <a:tblPr/>
              <a:tblGrid>
                <a:gridCol w="2459160"/>
                <a:gridCol w="1655640"/>
                <a:gridCol w="2057400"/>
                <a:gridCol w="2057400"/>
              </a:tblGrid>
              <a:tr h="27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) работа с попевко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слайд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ти поют на одном дыхании, на одной ноте , растягивая гласные и чётко произнеся согласны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</a:t>
                      </a: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 хоровое и индивидуальное  исполнение песни «Маленький принц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 чём эта песня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жно ли её поставить в один ряд с изученными произведениями искусства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вечают на вопрос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пев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Тропинкою осеннею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Шагаем мы с тобой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Тропинкою осеннею,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Тропинкою лесной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68360" y="333360"/>
          <a:ext cx="8229600" cy="6229440"/>
        </p:xfrm>
        <a:graphic>
          <a:graphicData uri="http://schemas.openxmlformats.org/drawingml/2006/table">
            <a:tbl>
              <a:tblPr/>
              <a:tblGrid>
                <a:gridCol w="2057400"/>
                <a:gridCol w="1830240"/>
                <a:gridCol w="2521080"/>
                <a:gridCol w="1820880"/>
              </a:tblGrid>
              <a:tr h="3935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) Этап рефлекс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явить степень усвоения учебного материал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кие качества помогают человеку глубже почувствовать  и понять произведение искусства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назовите несколько произведений различных видов искусства, объединённых общей темой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ащиеся отвечают на вопросы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9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) Итог урок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ать оценку работы учащихся на уро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цениваю работу учащихся, выставляю отметки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оект уро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музыки в 5класс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ема: «Искусства различны, тема един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втор программы: В.В.Алеев, Т.И.Науменк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</a:rPr>
              <a:t>Спасибо за уро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820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Цель: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Раскрытие взаимосвязи между различными видами искусства: музыкой, живописью, литературой</a:t>
            </a: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Задачи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1.Образовательные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Учить понимать смысл произведений различных видов искусств. Учить понимать особенности музыкального языка. Осуществлять межпредметные связ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. Воспитатель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Воспитывать в детях чувство прекрасного через соприкосновение с миром искусства. Воспитывать интерес к музыкальной культур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. Развивающ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Развивать вокально-певческие навыки и умения, музыкальный слух, память, мышление. Развивать творческое воображение и речь учащихся путём словесного рисования по прослушанной мелод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229600" cy="60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Тип уро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зучение нового материал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Методы работ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Словесные: беседа, объяснение учител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Наглядные: компьютерные слай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Формы работ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Фронтальна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Работа в пара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Оборудование уро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Компьюте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Мультимедийный про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Фонохрестоматия 5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Аудиомагнитофо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жпредметные связи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литература, изобразительная деятельн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eec94"/>
                </a:solidFill>
                <a:uFillTx/>
                <a:latin typeface="Times New Roman"/>
              </a:rPr>
              <a:t>Структура урока:</a:t>
            </a:r>
            <a:br>
              <a:rPr sz="3600"/>
            </a:b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3640" y="69192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1. Оргмомент.  Вход детей в класс под музыку Чайковского. (1мин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2. Сообщение темы и цели урока. (3 мин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3.Изучение нового материала. Анализ художественного ряда, состоящего из произведений различных видов искусств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  (20 мин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Слушание П.И.Чайковский «Октябрь» из цикла «Времена года».(аудиозапись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арактеристика (характер, средства музыкальной выразительности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Слушание Р.Бойко «Осенний пейзаж».(аудиозапись) Словесное рисова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Сравнение картин художников.(И.И.Левитан «Золотая осень», «Осенний день. Сокольники», И.И.Бродский «Опавшие листья»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Работа с отрывком  из стихотворения  А.С.Пушкина «Осень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Обобщ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4.Физкультминутка. (2 мин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5.Работа над развитием вокально-певческих навыков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:      (15 мин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Работа с загад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Повторение правил п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Упражнение на дыха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Работа с попев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Хоровое и индивидуальное исполнение песни «Маленький принц»(фонограмма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муз. М.Таривердиева, сл. Н. Добронравова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6.Этап рефлексии.  (2мин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7.Итог урока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.   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Выход детей под музыку Чайковского.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         (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2 мин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Ход урок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0920" y="981000"/>
          <a:ext cx="8497800" cy="5448240"/>
        </p:xfrm>
        <a:graphic>
          <a:graphicData uri="http://schemas.openxmlformats.org/drawingml/2006/table">
            <a:tbl>
              <a:tblPr/>
              <a:tblGrid>
                <a:gridCol w="2089080"/>
                <a:gridCol w="2663640"/>
                <a:gridCol w="2160720"/>
                <a:gridCol w="15843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ы уро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дактическая задач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ятельность учите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ятельность учащих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5916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Организационный момен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Сообщение темы и цели уро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моционально настроить детей на ур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готовить учащихся к изучению новой те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ожительно настраиваю детей на ур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тупительное слово учите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«Осень, осыпается весь наш бедный сад…»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(А.Толстой)</a:t>
            </a:r>
            <a:br>
              <a:rPr sz="2000"/>
            </a:br>
            <a:r>
              <a:rPr b="1" i="1" lang="ru-RU" sz="3500" spc="-1" strike="noStrike">
                <a:solidFill>
                  <a:srgbClr val="feec94"/>
                </a:solidFill>
                <a:latin typeface="Times New Roman"/>
              </a:rPr>
              <a:t>Тема: Искусства различны, тема едина.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Picture 13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2238480" cy="2447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"/>
          <p:cNvPicPr/>
          <p:nvPr/>
        </p:nvPicPr>
        <p:blipFill>
          <a:blip r:embed="rId2"/>
          <a:stretch/>
        </p:blipFill>
        <p:spPr>
          <a:xfrm>
            <a:off x="1587600" y="3941640"/>
            <a:ext cx="2214360" cy="272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"/>
          <p:cNvPicPr/>
          <p:nvPr/>
        </p:nvPicPr>
        <p:blipFill>
          <a:blip r:embed="rId3"/>
          <a:stretch/>
        </p:blipFill>
        <p:spPr>
          <a:xfrm>
            <a:off x="5508720" y="1413000"/>
            <a:ext cx="2735280" cy="2690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"/>
          <p:cNvPicPr/>
          <p:nvPr/>
        </p:nvPicPr>
        <p:blipFill>
          <a:blip r:embed="rId4"/>
          <a:stretch/>
        </p:blipFill>
        <p:spPr>
          <a:xfrm>
            <a:off x="4932360" y="4149720"/>
            <a:ext cx="4032360" cy="2631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"/>
          <p:cNvPicPr/>
          <p:nvPr/>
        </p:nvPicPr>
        <p:blipFill>
          <a:blip r:embed="rId5"/>
          <a:stretch/>
        </p:blipFill>
        <p:spPr>
          <a:xfrm>
            <a:off x="1763640" y="3500280"/>
            <a:ext cx="1971720" cy="324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9" descr=""/>
          <p:cNvPicPr/>
          <p:nvPr/>
        </p:nvPicPr>
        <p:blipFill>
          <a:blip r:embed="rId6"/>
          <a:stretch/>
        </p:blipFill>
        <p:spPr>
          <a:xfrm>
            <a:off x="1835280" y="6237360"/>
            <a:ext cx="1800000" cy="360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0" descr=""/>
          <p:cNvPicPr/>
          <p:nvPr/>
        </p:nvPicPr>
        <p:blipFill>
          <a:blip r:embed="rId7"/>
          <a:stretch/>
        </p:blipFill>
        <p:spPr>
          <a:xfrm>
            <a:off x="6012000" y="3860640"/>
            <a:ext cx="159048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250920" y="260280"/>
          <a:ext cx="8642160" cy="7302600"/>
        </p:xfrm>
        <a:graphic>
          <a:graphicData uri="http://schemas.openxmlformats.org/drawingml/2006/table">
            <a:tbl>
              <a:tblPr/>
              <a:tblGrid>
                <a:gridCol w="2017440"/>
                <a:gridCol w="1727280"/>
                <a:gridCol w="3024360"/>
                <a:gridCol w="1873080"/>
              </a:tblGrid>
              <a:tr h="3445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Изучение нового материала. Анализ художественного ряда, состоящего из произведений различных видов искусств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крыть взаимосвязь между различными видами искус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)слушание произведения П.И.Чайковского «ОСЕНЬ» из цикла «Времена года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даю вопросы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понравилось ли вам произведение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какое настроение оно у вас вызывает?почему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берите эпитеты,характеризующие мелодию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назовите средства музыкальной выразительности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вечают на вопрос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писывают эпитеты в тетрадь, сравнивают, обмениваются. называют средства музыкальной выразительност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есёлая, тревожная, спокойная, плавная, грустная, медленная, бодрая, быстрая, торжественная, взволнованная, энергичная, нежная, поэтична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5:06:01Z</dcterms:created>
  <dc:creator>1</dc:creator>
  <dc:description/>
  <dc:language>en-US</dc:language>
  <cp:lastModifiedBy>Холодова СВ</cp:lastModifiedBy>
  <cp:lastPrinted>2019-11-18T05:52:19Z</cp:lastPrinted>
  <dcterms:modified xsi:type="dcterms:W3CDTF">2019-11-18T06:00:57Z</dcterms:modified>
  <cp:revision>9</cp:revision>
  <dc:subject/>
  <dc:title>«Осень, осыпается весь наш бедный сад…» (А.Толстой) Тема: Искусства различны, тема едина. </dc:title>
</cp:coreProperties>
</file>