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302-23C0-424C-B2CD-043DEEBC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E30-1EFF-4BD9-9D8A-B7583C0A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673-6F8A-44E5-B92D-50906CBB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6DD-6985-4136-8B4D-48181A13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DDA7-59C9-487C-91D9-7B08D5D2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2733-5E76-43D7-9233-5CAADA43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8532-3C1A-4B13-A2D0-B27D351E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185-24A6-489C-A6A3-DBFB824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D63A-635B-4743-B54C-2E3CA07A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D4F1-8F81-4A17-B35D-69FC8A2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03B2-8016-478C-A2D1-DF41508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337-2010-4FCF-9B11-626AEF90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C62D-C03C-49B0-A00B-69C02B0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7C4B-413F-4341-B7B2-B3F77676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7BEA-E4A9-4FED-A45A-702C3883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B3A2-7C7E-4F3B-8C27-E8ADE337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7222-DDA7-4455-9FA5-E672F12D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870-4548-4295-BED4-B67E7BC8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EDF-9332-440E-99C9-1C247A02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D75-83CA-4B96-84AE-D2838FCE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DFA-51D5-4EBF-8BDF-5823E777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E56-0D89-4A51-BDD6-48C09C4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09F-D278-4EAD-9AE7-A57C50C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4EA-67CF-43EE-B631-6BCAC17C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75C2-2A73-4791-B276-7C7F23FCA5C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C29C-1376-4CEA-946A-04530396E8E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04920" y="1311120"/>
            <a:ext cx="823572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24120" y="4935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Рисунок 3" descr="laobc-Chemistry-flask.png"/>
          <p:cNvPicPr/>
          <p:nvPr/>
        </p:nvPicPr>
        <p:blipFill>
          <a:blip r:embed="rId2"/>
          <a:stretch/>
        </p:blipFill>
        <p:spPr>
          <a:xfrm>
            <a:off x="2895480" y="3159000"/>
            <a:ext cx="3048120" cy="369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89.jpg"/>
          <p:cNvPicPr/>
          <p:nvPr/>
        </p:nvPicPr>
        <p:blipFill>
          <a:blip r:embed="rId1"/>
          <a:stretch/>
        </p:blipFill>
        <p:spPr>
          <a:xfrm>
            <a:off x="223920" y="990720"/>
            <a:ext cx="869616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созданного сибирскими учеными суперполиэтилена поможет увеличить срок хранения продуктов с 3 месяцев до 5 лет, что может быть особенно важным, к примеру, в условиях научных экспедиций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t4_3067797.jpg"/>
          <p:cNvPicPr/>
          <p:nvPr/>
        </p:nvPicPr>
        <p:blipFill>
          <a:blip r:embed="rId1"/>
          <a:stretch/>
        </p:blipFill>
        <p:spPr>
          <a:xfrm>
            <a:off x="874800" y="914400"/>
            <a:ext cx="71704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ым Института химии и химической технологии Сибирского отделения РАН удалось разработать уникальную технологию получения биотоплива на основе отходов лесообрабатывающего производств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грированная технология каталитической переработки древесных отходов в жидкое и твердое биотопливо не имеет прямых аналогов в России.  Методика основывается на применении катализаторов, что позволит обеспечить энергоэффективную и экологически безопасную технологию получения энергоносителей из биомассы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1378111160206_original.jpg"/>
          <p:cNvPicPr/>
          <p:nvPr/>
        </p:nvPicPr>
        <p:blipFill>
          <a:blip r:embed="rId1"/>
          <a:stretch/>
        </p:blipFill>
        <p:spPr>
          <a:xfrm>
            <a:off x="717480" y="685800"/>
            <a:ext cx="7512120" cy="534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47760" y="0"/>
            <a:ext cx="882000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205704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Элемент с номером 114 теперь называется "флеровий" - в честь Лаборатории ядерных реакций имени Флерова. Элемент с номером 116 теперь называется "ливерморий" - в честь Ливерморской национальной лаборатории", - объявил на церемонии в московском Доме ученых президент Международного союза теоретической и прикладной химии (ИЮПАК) профессор Тацуми Кацуюк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евросеть\Desktop\открытия\Science-Chemistry-image-1412237264-2014-10-02-3.jpg"/>
          <p:cNvPicPr/>
          <p:nvPr/>
        </p:nvPicPr>
        <p:blipFill>
          <a:blip r:embed="rId1"/>
          <a:stretch/>
        </p:blipFill>
        <p:spPr>
          <a:xfrm>
            <a:off x="1676520" y="228600"/>
            <a:ext cx="613224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евросеть\Desktop\открытия\114-and-116-new-elements-image-6.jpg"/>
          <p:cNvPicPr/>
          <p:nvPr/>
        </p:nvPicPr>
        <p:blipFill>
          <a:blip r:embed="rId1"/>
          <a:stretch/>
        </p:blipFill>
        <p:spPr>
          <a:xfrm>
            <a:off x="1371600" y="228600"/>
            <a:ext cx="6858000" cy="6515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В периодическую таблицу Менделеева внесены четыре новых элемента, два из которых связаны с Россией..mp4" descr=""/>
          <p:cNvPicPr/>
          <p:nvPr/>
        </p:nvPicPr>
        <p:blipFill>
          <a:blip r:embed="rId1"/>
          <a:stretch/>
        </p:blipFill>
        <p:spPr>
          <a:xfrm>
            <a:off x="152280" y="0"/>
            <a:ext cx="908208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7200" y="1878120"/>
            <a:ext cx="8229600" cy="115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5228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ект выполнила обучающаяся 10 класса Кургузова Юлия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 Пеканова Людмила Александровна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017 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оссибирские химики создали препарат на основе природного вещества – камфоры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единение отличается низкой токсичностью и выраженной противовирусной активностью, в том числе против ремантадин-устойчивого штамма вируса гриппа 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 препарат, как ожидается, появится в аптеках через три года - по завершении клинических испытаний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shutterstock_116753707_opt.jpeg"/>
          <p:cNvPicPr/>
          <p:nvPr/>
        </p:nvPicPr>
        <p:blipFill>
          <a:blip r:embed="rId1"/>
          <a:stretch/>
        </p:blipFill>
        <p:spPr>
          <a:xfrm>
            <a:off x="3200400" y="2819520"/>
            <a:ext cx="568944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187_2.jpg"/>
          <p:cNvPicPr/>
          <p:nvPr/>
        </p:nvPicPr>
        <p:blipFill>
          <a:blip r:embed="rId2"/>
          <a:stretch/>
        </p:blipFill>
        <p:spPr>
          <a:xfrm>
            <a:off x="228600" y="304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60760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ые Санкт-Петербургского национального исследовательского университета информационных технологий, механики и оптики (ИТМО) разработали новые гидрогелевые сорбенты, которые могут использоваться для ускорения роста растений. В отличие от используемых в настоящее время аналогов, разработанные сорбенты могут применяться в более широком диапазоне температур, что позволит использовать их даже в северных регионах нашей страны и они биоразлагаем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4eddeea710fbf.jpg"/>
          <p:cNvPicPr/>
          <p:nvPr/>
        </p:nvPicPr>
        <p:blipFill>
          <a:blip r:embed="rId1"/>
          <a:srcRect l="0" t="5934" r="0" b="12716"/>
          <a:stretch/>
        </p:blipFill>
        <p:spPr>
          <a:xfrm>
            <a:off x="228600" y="228600"/>
            <a:ext cx="5159520" cy="3962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1333117580744740004.jpeg"/>
          <p:cNvPicPr/>
          <p:nvPr/>
        </p:nvPicPr>
        <p:blipFill>
          <a:blip r:embed="rId2"/>
          <a:stretch/>
        </p:blipFill>
        <p:spPr>
          <a:xfrm>
            <a:off x="5105520" y="2990880"/>
            <a:ext cx="3790800" cy="360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денты-инноваторы из Уральского федерального университета разработали катализаторы, которые могут использоваться для очистки вредных газов, выбрасываемых транспортными средствами, а также вредных выбросов ТЭ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е предлагаемых катализаторов лежит использование нового церий-циркониевого материа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5448 (1) - копия.jpg"/>
          <p:cNvPicPr/>
          <p:nvPr/>
        </p:nvPicPr>
        <p:blipFill>
          <a:blip r:embed="rId1"/>
          <a:srcRect l="0" t="0" r="11668" b="0"/>
          <a:stretch/>
        </p:blipFill>
        <p:spPr>
          <a:xfrm>
            <a:off x="304920" y="304920"/>
            <a:ext cx="83833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данным статистики, от кровопотери в результате бытовых и автомобильных аварий, а также производственных и иных травм погибает от 25% до 50% пострадавших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ставляете, сколько жизней можно будет спасти, если своевременно остановить кровь? И не за 10-15 минут, а за 30-40 секунд – и такие показатели уже не являются недостижимыми благодаря коллективу нижегородских ученых – разработчиков кровоостанавливающего средства «Тектум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7:10:29Z</dcterms:created>
  <dc:creator>евросеть</dc:creator>
  <dc:description/>
  <dc:language>en-US</dc:language>
  <cp:lastModifiedBy>Пользователь Windows</cp:lastModifiedBy>
  <dcterms:modified xsi:type="dcterms:W3CDTF">2019-11-19T16:04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