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8ED-5DDA-432C-8EC8-72FC2517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DE9-874A-4958-89DF-1D28A4C4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6C8-DB44-43AA-8CBF-F7345CCF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9CB-DD77-4AB3-893E-8CAC365C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C575-AB9D-4B57-9A71-DFE4562E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6C75-0CB6-40AF-9074-6081BAE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1E2B-5CB8-4D80-9E1F-D61B934C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EA9E-F64B-4472-93DE-E0549BC4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1A42-125B-4940-93FB-AF2AE91F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4AD5-A606-415B-91DA-67115B4F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8E18-E45B-49FC-B1A7-10F2CB1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C63-C23E-4A0D-9687-E03B1B12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9EA7-DF12-40E6-B6B9-BC5596E9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3D43-A17A-4451-9946-B41FB017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30AC-BD8C-4DF3-9D37-4E975AFF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FA3D-29DC-4594-A425-76FE6241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2B8D-F682-4F0F-809F-C9CA41B8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2BA-FE26-4AF7-9DF3-1F9E0F24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AC6-99D3-4622-BB4D-E32BEE4C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145-866D-492E-B68A-0E21AD6A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12E-C185-4D0F-80DE-7ADC69B1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1B1-D40E-48CF-B545-3106F35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73D-ED60-486E-B7CD-8D5FF281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49A-E947-4A4F-B174-D4ECBBA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8A7E-BABA-43C4-B7F2-2C5A6E7217F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2663-B199-492E-B389-30DC8615E1C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04920" y="1311120"/>
            <a:ext cx="823572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24120" y="4935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Рисунок 3" descr="laobc-Chemistry-flask.png"/>
          <p:cNvPicPr/>
          <p:nvPr/>
        </p:nvPicPr>
        <p:blipFill>
          <a:blip r:embed="rId2"/>
          <a:stretch/>
        </p:blipFill>
        <p:spPr>
          <a:xfrm>
            <a:off x="2895480" y="3159000"/>
            <a:ext cx="3048120" cy="369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89.jpg"/>
          <p:cNvPicPr/>
          <p:nvPr/>
        </p:nvPicPr>
        <p:blipFill>
          <a:blip r:embed="rId1"/>
          <a:stretch/>
        </p:blipFill>
        <p:spPr>
          <a:xfrm>
            <a:off x="223920" y="990720"/>
            <a:ext cx="869616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созданного сибирскими учеными суперполиэтилена поможет увеличить срок хранения продуктов с 3 месяцев до 5 лет, что может быть особенно важным, к примеру, в условиях научных экспедиций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t4_3067797.jpg"/>
          <p:cNvPicPr/>
          <p:nvPr/>
        </p:nvPicPr>
        <p:blipFill>
          <a:blip r:embed="rId1"/>
          <a:stretch/>
        </p:blipFill>
        <p:spPr>
          <a:xfrm>
            <a:off x="874800" y="914400"/>
            <a:ext cx="71704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ым Института химии и химической технологии Сибирского отделения РАН удалось разработать уникальную технологию получения биотоплива на основе отходов лесообрабатывающего производств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грированная технология каталитической переработки древесных отходов в жидкое и твердое биотопливо не имеет прямых аналогов в России.  Методика основывается на применении катализаторов, что позволит обеспечить энергоэффективную и экологически безопасную технологию получения энергоносителей из биомассы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1378111160206_original.jpg"/>
          <p:cNvPicPr/>
          <p:nvPr/>
        </p:nvPicPr>
        <p:blipFill>
          <a:blip r:embed="rId1"/>
          <a:stretch/>
        </p:blipFill>
        <p:spPr>
          <a:xfrm>
            <a:off x="717480" y="685800"/>
            <a:ext cx="7512120" cy="534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47760" y="0"/>
            <a:ext cx="882000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205704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Элемент с номером 114 теперь называется "флеровий" - в честь Лаборатории ядерных реакций имени Флерова. Элемент с номером 116 теперь называется "ливерморий" - в честь Ливерморской национальной лаборатории", - объявил на церемонии в московском Доме ученых президент Международного союза теоретической и прикладной химии (ИЮПАК) профессор Тацуми Кацуюк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евросеть\Desktop\открытия\Science-Chemistry-image-1412237264-2014-10-02-3.jpg"/>
          <p:cNvPicPr/>
          <p:nvPr/>
        </p:nvPicPr>
        <p:blipFill>
          <a:blip r:embed="rId1"/>
          <a:stretch/>
        </p:blipFill>
        <p:spPr>
          <a:xfrm>
            <a:off x="1676520" y="228600"/>
            <a:ext cx="613224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евросеть\Desktop\открытия\114-and-116-new-elements-image-6.jpg"/>
          <p:cNvPicPr/>
          <p:nvPr/>
        </p:nvPicPr>
        <p:blipFill>
          <a:blip r:embed="rId1"/>
          <a:stretch/>
        </p:blipFill>
        <p:spPr>
          <a:xfrm>
            <a:off x="1371600" y="228600"/>
            <a:ext cx="6858000" cy="6515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В периодическую таблицу Менделеева внесены четыре новых элемента, два из которых связаны с Россией..mp4" descr=""/>
          <p:cNvPicPr/>
          <p:nvPr/>
        </p:nvPicPr>
        <p:blipFill>
          <a:blip r:embed="rId1"/>
          <a:stretch/>
        </p:blipFill>
        <p:spPr>
          <a:xfrm>
            <a:off x="152280" y="0"/>
            <a:ext cx="908208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7200" y="1878120"/>
            <a:ext cx="8229600" cy="115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5228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ект выполнила обучающаяся 10 класса Кургузова Юлия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 Пеканова Людмила Александровна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017 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оссибирские химики создали препарат на основе природного вещества – камфоры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единение отличается низкой токсичностью и выраженной противовирусной активностью, в том числе против ремантадин-устойчивого штамма вируса гриппа 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 препарат, как ожидается, появится в аптеках через три года - по завершении клинических испытаний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shutterstock_116753707_opt.jpeg"/>
          <p:cNvPicPr/>
          <p:nvPr/>
        </p:nvPicPr>
        <p:blipFill>
          <a:blip r:embed="rId1"/>
          <a:stretch/>
        </p:blipFill>
        <p:spPr>
          <a:xfrm>
            <a:off x="3200400" y="2819520"/>
            <a:ext cx="568944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187_2.jpg"/>
          <p:cNvPicPr/>
          <p:nvPr/>
        </p:nvPicPr>
        <p:blipFill>
          <a:blip r:embed="rId2"/>
          <a:stretch/>
        </p:blipFill>
        <p:spPr>
          <a:xfrm>
            <a:off x="228600" y="304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60760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ые Санкт-Петербургского национального исследовательского университета информационных технологий, механики и оптики (ИТМО) разработали новые гидрогелевые сорбенты, которые могут использоваться для ускорения роста растений. В отличие от используемых в настоящее время аналогов, разработанные сорбенты могут применяться в более широком диапазоне температур, что позволит использовать их даже в северных регионах нашей страны и они биоразлагаем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4eddeea710fbf.jpg"/>
          <p:cNvPicPr/>
          <p:nvPr/>
        </p:nvPicPr>
        <p:blipFill>
          <a:blip r:embed="rId1"/>
          <a:srcRect l="0" t="5934" r="0" b="12716"/>
          <a:stretch/>
        </p:blipFill>
        <p:spPr>
          <a:xfrm>
            <a:off x="228600" y="228600"/>
            <a:ext cx="5159520" cy="3962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1333117580744740004.jpeg"/>
          <p:cNvPicPr/>
          <p:nvPr/>
        </p:nvPicPr>
        <p:blipFill>
          <a:blip r:embed="rId2"/>
          <a:stretch/>
        </p:blipFill>
        <p:spPr>
          <a:xfrm>
            <a:off x="5105520" y="2990880"/>
            <a:ext cx="3790800" cy="360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денты-инноваторы из Уральского федерального университета разработали катализаторы, которые могут использоваться для очистки вредных газов, выбрасываемых транспортными средствами, а также вредных выбросов ТЭ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е предлагаемых катализаторов лежит использование нового церий-циркониевого материа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5448 (1) - копия.jpg"/>
          <p:cNvPicPr/>
          <p:nvPr/>
        </p:nvPicPr>
        <p:blipFill>
          <a:blip r:embed="rId1"/>
          <a:srcRect l="0" t="0" r="11668" b="0"/>
          <a:stretch/>
        </p:blipFill>
        <p:spPr>
          <a:xfrm>
            <a:off x="304920" y="304920"/>
            <a:ext cx="83833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данным статистики, от кровопотери в результате бытовых и автомобильных аварий, а также производственных и иных травм погибает от 25% до 50% пострадавших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ставляете, сколько жизней можно будет спасти, если своевременно остановить кровь? И не за 10-15 минут, а за 30-40 секунд – и такие показатели уже не являются недостижимыми благодаря коллективу нижегородских ученых – разработчиков кровоостанавливающего средства «Тектум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7:10:29Z</dcterms:created>
  <dc:creator>евросеть</dc:creator>
  <dc:description/>
  <dc:language>en-US</dc:language>
  <cp:lastModifiedBy>Пользователь Windows</cp:lastModifiedBy>
  <dcterms:modified xsi:type="dcterms:W3CDTF">2019-11-19T16:04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