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chimes.wav" ContentType="audio/x-wav"/>
  <Override PartName="/ppt/media/image4.gif" ContentType="image/gif"/>
  <Override PartName="/ppt/media/image7.wmf" ContentType="image/x-wmf"/>
  <Override PartName="/ppt/media/image12.wmf" ContentType="image/x-wmf"/>
  <Override PartName="/ppt/media/image1.gif" ContentType="image/gif"/>
  <Override PartName="/ppt/media/type.wav" ContentType="audio/x-wav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18C-5B1F-4868-97A8-AD41BC04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2F8-B40D-4A28-B199-6382C9FF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31A-FC90-4BCF-AD25-8F1DFB28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A87-85E9-4AB8-A1D4-95CC60FF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B3D-8ABE-4FF9-A571-0B88F07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5FF-3293-4DD5-8D21-EF35282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68F-9BF4-4552-8D4C-99C2FAD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399-A3DD-4459-9ACA-5CFF056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6A3-CF12-42A9-B4C5-DE4FAA7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053-C2FD-4119-82BB-DC0F7A6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C67-9739-45D3-80BA-C536C7E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F10-6869-413C-9BA4-20B787C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F263-D10A-4559-84B4-E5F9DAE4C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1052640"/>
            <a:ext cx="8642160" cy="43894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Эколог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школ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Экологиче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ff"/>
                </a:solidFill>
                <a:latin typeface="Arial"/>
              </a:rPr>
              <a:t>-  значит относящийся  к природной среде, к среде обитания всего живог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j0318096"/>
          <p:cNvPicPr/>
          <p:nvPr/>
        </p:nvPicPr>
        <p:blipFill>
          <a:blip r:embed="rId1"/>
          <a:stretch/>
        </p:blipFill>
        <p:spPr>
          <a:xfrm>
            <a:off x="5435640" y="4437000"/>
            <a:ext cx="13096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бывает экологическ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93247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ий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туризм, контроль, маршрут, продукт,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ая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культура, грамотность, безопасность, экспертиза, катастрофа, проблема, ситуация, система, война, чистота, тропа, политика, организация, опасность, обстан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ое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образование, воздействие, обследование, движение, загрязнение, оборудование,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Экологические даты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в кален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2 февраля – Всемирный день водно-болотных уго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2 марта – Всемирный день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 апреля – Международный день пт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22 апреля – День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22 мая – Международный день биологического разнообр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5 июня – Всемирный день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17 июня – Всемирный день по борьбе с опустыниванием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засух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16 сентября – Международный день охраны озонового сло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29 сентября – Всемирный день мо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4 октября – Всемирный день защиты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f5f5f"/>
                </a:solidFill>
                <a:latin typeface="Times New Roman"/>
              </a:rPr>
              <a:t>14 октября – Международный день по умень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5f5f5f"/>
                </a:solidFill>
                <a:latin typeface="Times New Roman"/>
              </a:rPr>
              <a:t>опасности 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5f5f5f"/>
                </a:solidFill>
                <a:latin typeface="Times New Roman"/>
              </a:rPr>
              <a:t>стихийных б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j0214918"/>
          <p:cNvPicPr/>
          <p:nvPr/>
        </p:nvPicPr>
        <p:blipFill>
          <a:blip r:embed="rId1"/>
          <a:stretch/>
        </p:blipFill>
        <p:spPr>
          <a:xfrm>
            <a:off x="324000" y="2133720"/>
            <a:ext cx="1672920" cy="171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835280" y="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не хочу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такого мира.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Где все так серо, все уныло…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помнись, вздрогни человек: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е долог на земле твой век.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о что после себя оставим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чем себя мы здесь прославим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битой птицей на заре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Лесами черными в огне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свалкой мусора огромной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ль атмосферою зловонной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ль речкой с мертвою плотвой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олями с выжженной тра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0293820"/>
          <p:cNvPicPr/>
          <p:nvPr/>
        </p:nvPicPr>
        <p:blipFill>
          <a:blip r:embed="rId2"/>
          <a:stretch/>
        </p:blipFill>
        <p:spPr>
          <a:xfrm>
            <a:off x="7380360" y="5373720"/>
            <a:ext cx="1477800" cy="129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j0215203"/>
          <p:cNvPicPr/>
          <p:nvPr/>
        </p:nvPicPr>
        <p:blipFill>
          <a:blip r:embed="rId3"/>
          <a:stretch/>
        </p:blipFill>
        <p:spPr>
          <a:xfrm>
            <a:off x="2268360" y="5229360"/>
            <a:ext cx="1587600" cy="16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j0336477"/>
          <p:cNvPicPr/>
          <p:nvPr/>
        </p:nvPicPr>
        <p:blipFill>
          <a:blip r:embed="rId4"/>
          <a:stretch/>
        </p:blipFill>
        <p:spPr>
          <a:xfrm>
            <a:off x="395280" y="476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j0199275"/>
          <p:cNvPicPr/>
          <p:nvPr/>
        </p:nvPicPr>
        <p:blipFill>
          <a:blip r:embed="rId5"/>
          <a:stretch/>
        </p:blipFill>
        <p:spPr>
          <a:xfrm>
            <a:off x="324000" y="4508640"/>
            <a:ext cx="149040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0293828"/>
          <p:cNvPicPr/>
          <p:nvPr/>
        </p:nvPicPr>
        <p:blipFill>
          <a:blip r:embed="rId6"/>
          <a:stretch/>
        </p:blipFill>
        <p:spPr>
          <a:xfrm>
            <a:off x="5148360" y="5300640"/>
            <a:ext cx="1162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91520" cy="39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«Все мы пассажиры одного корабля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по имени «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Земля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», 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и пересесть из него просто некуда».</a:t>
            </a:r>
            <a:br>
              <a:rPr sz="4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уан де Сент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зюп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130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Берегите нашу Землю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964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в школе учат вас не зря,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ут вся надежда на тебя.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Мы начали, ты продолжай,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Ни перед чем не отступай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и перед жадностью толпы,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Ни перед подлостью войны,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Ни перед глупостью людской.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Да сохранитс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4560" y="5013000"/>
            <a:ext cx="856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Шар Земной</a:t>
            </a:r>
            <a:r>
              <a:rPr b="1" lang="ru-RU" sz="7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-составитель Пеканова Людмила Александ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Что такое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Буквально слово «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» (от греческого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ikos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означает «жилище, место обитан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Это слово ввёл в нау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обиход в 1886 г. Эрнст Геккель, выдающийся немецкий ученый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изучает связь живых существ со средой обит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В словаре Ожегова</a:t>
            </a: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» -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«Наука об отношениях растительных и животных организмов друг к другу и к окружающей их среде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 flipV="1">
            <a:off x="4572000" y="2742840"/>
            <a:ext cx="1440" cy="2057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4572000" y="2057400"/>
            <a:ext cx="1440" cy="669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3635280" y="2708280"/>
            <a:ext cx="901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572000" y="270828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733920" y="4800600"/>
            <a:ext cx="820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572000" y="4797360"/>
            <a:ext cx="838080" cy="18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24000" y="3141720"/>
            <a:ext cx="20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900000" y="2565360"/>
            <a:ext cx="262440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истот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5364000" y="2569680"/>
            <a:ext cx="331164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4"/>
          <p:cNvSpPr/>
          <p:nvPr/>
        </p:nvSpPr>
        <p:spPr>
          <a:xfrm>
            <a:off x="468360" y="4653000"/>
            <a:ext cx="328608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5"/>
          <p:cNvSpPr/>
          <p:nvPr/>
        </p:nvSpPr>
        <p:spPr>
          <a:xfrm>
            <a:off x="5435640" y="4653000"/>
            <a:ext cx="352908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Экологический Комф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6"/>
          <p:cNvSpPr/>
          <p:nvPr/>
        </p:nvSpPr>
        <p:spPr>
          <a:xfrm>
            <a:off x="2124000" y="333360"/>
            <a:ext cx="5112000" cy="1646280"/>
          </a:xfrm>
          <a:prstGeom prst="rect">
            <a:avLst/>
          </a:prstGeom>
          <a:solidFill>
            <a:srgbClr val="00ccff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Экология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7"/>
          <p:cNvSpPr/>
          <p:nvPr/>
        </p:nvSpPr>
        <p:spPr>
          <a:xfrm>
            <a:off x="395280" y="4653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Бережное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8" descr="j0318091"/>
          <p:cNvPicPr/>
          <p:nvPr/>
        </p:nvPicPr>
        <p:blipFill>
          <a:blip r:embed="rId1"/>
          <a:stretch/>
        </p:blipFill>
        <p:spPr>
          <a:xfrm>
            <a:off x="3492360" y="5229360"/>
            <a:ext cx="180036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 flipV="1">
            <a:off x="4572000" y="2742840"/>
            <a:ext cx="1440" cy="2057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4572000" y="2057400"/>
            <a:ext cx="1440" cy="669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886200" y="2743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0" y="2743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733920" y="4800600"/>
            <a:ext cx="820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572000" y="4797360"/>
            <a:ext cx="838080" cy="18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627280" y="2708280"/>
            <a:ext cx="0" cy="1177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95280" y="3124080"/>
            <a:ext cx="2089080" cy="736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24000" y="3141720"/>
            <a:ext cx="2089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дневные уборки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2743200" y="3124080"/>
            <a:ext cx="1684440" cy="736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2770560" y="3213000"/>
            <a:ext cx="160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1547640" y="3933720"/>
            <a:ext cx="2057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бо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16000" y="2421000"/>
            <a:ext cx="262404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истот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6516720" y="2924280"/>
            <a:ext cx="1440" cy="3664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6324480" y="33526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6361200" y="3809880"/>
            <a:ext cx="344520" cy="50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V="1">
            <a:off x="6532560" y="3315960"/>
            <a:ext cx="1440" cy="49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6516720" y="3284640"/>
            <a:ext cx="1440" cy="4982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6532560" y="3814560"/>
            <a:ext cx="1440" cy="50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6532560" y="3814920"/>
            <a:ext cx="1440" cy="5000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4788000" y="3141720"/>
            <a:ext cx="16174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слё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4743360" y="3129120"/>
            <a:ext cx="1617840" cy="38088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6732720" y="3068640"/>
            <a:ext cx="197172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6946200" y="314172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4716360" y="3645000"/>
            <a:ext cx="1693800" cy="379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5231160" y="36878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4724280" y="3657600"/>
            <a:ext cx="1676520" cy="3794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6732720" y="3573360"/>
            <a:ext cx="2089080" cy="576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6729120" y="3500280"/>
            <a:ext cx="2137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аз от вре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8"/>
          <p:cNvSpPr/>
          <p:nvPr/>
        </p:nvSpPr>
        <p:spPr>
          <a:xfrm>
            <a:off x="5364000" y="4221000"/>
            <a:ext cx="2521080" cy="39384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тание в сто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5364000" y="2466360"/>
            <a:ext cx="331164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>
            <a:off x="2590920" y="5029200"/>
            <a:ext cx="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>
            <a:off x="2438280" y="54100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3"/>
          <p:cNvSpPr/>
          <p:nvPr/>
        </p:nvSpPr>
        <p:spPr>
          <a:xfrm>
            <a:off x="2438280" y="58672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250920" y="5084640"/>
            <a:ext cx="2189160" cy="649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5"/>
          <p:cNvSpPr/>
          <p:nvPr/>
        </p:nvSpPr>
        <p:spPr>
          <a:xfrm>
            <a:off x="324000" y="5084640"/>
            <a:ext cx="201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епление  кабинетов зи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2627280" y="5013360"/>
            <a:ext cx="230508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250920" y="5877000"/>
            <a:ext cx="211428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1"/>
          <p:cNvSpPr/>
          <p:nvPr/>
        </p:nvSpPr>
        <p:spPr>
          <a:xfrm>
            <a:off x="179280" y="5877000"/>
            <a:ext cx="2214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я электроэнер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2843280" y="5734080"/>
            <a:ext cx="1717560" cy="982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2700360" y="5661000"/>
            <a:ext cx="187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ход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395280" y="4508640"/>
            <a:ext cx="328608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6532560" y="5006520"/>
            <a:ext cx="1440" cy="366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6532560" y="5006880"/>
            <a:ext cx="1440" cy="3668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6324480" y="54100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0"/>
          <p:cNvSpPr/>
          <p:nvPr/>
        </p:nvSpPr>
        <p:spPr>
          <a:xfrm>
            <a:off x="6324480" y="586728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1"/>
          <p:cNvSpPr/>
          <p:nvPr/>
        </p:nvSpPr>
        <p:spPr>
          <a:xfrm flipV="1">
            <a:off x="6532560" y="5373360"/>
            <a:ext cx="1440" cy="49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2"/>
          <p:cNvSpPr/>
          <p:nvPr/>
        </p:nvSpPr>
        <p:spPr>
          <a:xfrm>
            <a:off x="6532560" y="5373720"/>
            <a:ext cx="1440" cy="4986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5003640" y="5229360"/>
            <a:ext cx="1297080" cy="50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6732720" y="5373720"/>
            <a:ext cx="2087280" cy="719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тр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9"/>
          <p:cNvSpPr/>
          <p:nvPr/>
        </p:nvSpPr>
        <p:spPr>
          <a:xfrm>
            <a:off x="4643280" y="6021360"/>
            <a:ext cx="2016360" cy="62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0"/>
          <p:cNvSpPr/>
          <p:nvPr/>
        </p:nvSpPr>
        <p:spPr>
          <a:xfrm>
            <a:off x="4872960" y="6033960"/>
            <a:ext cx="13982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еле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бин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2"/>
          <p:cNvSpPr/>
          <p:nvPr/>
        </p:nvSpPr>
        <p:spPr>
          <a:xfrm>
            <a:off x="5435640" y="4724280"/>
            <a:ext cx="352908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Экологический Комф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3"/>
          <p:cNvSpPr/>
          <p:nvPr/>
        </p:nvSpPr>
        <p:spPr>
          <a:xfrm>
            <a:off x="2124000" y="333360"/>
            <a:ext cx="5112000" cy="1646280"/>
          </a:xfrm>
          <a:prstGeom prst="rect">
            <a:avLst/>
          </a:prstGeom>
          <a:solidFill>
            <a:srgbClr val="00ccff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Экология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1"/>
          <p:cNvSpPr/>
          <p:nvPr/>
        </p:nvSpPr>
        <p:spPr>
          <a:xfrm>
            <a:off x="395280" y="4437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Бережное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тепление кабинет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363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Чтоб холодная зима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е прокралась к нам в дома,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Вы окошки утеплите –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И в тепле себе жив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85780"/>
          <p:cNvPicPr/>
          <p:nvPr/>
        </p:nvPicPr>
        <p:blipFill>
          <a:blip r:embed="rId1"/>
          <a:stretch/>
        </p:blipFill>
        <p:spPr>
          <a:xfrm>
            <a:off x="3708360" y="4653000"/>
            <a:ext cx="16858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Экономия электроэнерги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Лампа сутки погорит – </a:t>
            </a:r>
            <a:br>
              <a:rPr sz="4400"/>
            </a:b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Сто кило угля спалит!</a:t>
            </a:r>
            <a:br>
              <a:rPr sz="4400"/>
            </a:b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Если светит зря она,</a:t>
            </a:r>
            <a:br>
              <a:rPr sz="4400"/>
            </a:b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Где ж экономия сыр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j0233192"/>
          <p:cNvPicPr/>
          <p:nvPr/>
        </p:nvPicPr>
        <p:blipFill>
          <a:blip r:embed="rId1"/>
          <a:stretch/>
        </p:blipFill>
        <p:spPr>
          <a:xfrm>
            <a:off x="3635280" y="4724280"/>
            <a:ext cx="18525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Экономное расходование вод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Воду, водицу, водичку мы любим,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Кран повернём - и литрами губим.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Знай, экономя водицу-сестрицу,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Ты дашь возможность потомкам нап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336986"/>
          <p:cNvPicPr/>
          <p:nvPr/>
        </p:nvPicPr>
        <p:blipFill>
          <a:blip r:embed="rId1"/>
          <a:stretch/>
        </p:blipFill>
        <p:spPr>
          <a:xfrm>
            <a:off x="6877080" y="5013360"/>
            <a:ext cx="16174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Есть просто хр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Есть храм науки…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А есть еще природы храм–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С лесами, тянущими руки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Навстречу солнцу и ветрам.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Он свят в любое время суток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Открыт для нас в жару и стынь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Входи сюда, будь сердцем чуток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Не оскверняй ее святы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82422"/>
          <p:cNvPicPr/>
          <p:nvPr/>
        </p:nvPicPr>
        <p:blipFill>
          <a:blip r:embed="rId1"/>
          <a:stretch/>
        </p:blipFill>
        <p:spPr>
          <a:xfrm rot="1645800">
            <a:off x="5940360" y="549360"/>
            <a:ext cx="2592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8:07:02Z</dcterms:created>
  <dc:creator>Helen Kudra</dc:creator>
  <dc:description/>
  <dc:language>en-US</dc:language>
  <cp:lastModifiedBy>Пользователь Windows</cp:lastModifiedBy>
  <dcterms:modified xsi:type="dcterms:W3CDTF">2019-11-19T16:05:33Z</dcterms:modified>
  <cp:revision>32</cp:revision>
  <dc:subject/>
  <dc:title>Слайд 1</dc:title>
</cp:coreProperties>
</file>