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2AB-B5C8-4943-99CC-A78E2F5D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D60-7910-459F-A90C-7664DBCF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BCD-4948-4C61-ACEA-95765B5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DDE-E86A-4524-9644-DCF20BC0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922-CB3C-4A65-AACE-3B220FBB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E71-1DA4-4DE5-8803-B5035EA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893-BC0B-44C2-B51D-BAB03ED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C68-C63B-4482-B4F7-75DAF455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12F-6C2C-4B77-A212-57EA7E8B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802-E55A-4D15-9060-6D00196B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FFF-53F6-4F90-A43B-4B56D01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26B-168C-4AD5-A608-32415B0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69F-8A8E-4CAD-8F53-0F0F369CE1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ой инициати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яева Анна Вячеславо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4.jpg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рин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лабиринт.jpg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инициат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Содержимое 2"/>
          <p:cNvGrpSpPr/>
          <p:nvPr/>
        </p:nvGrpSpPr>
        <p:grpSpPr>
          <a:xfrm>
            <a:off x="317520" y="1189080"/>
            <a:ext cx="8534520" cy="4827600"/>
            <a:chOff x="317520" y="1189080"/>
            <a:chExt cx="8534520" cy="4827600"/>
          </a:xfrm>
        </p:grpSpPr>
        <p:pic>
          <p:nvPicPr>
            <p:cNvPr id="4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17520" y="1189080"/>
              <a:ext cx="853452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34136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годня наблюдается конструирование социальной ситуации развития детей, способствующей поддержке индивидуальности и детской инициативы. Это происходит через создание условий для свободного выбора детьми различных деятельностей, их участников и форм совместности, а также условий для принятия ими решений, выражения своих чувств и мыслей.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ый ребенок дошкольного возраста - что это знач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выбрать дело по своему желанию, включиться в разговор, предложить интересное занятие для всех. Он легко включается в игровые ситуации и инициирует их сам, творчески развивает игровой сюжет, используя для этого разнообразные знания, полученные из разных источников. Инициативность связана с любознательностью, пытливостью ума, изобретательностью, индивидуальными возможностями детей, поддержкой свободы их поведения и самосто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ициати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836640"/>
            <a:ext cx="8207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6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чение, в основе которого лежит простая передача знаний, всегда отстает. Оно неинтересно ни детям, ни педагогам, а потому малоэффективно. Да и коррекционная работа  не бывает успешной, если ребёнок не мотивирован, не вникает в задание, а просто заучивает речевые шаблоны. Очень интересно попробовать, выбрать, почувствовать правильную форму слова самому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6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 формирования инициативы и исследовательских навыков: не предлагать материал в готовом виде, а дать ребёнку возможность самому сделать пробы и выбрать правильный вариант ответа! 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 подачи материала, повышающие детскую мотивацию к исправлению речевых нарушений, активизирующие и раскрепощающие детей на занятиях, улучшающие их высшие психические функции, уменьшающие сроки логопедической коррек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авнения ( артикуляций, схем, предметов, слов, явлений, ситуаций…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бор (картинок, схем, букв, слов, вариантов…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справления (нелепицы, путаницы, фразы-нескладушки, загадки-обман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иск, пробы, преобразования (добавь, переставь, замен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гадки и предположения (Как ты думаешь? Почему? Что было бы?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ификации и группировки(рассели слоги, заполни пустые клет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ворчество (продолжи, склей кусочки слов, образуй новое слово от моег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з и синтез (больше звуков или букв? Назови первый звук, букв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делирование (символы звуков, схемы слов, предложений, текст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4" descr="выбор.jpg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921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п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нелепица.jpg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5" descr="нелепица1.jpg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3.jpg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6:07:43Z</dcterms:created>
  <dc:creator>пк</dc:creator>
  <dc:description/>
  <dc:language>en-US</dc:language>
  <cp:lastModifiedBy>Vasia</cp:lastModifiedBy>
  <dcterms:modified xsi:type="dcterms:W3CDTF">2018-09-22T19:02:07Z</dcterms:modified>
  <cp:revision>24</cp:revision>
  <dc:subject/>
  <dc:title>Поддержка</dc:title>
</cp:coreProperties>
</file>