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B4D-A0E5-4CEC-8A30-00FE4576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678-1028-4059-B597-387B66A7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0BF-E057-400C-AE76-B76A39BB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63D-9C94-495D-9E06-36E3A654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EAE-22E6-4E36-BD14-75FC377B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D61-CD48-45E0-86DB-17B33806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B26-3AFC-4BEC-9402-E9A5A2CF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C64-D33E-4408-9B23-6B92D20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C69-50C0-4F5B-8EEC-C8094561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622-9102-4021-BF76-3C7C7CD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5BA-1F4C-4569-AFB9-FBC2ED7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05A-2AB6-4889-A0C8-D235219E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30F8-EA00-4175-9573-8A8A1B077F4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детской инициати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яева Анна Вячеславов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4.jpg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Безымянный.jpg"/>
          <p:cNvPicPr/>
          <p:nvPr/>
        </p:nvPicPr>
        <p:blipFill>
          <a:blip r:embed="rId1"/>
          <a:stretch/>
        </p:blipFill>
        <p:spPr>
          <a:xfrm>
            <a:off x="395280" y="119700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ринт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лабиринт.jpg"/>
          <p:cNvPicPr/>
          <p:nvPr/>
        </p:nvPicPr>
        <p:blipFill>
          <a:blip r:embed="rId1"/>
          <a:stretch/>
        </p:blipFill>
        <p:spPr>
          <a:xfrm>
            <a:off x="971640" y="907920"/>
            <a:ext cx="741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ая инициати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Содержимое 2"/>
          <p:cNvGrpSpPr/>
          <p:nvPr/>
        </p:nvGrpSpPr>
        <p:grpSpPr>
          <a:xfrm>
            <a:off x="317520" y="1189080"/>
            <a:ext cx="8534520" cy="4827600"/>
            <a:chOff x="317520" y="1189080"/>
            <a:chExt cx="8534520" cy="4827600"/>
          </a:xfrm>
        </p:grpSpPr>
        <p:pic>
          <p:nvPicPr>
            <p:cNvPr id="4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17520" y="1189080"/>
              <a:ext cx="853452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34136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годня наблюдается конструирование социальной ситуации развития детей, способствующей поддержке индивидуальности и детской инициативы. Это происходит через создание условий для свободного выбора детьми различных деятельностей, их участников и форм совместности, а также условий для принятия ими решений, выражения своих чувств и мыслей.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ивный ребенок дошкольного возраста - что это значи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может выбрать дело по своему желанию, включиться в разговор, предложить интересное занятие для всех. Он легко включается в игровые ситуации и инициирует их сам, творчески развивает игровой сюжет, используя для этого разнообразные знания, полученные из разных источников. Инициативность связана с любознательностью, пытливостью ума, изобретательностью, индивидуальными возможностями детей, поддержкой свободы их поведения и самостоятельност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нициати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836640"/>
            <a:ext cx="8207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6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чение, в основе которого лежит простая передача знаний, всегда отстает. Оно неинтересно ни детям, ни педагогам, а потому малоэффективно. Да и коррекционная работа  не бывает успешной, если ребёнок не мотивирован, не вникает в задание, а просто заучивает речевые шаблоны. Очень интересно попробовать, выбрать, почувствовать правильную форму слова самому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6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идея формирования инициативы и исследовательских навыков: не предлагать материал в готовом виде, а дать ребёнку возможность самому сделать пробы и выбрать правильный вариант ответа! 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25992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ы подачи материала, повышающие детскую мотивацию к исправлению речевых нарушений, активизирующие и раскрепощающие детей на занятиях, улучшающие их высшие психические функции, уменьшающие сроки логопедической коррек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авнения ( артикуляций, схем, предметов, слов, явлений, ситуаций…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бор (картинок, схем, букв, слов, вариантов…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справления (нелепицы, путаницы, фразы-нескладушки, загадки-обманк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иск, пробы, преобразования (добавь, переставь, замен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гадки и предположения (Как ты думаешь? Почему? Что было бы?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ификации и группировки(рассели слоги, заполни пустые клетк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ворчество (продолжи, склей кусочки слов, образуй новое слово от моег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ализ и синтез (больше звуков или букв? Назови первый звук, букву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делирование (символы звуков, схемы слов, предложений, текстов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4" descr="выбор.jpg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9218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п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нелепица.jpg"/>
          <p:cNvPicPr/>
          <p:nvPr/>
        </p:nvPicPr>
        <p:blipFill>
          <a:blip r:embed="rId1"/>
          <a:stretch/>
        </p:blipFill>
        <p:spPr>
          <a:xfrm>
            <a:off x="826920" y="1052640"/>
            <a:ext cx="7632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5" descr="нелепица1.jpg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44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3.jpg"/>
          <p:cNvPicPr/>
          <p:nvPr/>
        </p:nvPicPr>
        <p:blipFill>
          <a:blip r:embed="rId1"/>
          <a:stretch/>
        </p:blipFill>
        <p:spPr>
          <a:xfrm>
            <a:off x="539640" y="981000"/>
            <a:ext cx="806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6:07:43Z</dcterms:created>
  <dc:creator>пк</dc:creator>
  <dc:description/>
  <dc:language>en-US</dc:language>
  <cp:lastModifiedBy>Vasia</cp:lastModifiedBy>
  <dcterms:modified xsi:type="dcterms:W3CDTF">2018-09-22T19:02:07Z</dcterms:modified>
  <cp:revision>24</cp:revision>
  <dc:subject/>
  <dc:title>Поддержка</dc:title>
</cp:coreProperties>
</file>