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2F7-8D3E-4C3F-9797-BA7C8462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BBB-59FF-483A-B32C-308273BE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6B1-1CFB-47FB-9BF6-7F63D5CD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BF1-8716-43CB-A7A5-721A3B09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2E3-C26B-4B76-B593-B897FE0A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284-B98C-45F2-912C-A1BDCC17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71E-7224-49DB-996D-0429F97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6CC-63E8-42A5-BCEC-8003295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CBE-7C3F-42A7-93A6-2F7081C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9DA-DC31-48B9-B380-3E548A4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9B0-5A8B-41A0-BB84-1FC19BB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529-0975-4397-A7ED-C3BC089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A6F-46D2-4F7C-BE88-454C2BA38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76040"/>
            <a:ext cx="9144000" cy="249084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е и дифференциальные методы Архиме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-1951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652320" y="287280"/>
            <a:ext cx="5837400" cy="30801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определил длину окружности и площадь круга, объем и поверхности ш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Архимед разработал и применил методы, предвосхитившие созданное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тегральное исчис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Archimed.gif"/>
          <p:cNvPicPr/>
          <p:nvPr/>
        </p:nvPicPr>
        <p:blipFill>
          <a:blip r:embed="rId2"/>
          <a:stretch/>
        </p:blipFill>
        <p:spPr>
          <a:xfrm>
            <a:off x="1952640" y="3591000"/>
            <a:ext cx="2914560" cy="3267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200px-Do.jpg"/>
          <p:cNvPicPr/>
          <p:nvPr/>
        </p:nvPicPr>
        <p:blipFill>
          <a:blip r:embed="rId3"/>
          <a:stretch/>
        </p:blipFill>
        <p:spPr>
          <a:xfrm>
            <a:off x="6881760" y="2428920"/>
            <a:ext cx="3786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-19512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6357960" y="1200240"/>
            <a:ext cx="5243400" cy="4535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1050840" y="793800"/>
            <a:ext cx="5558040" cy="52131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родился в  287 г. до н.э. в Сиракузах — греческой колонии на острове Сицилия. Отцом Архимеда, возможно, был математик и астроном Фидий. По утверждению Плутарха, Архимед состоял в близком родстве с Гиероном II, тираном Сиракуз. Для обучения Архимед отправился в Александрию Египетскую — научный и культурный центр того вр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8556480" y="5761080"/>
            <a:ext cx="2194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48760"/>
            <a:ext cx="10515600" cy="132732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е методы Архимед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2" descr=""/>
          <p:cNvPicPr/>
          <p:nvPr/>
        </p:nvPicPr>
        <p:blipFill>
          <a:blip r:embed="rId2"/>
          <a:stretch/>
        </p:blipFill>
        <p:spPr>
          <a:xfrm>
            <a:off x="841320" y="1822320"/>
            <a:ext cx="10522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838080" y="333360"/>
            <a:ext cx="10515600" cy="22795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у (2) он использовал в трёх случаях: для нахождения объёмов сегментов эллипсоида и гиперболоидов вращения, а также площади первого витка спирали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ьзуясь неравенствами, вытекающими из (2), он находил нижнюю грань верхних сумм и верхнюю грань нижних су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rcRect l="33972" t="33844" r="22959" b="13484"/>
          <a:stretch/>
        </p:blipFill>
        <p:spPr>
          <a:xfrm>
            <a:off x="2820960" y="2901960"/>
            <a:ext cx="6481800" cy="35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2" descr=""/>
          <p:cNvPicPr/>
          <p:nvPr/>
        </p:nvPicPr>
        <p:blipFill>
          <a:blip r:embed="rId2"/>
          <a:stretch/>
        </p:blipFill>
        <p:spPr>
          <a:xfrm>
            <a:off x="835200" y="500040"/>
            <a:ext cx="10515600" cy="2176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3"/>
          <a:srcRect l="37084" t="33125" r="26877" b="15984"/>
          <a:stretch/>
        </p:blipFill>
        <p:spPr>
          <a:xfrm>
            <a:off x="3751200" y="2793960"/>
            <a:ext cx="46893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ÐÐ°ÑÑÐ¸Ð½ÐºÐ¸ Ð¿Ð¾ Ð·Ð°Ð¿ÑÐ¾ÑÑ Ð¼Ð°ÑÐµÐ¼Ð°ÑÐ¸ÐºÐ° ÐºÐ°ÑÑÐ¸Ð½ÐºÐ¸"/>
          <p:cNvPicPr/>
          <p:nvPr/>
        </p:nvPicPr>
        <p:blipFill>
          <a:blip r:embed="rId1"/>
          <a:stretch/>
        </p:blipFill>
        <p:spPr>
          <a:xfrm>
            <a:off x="0" y="2556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2"/>
          <a:srcRect l="35878" t="23844" r="29284" b="51880"/>
          <a:stretch/>
        </p:blipFill>
        <p:spPr>
          <a:xfrm>
            <a:off x="316080" y="3643200"/>
            <a:ext cx="699912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rcRect l="43005" t="56698" r="43943" b="36521"/>
          <a:stretch/>
        </p:blipFill>
        <p:spPr>
          <a:xfrm>
            <a:off x="5457960" y="2579760"/>
            <a:ext cx="3876480" cy="11332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4"/>
          <a:srcRect l="43509" t="74916" r="42438" b="11339"/>
          <a:stretch/>
        </p:blipFill>
        <p:spPr>
          <a:xfrm>
            <a:off x="7904160" y="770040"/>
            <a:ext cx="3371760" cy="1855800"/>
          </a:xfrm>
          <a:prstGeom prst="rect">
            <a:avLst/>
          </a:prstGeom>
          <a:ln w="0">
            <a:noFill/>
          </a:ln>
        </p:spPr>
      </p:pic>
      <p:sp>
        <p:nvSpPr>
          <p:cNvPr id="70" name="Стрелка вправо 4"/>
          <p:cNvSpPr/>
          <p:nvPr/>
        </p:nvSpPr>
        <p:spPr>
          <a:xfrm rot="16200000">
            <a:off x="7203960" y="4308120"/>
            <a:ext cx="2241720" cy="1413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8"/>
          <p:cNvSpPr/>
          <p:nvPr/>
        </p:nvSpPr>
        <p:spPr>
          <a:xfrm rot="20734200">
            <a:off x="5379840" y="1107720"/>
            <a:ext cx="2242800" cy="1413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0T03:24:29Z</dcterms:created>
  <dc:creator>Алёнушка</dc:creator>
  <dc:description/>
  <dc:language>en-US</dc:language>
  <cp:lastModifiedBy>Алёнушка</cp:lastModifiedBy>
  <dcterms:modified xsi:type="dcterms:W3CDTF">2019-11-19T13:59:44Z</dcterms:modified>
  <cp:revision>17</cp:revision>
  <dc:subject/>
  <dc:title>Презентация PowerPoint</dc:title>
</cp:coreProperties>
</file>