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14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20.png" ContentType="image/png"/>
  <Override PartName="/ppt/media/image30.jpeg" ContentType="image/jpeg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35.png" ContentType="image/png"/>
  <Override PartName="/ppt/media/image5.png" ContentType="image/png"/>
  <Override PartName="/ppt/media/image28.png" ContentType="image/pn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0BFC-92FC-4CAC-81E3-9338A41E9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E79D-E2C8-4E40-AB03-E9A66E2B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B435-C702-4E3F-BE62-7E3F9E7E9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0BC3-1711-4204-9BD8-748F5D7C7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DC4A9-09C1-49B8-BDDC-495E1ECAC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C04EE-8B26-455D-BF04-C3A4C248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BF347-CBC6-4863-9952-2C91F7FE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A08FF-880F-4153-975E-0FEB994F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43F1E-8FF7-4624-8808-ABB65121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A8452-840B-4A2C-8E31-FD9566A1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A0A1B-83F1-4809-B696-CEE187AA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8FE1-2F74-48CF-B79F-B599205D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347C5-0C93-4806-B319-170286DF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17296-6119-4AAC-B3F4-32E10D31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C1882-676A-489F-9B9D-CDFFC3B9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9C630-0163-470F-B164-4F037F391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3BA69-6766-4D31-98F2-7B3B712FA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C446E-1D7E-43A0-8D0A-EEBFF2990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E11D4-087E-41B7-9A50-498B08B2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BEA8C-205C-46B8-97C5-7C6390A7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7DAFA-41E3-4575-BB8F-8D5D66AD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11265-1228-468D-A180-3D1730CC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A54E-D116-4D45-B941-96E774CA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E4724-FB9C-4605-8889-071D3642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148B0-F089-4C71-94A0-8072C9F9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6BBDF-7BCC-472E-A1DD-5CDFDF64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4D5FD-6939-49B9-A96E-E79BC70F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668C4-96EA-4D6A-95D0-CDB66BDB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45CCD-9413-4CAF-B9C0-588C9D80E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5008B-65DB-44C2-813F-32F5BD494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B25CF8-3A35-4144-9D31-A6DD34301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C35951-DC9E-4CF1-ABC4-64DAF0E8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889DBF-3FA1-4E19-9356-E854F81A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EBEC-E38E-4452-9A2F-139773BE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D1FD1F-A45F-433F-8B4C-03C35A23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C513AE-9D79-44A9-B9A6-EBEF39F5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1D431B-786A-4EB8-B37D-A49E6D56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3CAF89-F060-422F-9487-D5D7F922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E72EC4-56AE-407A-BA0B-1EB97F0B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134FB7-6229-4B3D-9433-57B34EA7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24AC74-FA81-4E09-A94D-FE95EAD6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F4B40F-10C7-4FAB-AFE6-F044AA3BF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CDFFEB-013C-4E5B-B9F9-6A444EBE4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0907-AB9F-4851-A6C1-8385347A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4269-C2D8-4C7D-A825-C2B5B73B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45DC-31B8-424C-A025-7B35488D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49E7-3FEB-4577-9D35-9F780569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296B-9196-433C-89AD-121943B0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561C-B23E-4088-9195-2840BC1E22CB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B4F5-FA91-4186-8E8C-45F25B12D2E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6690-B419-4079-83FF-35283D5725F8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17E3-DCF8-416F-A3CD-216E5563A852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1;&#1072;&#1090;&#1080;&#1085;&#1089;&#1082;&#1080;&#1081;_&#1103;&#1079;&#1099;&#1082;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efac9"/>
                </a:solidFill>
                <a:latin typeface="Times New Roman"/>
              </a:rPr>
              <a:t>Всекрымский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efac9"/>
                </a:solidFill>
                <a:latin typeface="Times New Roman"/>
              </a:rPr>
              <a:t>единый урок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efac9"/>
                </a:solidFill>
                <a:latin typeface="Times New Roman"/>
              </a:rPr>
              <a:t>11.04.2019г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457200" y="1170000"/>
            <a:ext cx="830880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бота над проектом конституции Республики Крым велась конституционной комиссией во главе с первым заместителем председателя Государственного Совета Республики Крым Григорием Иоффе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http://crimea.gov.ru/content/foto/2013/01/06082012107565/1936.jpg"/>
          <p:cNvPicPr/>
          <p:nvPr/>
        </p:nvPicPr>
        <p:blipFill>
          <a:blip r:embed="rId2"/>
          <a:stretch/>
        </p:blipFill>
        <p:spPr>
          <a:xfrm>
            <a:off x="2828880" y="3408480"/>
            <a:ext cx="380700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http://fs00.infourok.ru/images/doc/304/303195/img1.jpg"/>
          <p:cNvPicPr/>
          <p:nvPr/>
        </p:nvPicPr>
        <p:blipFill>
          <a:blip r:embed="rId1"/>
          <a:stretch/>
        </p:blipFill>
        <p:spPr>
          <a:xfrm>
            <a:off x="235080" y="208080"/>
            <a:ext cx="8700840" cy="63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лава 1. ОСНОВЫ КОНСТИТУЦИОННОГО СТРОЯ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лава 2. ЗАЩИТА ПРАВ И СВОБОД ЧЕЛОВЕКА И ГРАЖДАНИН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лава 3. ГОСУДАРСТВЕННОЕ УСТРОЙСТВО РЕСПУБЛИКИ КРЫМ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лава 4. ГЛАВА РЕСПУБЛИКИ КРЫМ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лава 5. ГОСУДАРСТВЕННЫЙ СОВЕТ РЕСПУБЛИКИ КРЫМ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лава 6. СОВЕТ МИНИСТРОВ РЕСПУБЛИКИ КРЫМ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лава 7. СУДЕБНАЯ ВЛАСТЬ И ПРОКУРАТУРА В РЕСПУБЛИКЕ КРЫМ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лава 8. МЕСТНОЕ САМОУПРАВЛЕНИ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лава 9. ПРИНЯТИЕ КОНСТИТУЦИИ РЕСПУБЛИКИ КРЫМ И ВНЕСЕНИЕ В НЕЕ ИЗМЕНЕНИЙ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лава 10. ПЕРЕХОДНЫЕ ПОЛОЖЕНИЯ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татья 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еспублика Крым является демократическим правовым государством в составе Российской Федерации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ерритория Республики Крым является единой и неделимой и составляет неотъемлемую часть территории Российской Федерации.  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татья 1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осударственными языками Республики Крым являются русский, украинский и крымско-татарский языки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атус государственных языков Республики Крым устанавливается законодательством Российской Федерации и законодательством Республики Крым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Республике Крым признается принцип многообразия культур, обеспечивается их равноправное развитие и взаимообогащение.  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татья 1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Республике Крым признаются и гарантируются права и свободы человека и гражданина согласно общепризнанным принципам и нормам международного права и в соответствии с Конституцией Российской Федерации, Конституцией Республики Крым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тья 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 равны перед законом и суд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тья 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ждый имеет право на жизн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тья 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ждый имеет право на свободу и личную неприкосновеннос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тья 1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ждый вправе определять и указывать свою национальную принадлежность. Никто не может быть принужден к определению и указанию своей национальной принадлежнос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татья 49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аждый, находящийся на территории Республики Крым, обязан соблюдать Конституцию Российской Федерации и Конституцию Республики Крым, федеральные законы и законы Республики Крым, уважать права и свободы других лиц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татья 5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щита Отечества является долгом и обязанностью гражданина Российской Федераци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ражданин Российской Федерации несет военную службу в соответствии с федеральным законом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татья 5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еспублика Крым является равноправным субъектом Российской Федерации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атус Республики Крым определяется Договором между Российской Федерацией и Республикой Крым о принятии в Российскую Федерацию Республики Крым и образовании в составе Российской Федерации новых субъектов, Конституцией Российской Федерации, Федеральным конституционным законом "О принятии в Российскую Федерацию Республики Крым и образовании в составе Российской Федерации новых субъектов – Республики Крым и города федерального значения Севастополя", Конституцией Республики Крым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атус Республики Крым может быть изменен по взаимному согласию Российской Федерации и Республики Крым в соответствии с федеральным конституционным законом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татья 6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лава Республики Крым является высшим должностным лицом, главой исполнительной власти Республики Крым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лава Республики Крым в установленном порядке принимает меры по защите прав и свобод человека и гражданина, обеспечивает согласованное функционирование и взаимодействие органов государственной власти Республики Крым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Sergey Aksyonov March 2014 (cropped).jpg"/>
          <p:cNvPicPr/>
          <p:nvPr/>
        </p:nvPicPr>
        <p:blipFill>
          <a:blip r:embed="rId2"/>
          <a:stretch/>
        </p:blipFill>
        <p:spPr>
          <a:xfrm>
            <a:off x="2784600" y="1773360"/>
            <a:ext cx="407340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. ЗНАКОМСТВО С ИСТОРИЕЙ СОЗДАНИЯ КОНСТИТУЦИИ РЕСПУБЛИКИ КРЫМ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. ВОСПИТАНИЕ У УЧАЩИХСЯ УВАЖЕНИЯ К ОСНОВНОМУ ЗАКОНУ ЖИЗНИ ОБЩЕСТВА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татья 69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осударственный Совет Республики Крым – Парламент Республики Крым является постоянно действующим высшим и единственным законодательным (представительным) органом государственной власти Республики Крым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осударственный Совет Республики Крым избирается сроком на пять лет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осударственный Совет Республики Крым состоит из 75 депутатов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http://krym.er.ru/media/userdata/regional_persons/2014/06/24/0aeaa7afb6f2cfd28cf33e5957a9899f.jpg"/>
          <p:cNvPicPr/>
          <p:nvPr/>
        </p:nvPicPr>
        <p:blipFill>
          <a:blip r:embed="rId2"/>
          <a:stretch/>
        </p:blipFill>
        <p:spPr>
          <a:xfrm>
            <a:off x="1635120" y="1357200"/>
            <a:ext cx="538956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http://sro-org.ru/wp-content/uploads/2014/11/vlasti-kryma.jpg"/>
          <p:cNvPicPr/>
          <p:nvPr/>
        </p:nvPicPr>
        <p:blipFill>
          <a:blip r:embed="rId1"/>
          <a:stretch/>
        </p:blipFill>
        <p:spPr>
          <a:xfrm>
            <a:off x="331920" y="415800"/>
            <a:ext cx="8645400" cy="60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татья 8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сполнительную власть в Республике Крым осуществляют Глава Республики Крым, Совет министров Республики Крым и иные органы исполнительной власти Республики Крым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вет Министров Республики Крым является постоянно действующим высшим исполнительным органом государственной власти Республики Крым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https://im3-tub-ru.yandex.net/i?id=dabda14016eff475950799fa3cc46eb5&amp;n=33&amp;h=215&amp;w=333"/>
          <p:cNvPicPr/>
          <p:nvPr/>
        </p:nvPicPr>
        <p:blipFill>
          <a:blip r:embed="rId2"/>
          <a:stretch/>
        </p:blipFill>
        <p:spPr>
          <a:xfrm>
            <a:off x="166680" y="1496880"/>
            <a:ext cx="8658360" cy="49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731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http://crimea-news.com/img/20150417/df2b7d871607da4e5ab4f156798dd061.jpg"/>
          <p:cNvPicPr/>
          <p:nvPr/>
        </p:nvPicPr>
        <p:blipFill>
          <a:blip r:embed="rId2"/>
          <a:stretch/>
        </p:blipFill>
        <p:spPr>
          <a:xfrm>
            <a:off x="1441440" y="2147760"/>
            <a:ext cx="617868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татья 86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авосудие в Республике Крым осуществляется только судом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Республике Крым действуют федеральные суды и мировые судьи. Полномочия, порядок образования и деятельности федеральных судов определяются законодательством Российской Федераци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http://kalinowka66.ru/uploadedFiles/images/2015-06-24_15-47-28_rabochiy_stol.jpg"/>
          <p:cNvPicPr/>
          <p:nvPr/>
        </p:nvPicPr>
        <p:blipFill>
          <a:blip r:embed="rId2"/>
          <a:stretch/>
        </p:blipFill>
        <p:spPr>
          <a:xfrm>
            <a:off x="6321600" y="4489560"/>
            <a:ext cx="222696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В чём заключается значимость принятия Конституции Республики Крым 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Заголовок 2" descr=""/>
          <p:cNvPicPr/>
          <p:nvPr/>
        </p:nvPicPr>
        <p:blipFill>
          <a:blip r:embed="rId1"/>
          <a:stretch/>
        </p:blipFill>
        <p:spPr>
          <a:xfrm>
            <a:off x="554040" y="262080"/>
            <a:ext cx="82296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арод должен защищать закон, как свой оплот, как охранительную свою стену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ераклит Эфесски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нститу́ци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 (от </a:t>
            </a:r>
            <a:r>
              <a:rPr b="0" lang="ru-RU" sz="3600" spc="-1" strike="noStrike" u="sng">
                <a:solidFill>
                  <a:srgbClr val="8e58b6"/>
                </a:solidFill>
                <a:uFillTx/>
                <a:latin typeface="Times New Roman"/>
                <a:hlinkClick r:id="rId1"/>
              </a:rPr>
              <a:t>лат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constitutio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 — устройство, установление, сложение) — основной закон государства, особый нормативный правовой акт, имеющий высшую юридическую силу. Конституция определяет основы политической, правовой и экономической систем государств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Заголовок 2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тономная Крымская Социалистическая Советская Республика в составе РСФСР была образована 18 октября 1921 года на части территории бывшей Таврической губерн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 мая 1929 года была принята новая Конституция, согласно которой название автономии было изменено на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ымская Автономная Советская Социалистическая Республ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Герб Крымской АССР"/>
          <p:cNvPicPr/>
          <p:nvPr/>
        </p:nvPicPr>
        <p:blipFill>
          <a:blip r:embed="rId2"/>
          <a:stretch/>
        </p:blipFill>
        <p:spPr>
          <a:xfrm>
            <a:off x="554040" y="1884240"/>
            <a:ext cx="2687760" cy="2867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Флаг Крымской АССР"/>
          <p:cNvPicPr/>
          <p:nvPr/>
        </p:nvPicPr>
        <p:blipFill>
          <a:blip r:embed="rId3"/>
          <a:stretch/>
        </p:blipFill>
        <p:spPr>
          <a:xfrm>
            <a:off x="3713040" y="2160720"/>
            <a:ext cx="418464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5 мая 1992 года Верховный Совет Автономной Республики Крым принял декларацию «Акт о провозглашении государственной самостоятельности Республики Крым». 6 мая1992 года была принята Конституция Республики Крым</a:t>
            </a:r>
            <a:r>
              <a:rPr b="0" lang="ru-RU" sz="26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Yuriy Meshkov.jpg"/>
          <p:cNvPicPr/>
          <p:nvPr/>
        </p:nvPicPr>
        <p:blipFill>
          <a:blip r:embed="rId2"/>
          <a:stretch/>
        </p:blipFill>
        <p:spPr>
          <a:xfrm>
            <a:off x="3660840" y="3675240"/>
            <a:ext cx="28573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нституция Республики Крым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 — основной закон Республики Крым. Принята Государственным Советом Республики Крым 11 апреля 2014 года. 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нституция была опубликована в официальном органе Государственного Совета Республики Крым «Крымские известия» 12 апреля 2014 года и вступила в силу со дня официального опубликован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http://krymizdat.ru/image/cache/catalog/%D0%9E%D0%B1%D1%89%D0%B5%D1%81%D1%82%D0%B2%D0%BE/00914-300x400.jpeg"/>
          <p:cNvPicPr/>
          <p:nvPr/>
        </p:nvPicPr>
        <p:blipFill>
          <a:blip r:embed="rId2"/>
          <a:stretch/>
        </p:blipFill>
        <p:spPr>
          <a:xfrm>
            <a:off x="1758960" y="1316160"/>
            <a:ext cx="530712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8T16:43:16Z</dcterms:created>
  <dc:creator>Admin</dc:creator>
  <dc:description/>
  <dc:language>en-US</dc:language>
  <cp:lastModifiedBy>Пользователь</cp:lastModifiedBy>
  <dcterms:modified xsi:type="dcterms:W3CDTF">2019-11-19T16:52:22Z</dcterms:modified>
  <cp:revision>22</cp:revision>
  <dc:subject/>
  <dc:title>КОНСТИТУЦИЯ КРЫМА</dc:title>
</cp:coreProperties>
</file>