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A0A-CC27-4F5E-8C60-2FA9D93A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AD4-354B-4404-8709-16220189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D7F-570E-4229-BBF2-FD827D70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7AD-3780-4529-9D29-214DE8DF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E4A87-9317-417D-AF5D-B41559A6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A50A-8B5C-4CB5-A140-FF484B3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12D3-8753-4EF4-A992-DE0998E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87AB2-A62F-4848-9C71-D5D87E4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944E9-A672-4FA0-8F03-6A1906E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C71C5-08E4-4435-9D53-EF36E3B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0B0A-1D58-4F5F-971C-AECC051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680-5B58-4EC2-820F-6A857B8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53ED5-26E7-4ECA-BB7E-65B49132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2C0B9-C238-4A56-8EC4-555B5799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3D29-8BB6-4865-B4D1-40DC2CD4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16C3-6D7B-4F3C-A8A6-5F5B2BF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339C5-6C9D-4DEE-882F-E5F1D4A8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80B8-A8B4-47A8-9374-6E6B1025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59A1-E0D1-4A8C-B84A-B2FE06C1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6E0F-2573-433A-8075-04CEB52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ABBF-A883-436C-886D-B08E5713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9F79-33BA-46D4-9004-93733B22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986-DA64-4226-A3A0-5A667457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CDE0-CFD9-4426-BACA-EF754533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AC1C-5DFD-4F5D-9C09-8A2043D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453E-E40C-4D3D-B2FC-4565C04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F241-A2B6-48D6-8F1E-0D15BF7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EC56-F5E7-4A82-8963-838B8518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8B44-B973-411D-9A4D-FFD0304D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8638-5AC9-44E1-B303-DBFC7B3F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5E5DA-3125-4B9A-AF58-4D21889B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2DC15-7EA3-4EBE-9D15-796331A3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CBDC2-5980-44A8-99A1-EA6357A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CCF-5015-4FAC-90AD-AB84838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95647-93FC-41A4-B5E9-4878D9D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8FB9E-1EBF-4712-BB32-DFD9590A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D8176-47AC-4F27-9C65-96815CD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16FE6-9BC8-4BA9-AA3A-87BABCB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9698D-7070-4EE4-9EE1-B16B33C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D47C0-A12D-4AB5-B914-33E2FC25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B9524-E6D1-41B3-87B3-71FBFF6F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49974-5C35-4088-B842-26D35D80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D570C-C8D6-4679-AF37-CBE3B50D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FD6-4CD7-47C9-BB35-86F2EBA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0A1-5588-4929-89B8-A85F0F9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BF7-98C0-4606-9A4B-C81945D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E19-FC30-4665-8477-B7AC37A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630-4A22-40E3-931D-44C2395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E7E-5203-43C0-AB7B-A83D1BF449F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FB7D-C10E-4074-9A13-B0E0698BA9D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550-56BC-4E16-97C2-DDAA60D4A5A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EC8E-D936-4F42-AA20-35F0B684370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2;&#1090;&#1080;&#1085;&#1089;&#1082;&#1080;&#1081;_&#1103;&#1079;&#1099;&#1082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Всекрымский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единый ур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fac9"/>
                </a:solidFill>
                <a:latin typeface="Times New Roman"/>
              </a:rPr>
              <a:t>11.04.2019г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83088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бота над проектом конституции Республики Крым велась конституционной комиссией во главе с первым заместителем председателя Государственного Совета Республики Крым Григорием Иофф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imea.gov.ru/content/foto/2013/01/06082012107565/1936.jpg"/>
          <p:cNvPicPr/>
          <p:nvPr/>
        </p:nvPicPr>
        <p:blipFill>
          <a:blip r:embed="rId2"/>
          <a:stretch/>
        </p:blipFill>
        <p:spPr>
          <a:xfrm>
            <a:off x="2828880" y="3408480"/>
            <a:ext cx="3807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://fs00.infourok.ru/images/doc/304/303195/img1.jpg"/>
          <p:cNvPicPr/>
          <p:nvPr/>
        </p:nvPicPr>
        <p:blipFill>
          <a:blip r:embed="rId1"/>
          <a:stretch/>
        </p:blipFill>
        <p:spPr>
          <a:xfrm>
            <a:off x="235080" y="208080"/>
            <a:ext cx="870084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1. ОСНОВЫ КОНСТИТУЦИОННОГО СТРО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2. ЗАЩИТА ПРАВ И СВОБОД ЧЕЛОВЕКА И ГРАЖДАНИН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3. ГОСУДАРСТВЕННОЕ УСТРОЙСТВО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4. ГЛАВА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5. ГОСУДАРСТВЕННЫЙ СОВЕТ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6. СОВЕТ МИНИСТРОВ РЕСПУБЛИКИ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7. СУДЕБНАЯ ВЛАСТЬ И ПРОКУРАТУРА В РЕСПУБЛИКЕ КРЫ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8. МЕСТНОЕ САМОУПРАВЛЕНИ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9. ПРИНЯТИЕ КОНСТИТУЦИИ РЕСПУБЛИКИ КРЫМ И ВНЕСЕНИЕ В НЕЕ ИЗМЕНЕ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лава 10. ПЕРЕХОДНЫЕ ПОЛОЖ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спублика Крым является демократическим правовым государством в составе 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ритория Республики Крым является единой и неделимой и составляет неотъемлемую часть территории Российской Федерации. 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осударственными языками Республики Крым являются русский, украинский и крымско-татарский язык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государственных языков Республики Крым устанавливается законодательством Российской Федерации и законодательством Республики Кры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спублике Крым признается принцип многообразия культур, обеспечивается их равноправное развитие и взаимообогащение. 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1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еспублике Крым признаются и гарантируются права и свободы человека и гражданина согласно общепризнанным принципам и нормам международного права и в соответствии с Конституцией Российской Федерации, Конституцией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равны перед законом и суд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имеет право на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имеет право на свободу и личную неприкосно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вправе определять и указывать свою национальную принадлежность. Никто не может быть принужден к определению и указанию своей национальной принадлеж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4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ждый, находящийся на территории Республики Крым, обязан соблюдать Конституцию Российской Федерации и Конституцию Республики Крым, федеральные законы и законы Республики Крым, уважать права и свободы других ли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5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щита Отечества является долгом и обязанностью гражданина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ажданин Российской Федерации несет военную службу в соответствии с федеральным закон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атья 5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спублика Крым является равноправным субъектом 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Республики Крым определяется Договором между Российской Федерацией и Республикой Крым о принятии в Российскую Федерацию Республики Крым и образовании в составе Российской Федерации новых субъектов, Конституцией Российской Федерации, Федеральным конституционным законом "О принятии в Российскую Федерацию Республики Крым и образовании в составе Российской Федерации новых субъектов – Республики Крым и города федерального значения Севастополя", Конституцией Республики Кры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атус Республики Крым может быть изменен по взаимному согласию Российской Федерации и Республики Крым в соответствии с федеральным конституционным закон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6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ава Республики Крым является высшим должностным лицом, главой исполнитель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лава Республики Крым в установленном порядке принимает меры по защите прав и свобод человека и гражданина, обеспечивает согласованное функционирование и взаимодействие органов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Sergey Aksyonov March 2014 (cropped).jpg"/>
          <p:cNvPicPr/>
          <p:nvPr/>
        </p:nvPicPr>
        <p:blipFill>
          <a:blip r:embed="rId2"/>
          <a:stretch/>
        </p:blipFill>
        <p:spPr>
          <a:xfrm>
            <a:off x="2784600" y="1773360"/>
            <a:ext cx="40734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ЗНАКОМСТВО С ИСТОРИЕЙ СОЗДАНИЯ КОНСТИТУЦИ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СПИТАНИЕ У УЧАЩИХСЯ УВАЖЕНИЯ К ОСНОВНОМУ ЗАКОНУ ЖИЗНИ ОБЩЕСТВ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6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– Парламент Республики Крым является постоянно действующим высшим и единственным законодательным (представительным) органом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избирается сроком на пять ле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Совет Республики Крым состоит из 75 депута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krym.er.ru/media/userdata/regional_persons/2014/06/24/0aeaa7afb6f2cfd28cf33e5957a9899f.jpg"/>
          <p:cNvPicPr/>
          <p:nvPr/>
        </p:nvPicPr>
        <p:blipFill>
          <a:blip r:embed="rId2"/>
          <a:stretch/>
        </p:blipFill>
        <p:spPr>
          <a:xfrm>
            <a:off x="1635120" y="1357200"/>
            <a:ext cx="5389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sro-org.ru/wp-content/uploads/2014/11/vlasti-kryma.jpg"/>
          <p:cNvPicPr/>
          <p:nvPr/>
        </p:nvPicPr>
        <p:blipFill>
          <a:blip r:embed="rId1"/>
          <a:stretch/>
        </p:blipFill>
        <p:spPr>
          <a:xfrm>
            <a:off x="331920" y="415800"/>
            <a:ext cx="86454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нительную власть в Республике Крым осуществляют Глава Республики Крым, Совет министров Республики Крым и иные органы исполнитель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т Министров Республики Крым является постоянно действующим высшим исполнительным органом государственной власти Республики Кры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s://im3-tub-ru.yandex.net/i?id=dabda14016eff475950799fa3cc46eb5&amp;n=33&amp;h=215&amp;w=333"/>
          <p:cNvPicPr/>
          <p:nvPr/>
        </p:nvPicPr>
        <p:blipFill>
          <a:blip r:embed="rId2"/>
          <a:stretch/>
        </p:blipFill>
        <p:spPr>
          <a:xfrm>
            <a:off x="166680" y="1496880"/>
            <a:ext cx="86583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73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crimea-news.com/img/20150417/df2b7d871607da4e5ab4f156798dd061.jpg"/>
          <p:cNvPicPr/>
          <p:nvPr/>
        </p:nvPicPr>
        <p:blipFill>
          <a:blip r:embed="rId2"/>
          <a:stretch/>
        </p:blipFill>
        <p:spPr>
          <a:xfrm>
            <a:off x="1441440" y="2147760"/>
            <a:ext cx="61786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8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осудие в Республике Крым осуществляется только суд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Республике Крым действуют федеральные суды и мировые судьи. Полномочия, порядок образования и деятельности федеральных судов определяются законодательством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ttp://kalinowka66.ru/uploadedFiles/images/2015-06-24_15-47-28_rabochiy_stol.jpg"/>
          <p:cNvPicPr/>
          <p:nvPr/>
        </p:nvPicPr>
        <p:blipFill>
          <a:blip r:embed="rId2"/>
          <a:stretch/>
        </p:blipFill>
        <p:spPr>
          <a:xfrm>
            <a:off x="6321600" y="4489560"/>
            <a:ext cx="22269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 чём заключается значимость принятия Конституции Республики Крым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554040" y="26208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од должен защищать закон, как свой оплот, как охранительную свою стену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ераклит Эфесск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ститу́ц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(от </a:t>
            </a:r>
            <a:r>
              <a:rPr b="0" lang="ru-RU" sz="3600" spc="-1" strike="noStrike" u="sng">
                <a:solidFill>
                  <a:srgbClr val="8e58b6"/>
                </a:solidFill>
                <a:uFillTx/>
                <a:latin typeface="Times New Roman"/>
                <a:hlinkClick r:id="rId1"/>
              </a:rPr>
              <a:t>лат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constitutio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— устройство, установление, сложение) — основной закон государства, особый нормативный правовой акт, имеющий высшую юридическую силу. Конституция определяет основы политической, правовой и экономической систем государ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номная Крымская Социалистическая Советская Республика в составе РСФСР была образована 18 октября 1921 года на части территории бывшей Таврической губер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мая 1929 года была принята новая Конституция, согласно которой название автономии было изменено н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ымская Автономная Советская Социалистическая Республ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Герб Крымской АССР"/>
          <p:cNvPicPr/>
          <p:nvPr/>
        </p:nvPicPr>
        <p:blipFill>
          <a:blip r:embed="rId2"/>
          <a:stretch/>
        </p:blipFill>
        <p:spPr>
          <a:xfrm>
            <a:off x="554040" y="1884240"/>
            <a:ext cx="2687760" cy="2867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Флаг Крымской АССР"/>
          <p:cNvPicPr/>
          <p:nvPr/>
        </p:nvPicPr>
        <p:blipFill>
          <a:blip r:embed="rId3"/>
          <a:stretch/>
        </p:blipFill>
        <p:spPr>
          <a:xfrm>
            <a:off x="3713040" y="2160720"/>
            <a:ext cx="41846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 мая 1992 года Верховный Совет Автономной Республики Крым принял декларацию «Акт о провозглашении государственной самостоятельности Республики Крым». 6 мая1992 года была принята Конституция Республики Кры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Yuriy Meshkov.jpg"/>
          <p:cNvPicPr/>
          <p:nvPr/>
        </p:nvPicPr>
        <p:blipFill>
          <a:blip r:embed="rId2"/>
          <a:stretch/>
        </p:blipFill>
        <p:spPr>
          <a:xfrm>
            <a:off x="3660840" y="3675240"/>
            <a:ext cx="2857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ституция Республики Кр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— основной закон Республики Крым. Принята Государственным Советом Республики Крым 11 апреля 2014 года.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ституция была опубликована в официальном органе Государственного Совета Республики Крым «Крымские известия» 12 апреля 2014 года и вступила в силу со дня официального опублик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krymizdat.ru/image/cache/catalog/%D0%9E%D0%B1%D1%89%D0%B5%D1%81%D1%82%D0%B2%D0%BE/00914-300x400.jpeg"/>
          <p:cNvPicPr/>
          <p:nvPr/>
        </p:nvPicPr>
        <p:blipFill>
          <a:blip r:embed="rId2"/>
          <a:stretch/>
        </p:blipFill>
        <p:spPr>
          <a:xfrm>
            <a:off x="1758960" y="1316160"/>
            <a:ext cx="53071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16:43:16Z</dcterms:created>
  <dc:creator>Admin</dc:creator>
  <dc:description/>
  <dc:language>en-US</dc:language>
  <cp:lastModifiedBy>Пользователь</cp:lastModifiedBy>
  <dcterms:modified xsi:type="dcterms:W3CDTF">2019-11-19T16:52:22Z</dcterms:modified>
  <cp:revision>22</cp:revision>
  <dc:subject/>
  <dc:title>КОНСТИТУЦИЯ КРЫМА</dc:title>
</cp:coreProperties>
</file>