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39B-8B9F-4931-907A-8611D3BE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9BD-5738-41B3-83D3-D74983A8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47A0E-8674-4709-B136-83EBF094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D97BA-07A1-4812-AF5D-A4D2FE5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BC261-0FCD-45D2-BA5C-4C33212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B96C4-0B8E-4E85-99C0-45DE468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3BE8-4AF9-4EF7-A734-685CBB8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15A8B-86D7-4660-9001-9164D23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FA77-9086-46F4-B50B-98A1717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8902F-B0F0-4B39-B4F1-5FFB7D96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A4300-23F3-4CBB-84DD-B2E786D0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2DD-1023-41B1-917C-2AB82AFC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D81-64D0-412C-9382-B6C87AA4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A5E-74EC-4DA5-9F6B-8AA161B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6596-8790-4051-B36C-F6AB79A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61B-9845-4C59-989D-2B86EAF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180C-A75A-4C8A-BBB6-D1314DE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8A2C-9161-4F06-A328-B45430CA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AB6-A1C0-4FB1-8048-1512BD9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3682-6156-4AC1-976F-AE220CE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D91-9640-47F0-8C26-E5BC2180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79F2-4E36-47C0-AB02-B2EF135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8A97-60AF-4999-8FF8-BEB3B52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A0C9-41D3-4740-A62B-00ECFD31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CA24-F653-407D-B307-1779AADC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C47-376C-4C86-B03D-7D734E27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7566-FE0D-4618-BCD3-B231EFFB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A09B-581A-4DCE-BE2C-8D2BD25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793B-A0DF-42B9-AC52-6A74327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1F66-CAE0-445A-A466-894DDAF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DC18-CDAC-4A0F-9293-C685AD2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66E-F281-40E8-9D4B-CF49BC5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C122-6A1D-4180-8ABC-D98CBE81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B11C-6A40-4DC0-BE17-617CF02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CB31-A3DA-4694-BF02-59E8F45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419B-7903-4BC0-972F-8D09626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09A5-E05A-4568-ADFE-7003D41B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94E8-FD07-4DF6-AFFC-9D8B3D46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624A-0FBF-4460-BB92-909BE708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19B9-9EB8-458E-9E91-367E6460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DA9E-74CD-46A8-B0C8-F2307511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8148-EF53-40B8-BA6A-85A5D810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B48-EFF6-44CC-B5E5-9BEC192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0FF5-9D5F-4133-8EA1-3CDB94C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7449-8E7E-4D37-9664-54B7216A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BD1A-A2F9-4BE3-A83A-AAA2DA5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D504-C71E-4D6C-8CFF-BA3C8E2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7C9B-92B2-409D-9051-980AA6C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6E4D-EFE8-42A0-AC85-8BCDFA8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268A-2839-4F04-9B6B-D497059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2A87-6DC4-4D63-8AA1-3EA3EFC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36072-C8A2-48E1-A7BF-674F5DCE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46C9-1A5C-4095-982D-2815846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C68-6FC6-4231-9FF6-32A310F2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37BE-4009-49A5-8870-068A9F8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D510-3A21-45A7-9287-46CC316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4D14-91BD-4D28-AAB5-0C0208A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1AD1-3F51-4505-A3B4-8C42D3F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C4C1-F56C-4478-B9BF-EA360908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BAD6-4586-4C9D-B7D6-855E8DE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5F6A-A5E0-4509-97EB-2E117D3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DE29-B47D-4DEE-A866-A034C93E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3C57-0A24-45AB-9CA7-8BC3405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9352-511C-485B-A523-3D1B609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0EE-E45A-46E9-9AC4-52A4881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6BF0C-2468-4BEA-8846-A8FD80C9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6864-019C-4148-8EE5-15D500E6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F555D-69C6-4B1C-A6DD-2401ACC4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2FC1-2D2E-42E1-8E79-AE88937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8F68-D700-4C0C-826A-92FD20A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6C950-C6E1-46A1-A154-BAE312D1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C492-6447-44BE-AE63-A98E7C0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D0A7-6FD9-47A8-AE34-1F47F6C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6483-6D0F-4E93-B204-F4307B7E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06743-B47B-47F7-904F-0307803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230-B85B-4E40-A7A5-0479693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7F84-69F3-41CE-8980-92CC7B3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519BF-2B27-4306-9DB8-9202C5F0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231A-AA45-4F87-AF2F-3C050C8C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D461-FAB2-4BCC-8708-E6EBE03C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3E0F-BE48-4593-A0AC-2BA8417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BF1D-70CD-43A9-BCA8-EB288C97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5862-3AF2-43A9-BAD6-2DBAC777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8DA40-D1ED-44AA-8BE7-82C9F98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C372-F717-41BB-8E9A-1CD962F9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7D50-7F96-4DE1-93C0-4C5CA2A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B55-58F3-45A2-B431-2CE12F9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BF14-66DF-409C-8DF3-207C192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27D7-C3B8-4211-97C4-695E56D0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B3863-5CB2-4195-B100-73220691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08F8-EF97-430D-9081-3291356B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A46D3-7086-4673-92F8-875A3454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135C-87F8-4056-AC03-89FE2D64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DD03-0C94-4F6E-913F-3D57FFE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1E6E-A0F7-4B37-9329-75F4599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1545-A4C8-42C1-A7E9-F8E0023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2287-7358-4765-A000-97C9E87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CBB-29DC-457F-90F3-B2BC1110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3654-1825-4170-BD79-A71559F2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73D3-2B3D-4610-87A3-9A967FA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BD44-DA40-4F03-A31D-2A0C8D1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2C58-FDBD-4E50-8B1E-D7D667D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49F90-DD3D-450A-8591-2F53CEF5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FBC9-5F46-4FFF-A5CA-7CA3096E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B479-417C-456F-904D-9B730ACD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7269B-9277-43E1-BCF2-752EDD8A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8A39-7D97-42A6-9732-BC29094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91D80-C8F8-426C-9C0A-FDB6E4C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34CE-2683-4EA4-8EAD-9314A77F2D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F0F-D4A4-45D0-87A1-4FEC288070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62C0-3D5D-4585-BD38-4BF989F788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BFB0-656A-41FE-BCFD-AED0CEF278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DE7-8758-424E-B4F3-31C86CD0A6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1D6-DF57-4163-A49F-35B8C320BC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8AE-5822-4C9E-B50F-3EB1C07691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A318-80BE-40A7-8CD8-80E64BA336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3009-4EDD-4A88-8417-371AB328E6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8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1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image" Target="../media/image3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6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39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6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243320"/>
            <a:ext cx="8631360" cy="1833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1214280"/>
            <a:ext cx="84582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ЗАДАНИЯ ПО ЛЕКСИЧЕСКОЙ ТЕМЕ «МЕБЕЛЬ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5" name="WordArt 6"/>
          <p:cNvSpPr txBox="1"/>
          <p:nvPr/>
        </p:nvSpPr>
        <p:spPr>
          <a:xfrm>
            <a:off x="399564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902520" y="595008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5870160" y="5950080"/>
            <a:ext cx="23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2" descr="tiktakdk101"/>
          <p:cNvPicPr/>
          <p:nvPr/>
        </p:nvPicPr>
        <p:blipFill>
          <a:blip r:embed="rId5"/>
          <a:stretch/>
        </p:blipFill>
        <p:spPr>
          <a:xfrm>
            <a:off x="179280" y="2060640"/>
            <a:ext cx="3456000" cy="2469960"/>
          </a:xfrm>
          <a:prstGeom prst="rect">
            <a:avLst/>
          </a:prstGeom>
          <a:ln w="0">
            <a:noFill/>
          </a:ln>
        </p:spPr>
      </p:pic>
      <p:sp>
        <p:nvSpPr>
          <p:cNvPr id="469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70" name="Picture 10" descr="http://sofa.dp.ua/pic/prod/prod_info_3_57.jpg"/>
          <p:cNvPicPr/>
          <p:nvPr/>
        </p:nvPicPr>
        <p:blipFill>
          <a:blip r:embed="rId8"/>
          <a:srcRect l="0" t="0" r="0" b="5874"/>
          <a:stretch/>
        </p:blipFill>
        <p:spPr>
          <a:xfrm>
            <a:off x="4786200" y="178596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sofa.dp.ua/pic/prod/prod_info_3_57.jpg"/>
          <p:cNvPicPr/>
          <p:nvPr/>
        </p:nvPicPr>
        <p:blipFill>
          <a:blip r:embed="rId9"/>
          <a:srcRect l="0" t="0" r="0" b="5874"/>
          <a:stretch/>
        </p:blipFill>
        <p:spPr>
          <a:xfrm>
            <a:off x="4857840" y="335772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http://sofa.dp.ua/pic/prod/prod_info_3_57.jpg"/>
          <p:cNvPicPr/>
          <p:nvPr/>
        </p:nvPicPr>
        <p:blipFill>
          <a:blip r:embed="rId10"/>
          <a:srcRect l="0" t="0" r="0" b="5874"/>
          <a:stretch/>
        </p:blipFill>
        <p:spPr>
          <a:xfrm>
            <a:off x="6715080" y="350028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http://sofa.dp.ua/pic/prod/prod_info_3_57.jpg"/>
          <p:cNvPicPr/>
          <p:nvPr/>
        </p:nvPicPr>
        <p:blipFill>
          <a:blip r:embed="rId11"/>
          <a:srcRect l="0" t="0" r="0" b="5874"/>
          <a:stretch/>
        </p:blipFill>
        <p:spPr>
          <a:xfrm>
            <a:off x="6715080" y="1857240"/>
            <a:ext cx="192888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5"/>
          <p:cNvSpPr txBox="1"/>
          <p:nvPr/>
        </p:nvSpPr>
        <p:spPr>
          <a:xfrm>
            <a:off x="571680" y="1628640"/>
            <a:ext cx="82864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«Назови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сково»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6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478520" y="587700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6302520" y="5877000"/>
            <a:ext cx="19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столик"/>
          <p:cNvPicPr/>
          <p:nvPr/>
        </p:nvPicPr>
        <p:blipFill>
          <a:blip r:embed="rId3"/>
          <a:stretch/>
        </p:blipFill>
        <p:spPr>
          <a:xfrm>
            <a:off x="6227640" y="2781360"/>
            <a:ext cx="1933560" cy="1947960"/>
          </a:xfrm>
          <a:prstGeom prst="rect">
            <a:avLst/>
          </a:prstGeom>
          <a:ln w="0">
            <a:noFill/>
          </a:ln>
        </p:spPr>
      </p:pic>
      <p:sp>
        <p:nvSpPr>
          <p:cNvPr id="480" name="WordArt 12"/>
          <p:cNvSpPr txBox="1"/>
          <p:nvPr/>
        </p:nvSpPr>
        <p:spPr>
          <a:xfrm>
            <a:off x="4572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1" name="Picture 13" descr="190_big"/>
          <p:cNvPicPr/>
          <p:nvPr/>
        </p:nvPicPr>
        <p:blipFill>
          <a:blip r:embed="rId6"/>
          <a:stretch/>
        </p:blipFill>
        <p:spPr>
          <a:xfrm>
            <a:off x="539640" y="1773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3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1405440" y="5877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014880" y="5877000"/>
            <a:ext cx="24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1" descr="стул"/>
          <p:cNvPicPr/>
          <p:nvPr/>
        </p:nvPicPr>
        <p:blipFill>
          <a:blip r:embed="rId3"/>
          <a:stretch/>
        </p:blipFill>
        <p:spPr>
          <a:xfrm>
            <a:off x="468360" y="1052640"/>
            <a:ext cx="2857320" cy="47624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стульчик"/>
          <p:cNvPicPr/>
          <p:nvPr/>
        </p:nvPicPr>
        <p:blipFill>
          <a:blip r:embed="rId4"/>
          <a:stretch/>
        </p:blipFill>
        <p:spPr>
          <a:xfrm rot="822000">
            <a:off x="6012000" y="3068280"/>
            <a:ext cx="2116080" cy="2158920"/>
          </a:xfrm>
          <a:prstGeom prst="rect">
            <a:avLst/>
          </a:prstGeom>
          <a:ln w="0">
            <a:noFill/>
          </a:ln>
        </p:spPr>
      </p:pic>
      <p:sp>
        <p:nvSpPr>
          <p:cNvPr id="488" name="WordArt 13"/>
          <p:cNvSpPr txBox="1"/>
          <p:nvPr/>
        </p:nvSpPr>
        <p:spPr>
          <a:xfrm>
            <a:off x="428472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694520" y="58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5870160" y="5805360"/>
            <a:ext cx="24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00006996"/>
          <p:cNvPicPr/>
          <p:nvPr/>
        </p:nvPicPr>
        <p:blipFill>
          <a:blip r:embed="rId3"/>
          <a:srcRect l="13138" t="0" r="17140" b="0"/>
          <a:stretch/>
        </p:blipFill>
        <p:spPr>
          <a:xfrm>
            <a:off x="250920" y="1628640"/>
            <a:ext cx="3816360" cy="4106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шкафчик"/>
          <p:cNvPicPr/>
          <p:nvPr/>
        </p:nvPicPr>
        <p:blipFill>
          <a:blip r:embed="rId4"/>
          <a:stretch/>
        </p:blipFill>
        <p:spPr>
          <a:xfrm>
            <a:off x="5651640" y="21337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495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7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1702080" y="5805360"/>
            <a:ext cx="220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5877720" y="5805360"/>
            <a:ext cx="24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1" name="Picture 2" descr="G:\inde.jpg"/>
          <p:cNvPicPr/>
          <p:nvPr/>
        </p:nvPicPr>
        <p:blipFill>
          <a:blip r:embed="rId5"/>
          <a:stretch/>
        </p:blipFill>
        <p:spPr>
          <a:xfrm>
            <a:off x="5429160" y="2286000"/>
            <a:ext cx="2933640" cy="2095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G:\index.jpg"/>
          <p:cNvPicPr/>
          <p:nvPr/>
        </p:nvPicPr>
        <p:blipFill>
          <a:blip r:embed="rId6"/>
          <a:stretch/>
        </p:blipFill>
        <p:spPr>
          <a:xfrm>
            <a:off x="214200" y="1571760"/>
            <a:ext cx="407196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04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о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1696320" y="580536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878440" y="58053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8" name="Picture 2" descr="G:\index 22.jpg"/>
          <p:cNvPicPr/>
          <p:nvPr/>
        </p:nvPicPr>
        <p:blipFill>
          <a:blip r:embed="rId5"/>
          <a:srcRect l="14541" t="0" r="0" b="0"/>
          <a:stretch/>
        </p:blipFill>
        <p:spPr>
          <a:xfrm>
            <a:off x="285840" y="1857240"/>
            <a:ext cx="400032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http://4baby.ua/productpicture/1049/1049181_gallery_large1.jpg"/>
          <p:cNvPicPr/>
          <p:nvPr/>
        </p:nvPicPr>
        <p:blipFill>
          <a:blip r:embed="rId6"/>
          <a:stretch/>
        </p:blipFill>
        <p:spPr>
          <a:xfrm>
            <a:off x="5857920" y="3125880"/>
            <a:ext cx="2428920" cy="19461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1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1694520" y="5805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5864040" y="580536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3" descr="G:\images п.jpg"/>
          <p:cNvPicPr/>
          <p:nvPr/>
        </p:nvPicPr>
        <p:blipFill>
          <a:blip r:embed="rId5"/>
          <a:stretch/>
        </p:blipFill>
        <p:spPr>
          <a:xfrm>
            <a:off x="5643720" y="2643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G:\images п.jpg"/>
          <p:cNvPicPr/>
          <p:nvPr/>
        </p:nvPicPr>
        <p:blipFill>
          <a:blip r:embed="rId6"/>
          <a:stretch/>
        </p:blipFill>
        <p:spPr>
          <a:xfrm>
            <a:off x="0" y="1643040"/>
            <a:ext cx="4294080" cy="364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8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1694880" y="587700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5943600" y="587700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4" descr="divan_0205"/>
          <p:cNvPicPr/>
          <p:nvPr/>
        </p:nvPicPr>
        <p:blipFill>
          <a:blip r:embed="rId3"/>
          <a:stretch/>
        </p:blipFill>
        <p:spPr>
          <a:xfrm>
            <a:off x="0" y="1773360"/>
            <a:ext cx="5079960" cy="3797280"/>
          </a:xfrm>
          <a:prstGeom prst="rect">
            <a:avLst/>
          </a:prstGeom>
          <a:ln w="0">
            <a:noFill/>
          </a:ln>
        </p:spPr>
      </p:pic>
      <p:sp>
        <p:nvSpPr>
          <p:cNvPr id="522" name="WordArt 6"/>
          <p:cNvSpPr txBox="1"/>
          <p:nvPr/>
        </p:nvSpPr>
        <p:spPr>
          <a:xfrm>
            <a:off x="4284720" y="134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16" descr="2_1e9cf6"/>
          <p:cNvPicPr/>
          <p:nvPr/>
        </p:nvPicPr>
        <p:blipFill>
          <a:blip r:embed="rId6"/>
          <a:stretch/>
        </p:blipFill>
        <p:spPr>
          <a:xfrm>
            <a:off x="5867280" y="270828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4"/>
          <p:cNvSpPr txBox="1"/>
          <p:nvPr/>
        </p:nvSpPr>
        <p:spPr>
          <a:xfrm>
            <a:off x="2556000" y="2637000"/>
            <a:ext cx="430524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5"/>
          <p:cNvSpPr txBox="1"/>
          <p:nvPr/>
        </p:nvSpPr>
        <p:spPr>
          <a:xfrm>
            <a:off x="2143080" y="1428840"/>
            <a:ext cx="48452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бель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7" descr="brig"/>
          <p:cNvPicPr/>
          <p:nvPr/>
        </p:nvPicPr>
        <p:blipFill>
          <a:blip r:embed="rId3"/>
          <a:stretch/>
        </p:blipFill>
        <p:spPr>
          <a:xfrm>
            <a:off x="250920" y="4797360"/>
            <a:ext cx="2523960" cy="1514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стул"/>
          <p:cNvPicPr/>
          <p:nvPr/>
        </p:nvPicPr>
        <p:blipFill>
          <a:blip r:embed="rId4"/>
          <a:stretch/>
        </p:blipFill>
        <p:spPr>
          <a:xfrm>
            <a:off x="2987640" y="4437000"/>
            <a:ext cx="1084320" cy="1805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Shkaf3d"/>
          <p:cNvPicPr/>
          <p:nvPr/>
        </p:nvPicPr>
        <p:blipFill>
          <a:blip r:embed="rId5"/>
          <a:stretch/>
        </p:blipFill>
        <p:spPr>
          <a:xfrm>
            <a:off x="7093080" y="3716280"/>
            <a:ext cx="1649160" cy="263052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1"/>
          <p:cNvSpPr txBox="1"/>
          <p:nvPr/>
        </p:nvSpPr>
        <p:spPr>
          <a:xfrm>
            <a:off x="539640" y="333360"/>
            <a:ext cx="813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 можно назва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все эти предметы одним словом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06" name="Picture 12" descr="00014735"/>
          <p:cNvPicPr/>
          <p:nvPr/>
        </p:nvPicPr>
        <p:blipFill>
          <a:blip r:embed="rId10"/>
          <a:stretch/>
        </p:blipFill>
        <p:spPr>
          <a:xfrm>
            <a:off x="4356000" y="4941720"/>
            <a:ext cx="2617920" cy="1417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100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85840" y="1557360"/>
            <a:ext cx="84294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Игра «Один,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много»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>
            <a:off x="435600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902160" y="595008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869800" y="59500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0" descr="http://ts4.mm.bing.net/th?id=H.4716094377820511&amp;pid=1.7"/>
          <p:cNvPicPr/>
          <p:nvPr/>
        </p:nvPicPr>
        <p:blipFill>
          <a:blip r:embed="rId7"/>
          <a:stretch/>
        </p:blipFill>
        <p:spPr>
          <a:xfrm>
            <a:off x="5072040" y="2286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http://ts4.mm.bing.net/th?id=H.4716094377820511&amp;pid=1.7"/>
          <p:cNvPicPr/>
          <p:nvPr/>
        </p:nvPicPr>
        <p:blipFill>
          <a:blip r:embed="rId8"/>
          <a:stretch/>
        </p:blipFill>
        <p:spPr>
          <a:xfrm>
            <a:off x="5072040" y="3429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http://ts4.mm.bing.net/th?id=H.4716094377820511&amp;pid=1.7"/>
          <p:cNvPicPr/>
          <p:nvPr/>
        </p:nvPicPr>
        <p:blipFill>
          <a:blip r:embed="rId9"/>
          <a:stretch/>
        </p:blipFill>
        <p:spPr>
          <a:xfrm>
            <a:off x="7286760" y="4500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http://ts4.mm.bing.net/th?id=H.4716094377820511&amp;pid=1.7"/>
          <p:cNvPicPr/>
          <p:nvPr/>
        </p:nvPicPr>
        <p:blipFill>
          <a:blip r:embed="rId10"/>
          <a:stretch/>
        </p:blipFill>
        <p:spPr>
          <a:xfrm>
            <a:off x="7000920" y="2857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http://ts4.mm.bing.net/th?id=H.4716094377820511&amp;pid=1.7"/>
          <p:cNvPicPr/>
          <p:nvPr/>
        </p:nvPicPr>
        <p:blipFill>
          <a:blip r:embed="rId11"/>
          <a:stretch/>
        </p:blipFill>
        <p:spPr>
          <a:xfrm>
            <a:off x="6858000" y="135720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http://ts4.mm.bing.net/th?id=H.4716094377820511&amp;pid=1.7"/>
          <p:cNvPicPr/>
          <p:nvPr/>
        </p:nvPicPr>
        <p:blipFill>
          <a:blip r:embed="rId12"/>
          <a:stretch/>
        </p:blipFill>
        <p:spPr>
          <a:xfrm>
            <a:off x="714240" y="2214720"/>
            <a:ext cx="2714760" cy="2714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0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03960" y="5950080"/>
            <a:ext cx="19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5874840" y="5950080"/>
            <a:ext cx="191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е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4" name="Picture 12" descr="G:\index 22.jpg"/>
          <p:cNvPicPr/>
          <p:nvPr/>
        </p:nvPicPr>
        <p:blipFill>
          <a:blip r:embed="rId7"/>
          <a:stretch/>
        </p:blipFill>
        <p:spPr>
          <a:xfrm>
            <a:off x="357120" y="2357280"/>
            <a:ext cx="3214800" cy="2071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http://ts4.mm.bing.net/th?id=H.4523246066076663&amp;pid=1.7"/>
          <p:cNvPicPr/>
          <p:nvPr/>
        </p:nvPicPr>
        <p:blipFill>
          <a:blip r:embed="rId8"/>
          <a:stretch/>
        </p:blipFill>
        <p:spPr>
          <a:xfrm>
            <a:off x="6205680" y="100008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http://ts4.mm.bing.net/th?id=H.4523246066076663&amp;pid=1.7"/>
          <p:cNvPicPr/>
          <p:nvPr/>
        </p:nvPicPr>
        <p:blipFill>
          <a:blip r:embed="rId9"/>
          <a:stretch/>
        </p:blipFill>
        <p:spPr>
          <a:xfrm>
            <a:off x="7562880" y="264312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http://ts4.mm.bing.net/th?id=H.4523246066076663&amp;pid=1.7"/>
          <p:cNvPicPr/>
          <p:nvPr/>
        </p:nvPicPr>
        <p:blipFill>
          <a:blip r:embed="rId10"/>
          <a:stretch/>
        </p:blipFill>
        <p:spPr>
          <a:xfrm>
            <a:off x="5491080" y="2643120"/>
            <a:ext cx="122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http://ts4.mm.bing.net/th?id=H.4523246066076663&amp;pid=1.7"/>
          <p:cNvPicPr/>
          <p:nvPr/>
        </p:nvPicPr>
        <p:blipFill>
          <a:blip r:embed="rId11"/>
          <a:stretch/>
        </p:blipFill>
        <p:spPr>
          <a:xfrm>
            <a:off x="7413480" y="4357800"/>
            <a:ext cx="1301760" cy="121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http://ts4.mm.bing.net/th?id=H.4523246066076663&amp;pid=1.7"/>
          <p:cNvPicPr/>
          <p:nvPr/>
        </p:nvPicPr>
        <p:blipFill>
          <a:blip r:embed="rId12"/>
          <a:stretch/>
        </p:blipFill>
        <p:spPr>
          <a:xfrm>
            <a:off x="5715000" y="442908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2" name="Picture 7" descr="стул"/>
          <p:cNvPicPr/>
          <p:nvPr/>
        </p:nvPicPr>
        <p:blipFill>
          <a:blip r:embed="rId5"/>
          <a:stretch/>
        </p:blipFill>
        <p:spPr>
          <a:xfrm>
            <a:off x="971640" y="2133720"/>
            <a:ext cx="1558800" cy="25970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9"/>
          <p:cNvSpPr/>
          <p:nvPr/>
        </p:nvSpPr>
        <p:spPr>
          <a:xfrm>
            <a:off x="902160" y="59500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5870160" y="595008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36" name="Picture 7" descr="стул"/>
          <p:cNvPicPr/>
          <p:nvPr/>
        </p:nvPicPr>
        <p:blipFill>
          <a:blip r:embed="rId8"/>
          <a:stretch/>
        </p:blipFill>
        <p:spPr>
          <a:xfrm>
            <a:off x="6458040" y="4286160"/>
            <a:ext cx="107136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стул"/>
          <p:cNvPicPr/>
          <p:nvPr/>
        </p:nvPicPr>
        <p:blipFill>
          <a:blip r:embed="rId9"/>
          <a:stretch/>
        </p:blipFill>
        <p:spPr>
          <a:xfrm>
            <a:off x="7286760" y="2643120"/>
            <a:ext cx="1114200" cy="1857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стул"/>
          <p:cNvPicPr/>
          <p:nvPr/>
        </p:nvPicPr>
        <p:blipFill>
          <a:blip r:embed="rId10"/>
          <a:stretch/>
        </p:blipFill>
        <p:spPr>
          <a:xfrm>
            <a:off x="5786280" y="2571840"/>
            <a:ext cx="1071720" cy="1785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стул"/>
          <p:cNvPicPr/>
          <p:nvPr/>
        </p:nvPicPr>
        <p:blipFill>
          <a:blip r:embed="rId11"/>
          <a:stretch/>
        </p:blipFill>
        <p:spPr>
          <a:xfrm>
            <a:off x="7358040" y="1000080"/>
            <a:ext cx="1028880" cy="1714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стул"/>
          <p:cNvPicPr/>
          <p:nvPr/>
        </p:nvPicPr>
        <p:blipFill>
          <a:blip r:embed="rId12"/>
          <a:stretch/>
        </p:blipFill>
        <p:spPr>
          <a:xfrm>
            <a:off x="5459400" y="1071720"/>
            <a:ext cx="10288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2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902160" y="59500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5866200" y="5950080"/>
            <a:ext cx="16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6" name="Picture 2" descr="G:\index е.jpg"/>
          <p:cNvPicPr/>
          <p:nvPr/>
        </p:nvPicPr>
        <p:blipFill>
          <a:blip r:embed="rId7"/>
          <a:stretch/>
        </p:blipFill>
        <p:spPr>
          <a:xfrm>
            <a:off x="6286680" y="4286160"/>
            <a:ext cx="2357280" cy="2028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G:\3.jpg"/>
          <p:cNvPicPr/>
          <p:nvPr/>
        </p:nvPicPr>
        <p:blipFill>
          <a:blip r:embed="rId8"/>
          <a:stretch/>
        </p:blipFill>
        <p:spPr>
          <a:xfrm>
            <a:off x="357120" y="1928880"/>
            <a:ext cx="3214800" cy="30718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G:\images 4444.jpg"/>
          <p:cNvPicPr/>
          <p:nvPr/>
        </p:nvPicPr>
        <p:blipFill>
          <a:blip r:embed="rId9"/>
          <a:stretch/>
        </p:blipFill>
        <p:spPr>
          <a:xfrm>
            <a:off x="5214960" y="3143160"/>
            <a:ext cx="1963800" cy="1357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G:\3.jpg"/>
          <p:cNvPicPr/>
          <p:nvPr/>
        </p:nvPicPr>
        <p:blipFill>
          <a:blip r:embed="rId10"/>
          <a:stretch/>
        </p:blipFill>
        <p:spPr>
          <a:xfrm>
            <a:off x="6286680" y="1428840"/>
            <a:ext cx="1569960" cy="1500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909720" y="5950080"/>
            <a:ext cx="220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878080" y="595008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рова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55" name="Picture 2" descr="G:\index.jpg"/>
          <p:cNvPicPr/>
          <p:nvPr/>
        </p:nvPicPr>
        <p:blipFill>
          <a:blip r:embed="rId7"/>
          <a:stretch/>
        </p:blipFill>
        <p:spPr>
          <a:xfrm>
            <a:off x="285840" y="1785960"/>
            <a:ext cx="3429000" cy="37148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G:\orph room many beds.JPG"/>
          <p:cNvPicPr/>
          <p:nvPr/>
        </p:nvPicPr>
        <p:blipFill>
          <a:blip r:embed="rId8"/>
          <a:stretch/>
        </p:blipFill>
        <p:spPr>
          <a:xfrm>
            <a:off x="4786200" y="1214280"/>
            <a:ext cx="3929040" cy="4286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3780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902160" y="5950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5869800" y="595008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шкаф"/>
          <p:cNvPicPr/>
          <p:nvPr/>
        </p:nvPicPr>
        <p:blipFill>
          <a:blip r:embed="rId5"/>
          <a:stretch/>
        </p:blipFill>
        <p:spPr>
          <a:xfrm>
            <a:off x="611280" y="1413000"/>
            <a:ext cx="2477880" cy="3527280"/>
          </a:xfrm>
          <a:prstGeom prst="rect">
            <a:avLst/>
          </a:prstGeom>
          <a:ln w="0">
            <a:noFill/>
          </a:ln>
        </p:spPr>
      </p:pic>
      <p:sp>
        <p:nvSpPr>
          <p:cNvPr id="462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3" name="Picture 12" descr="шкафы1"/>
          <p:cNvPicPr/>
          <p:nvPr/>
        </p:nvPicPr>
        <p:blipFill>
          <a:blip r:embed="rId8"/>
          <a:stretch/>
        </p:blipFill>
        <p:spPr>
          <a:xfrm>
            <a:off x="4500720" y="1557360"/>
            <a:ext cx="4365360" cy="3274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4:04:15Z</dcterms:created>
  <dc:creator>Администратор</dc:creator>
  <dc:description/>
  <dc:language>en-US</dc:language>
  <cp:lastModifiedBy>Настя</cp:lastModifiedBy>
  <dcterms:modified xsi:type="dcterms:W3CDTF">2019-11-19T20:06:47Z</dcterms:modified>
  <cp:revision>36</cp:revision>
  <dc:subject/>
  <dc:title>Слайд 1</dc:title>
</cp:coreProperties>
</file>