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4D41-882F-4B83-9743-82E8A4DF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4EEF-B3C9-4B3A-A345-083AB124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E196-46BD-4A6D-A8DA-FD78DA58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3B0B-4C3E-4FD7-9A80-87E7D9CE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AD93-7809-4D44-93E0-8788F294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6FF3-7544-4FBB-AF97-5A2460E9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411D-6B14-42B9-97C7-B87EF599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B618-EDBD-47AB-9EFD-75D7300A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2EDC-63DA-4B70-B50B-A3691C54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2B49-8676-4CD8-94BB-22AED054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2B3C-F9B8-4340-B673-FC8E6CFB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E5B-9743-469A-A105-3A07D67C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BAD2-1CC1-4695-8838-4E452704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6E0C-28DD-4863-8C88-43576316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E005-75BA-4343-8089-EDA73D31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EDC8-6DF7-4EBF-99D1-A06AFE95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073E-8CA7-4BEB-803E-06031BE5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35E-0274-47E5-9E85-46AFA79A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1328-B3F7-4ED8-B364-98E036F2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B70-22A9-4998-92FD-C4F053BD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944C-5A8A-41CB-BFC6-23D49A6D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0B86-6027-4392-A5FC-252DFF89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F740-1104-43DE-9221-2F242038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946-9578-4071-98A4-4F7074BC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1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851cc"/>
                </a:gs>
                <a:gs pos="100000">
                  <a:srgbClr val="00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5D81-D288-4D4C-A115-FE23A26AA19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2851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7103-FADF-4F81-85E7-76ACD6A9FFF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1 копия"/>
          <p:cNvPicPr/>
          <p:nvPr/>
        </p:nvPicPr>
        <p:blipFill>
          <a:blip r:embed="rId1"/>
          <a:stretch/>
        </p:blipFill>
        <p:spPr>
          <a:xfrm>
            <a:off x="0" y="0"/>
            <a:ext cx="1620720" cy="162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Юрий\Мои документы\фото и музыка\фото с семинара УМЦ концерта к дню матери открытого урока с литовской делегацией\открытие спортплощадки\Фото1065.jpg"/>
          <p:cNvPicPr/>
          <p:nvPr/>
        </p:nvPicPr>
        <p:blipFill>
          <a:blip r:embed="rId2"/>
          <a:stretch/>
        </p:blipFill>
        <p:spPr>
          <a:xfrm>
            <a:off x="3925800" y="3292560"/>
            <a:ext cx="4675320" cy="7126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униципальное автономное образовательное учреждение города Калининграда для детей дошкольного и младшего школьного возраста начальная школ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детский сад №72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олнечная страна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177336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«Формирование предпосылок учебной деятельности в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етском  саду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50920" y="5157720"/>
            <a:ext cx="3529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Охрименко Е.А., воспита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394840" cy="41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cc66"/>
                </a:solidFill>
                <a:latin typeface="Arial"/>
              </a:rPr>
              <a:t>5 лет</a:t>
            </a:r>
            <a:endParaRPr b="0" lang="en-US" sz="29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Скругленный прямоугольник 4"/>
          <p:cNvSpPr/>
          <p:nvPr/>
        </p:nvSpPr>
        <p:spPr>
          <a:xfrm>
            <a:off x="108000" y="839880"/>
            <a:ext cx="4319640" cy="2065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и физическая культур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ен  активно и осознанно усваивать разучиваемые движения, их элементы, правила ЗОЖ ; понимать указания взрослого, образно интерпретировать их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Скругленный прямоугольник 7"/>
          <p:cNvSpPr/>
          <p:nvPr/>
        </p:nvSpPr>
        <p:spPr>
          <a:xfrm>
            <a:off x="5076720" y="981000"/>
            <a:ext cx="371016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 по инструкции взрослого в стандартной опасной ситуаци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Скругленный прямоугольник 8"/>
          <p:cNvSpPr/>
          <p:nvPr/>
        </p:nvSpPr>
        <p:spPr>
          <a:xfrm>
            <a:off x="5137200" y="2097000"/>
            <a:ext cx="3827520" cy="1617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я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ерживается основных норм и правил поведения при напоминании взрослого или сверстни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Скругленный прямоугольник 9"/>
          <p:cNvSpPr/>
          <p:nvPr/>
        </p:nvSpPr>
        <p:spPr>
          <a:xfrm>
            <a:off x="5246640" y="3933720"/>
            <a:ext cx="354024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оказу и объяснению при разучивании песен, танц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Скругленный прямоугольник 10"/>
          <p:cNvSpPr/>
          <p:nvPr/>
        </p:nvSpPr>
        <p:spPr>
          <a:xfrm>
            <a:off x="5246640" y="5300640"/>
            <a:ext cx="342900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е творчество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ть взрослого и выполнять его инструкци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Скругленный прямоугольник 11"/>
          <p:cNvSpPr/>
          <p:nvPr/>
        </p:nvSpPr>
        <p:spPr>
          <a:xfrm>
            <a:off x="108000" y="3068640"/>
            <a:ext cx="5029200" cy="23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рекомендованные взрослым способы в разных видах деятельности для овладения новым познавательным содержанием. Пытается самостоятельно применять пошаговую инструкцию, добиваться задуманного результата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о выполняет пошаговую инструкцию взрослого. При затруднениях обращается за помощью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13" descr="images"/>
          <p:cNvPicPr/>
          <p:nvPr/>
        </p:nvPicPr>
        <p:blipFill>
          <a:blip r:embed="rId1"/>
          <a:stretch/>
        </p:blipFill>
        <p:spPr>
          <a:xfrm>
            <a:off x="5078520" y="49320"/>
            <a:ext cx="1650960" cy="1693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Овладевший предпосылками УУД </a:t>
            </a:r>
            <a:br>
              <a:rPr sz="3600"/>
            </a:b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6 лет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пособен воспринимать и удерживать инструкцию к выполнению познавательной и исследовательской задачи, к выбору способа её выполнения. Умеет действовать самостоятельно по простому правилу или образцу, заданному взрослы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394840" cy="41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cc66"/>
                </a:solidFill>
                <a:latin typeface="Arial"/>
              </a:rPr>
              <a:t>6 лет</a:t>
            </a:r>
            <a:endParaRPr b="0" lang="en-US" sz="29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Скругленный прямоугольник 4"/>
          <p:cNvSpPr/>
          <p:nvPr/>
        </p:nvSpPr>
        <p:spPr>
          <a:xfrm>
            <a:off x="108000" y="839880"/>
            <a:ext cx="4319640" cy="2065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ен многое запоминать, читать наизус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Скругленный прямоугольник 7"/>
          <p:cNvSpPr/>
          <p:nvPr/>
        </p:nvSpPr>
        <p:spPr>
          <a:xfrm>
            <a:off x="5076720" y="981000"/>
            <a:ext cx="371016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 по инструкции взрослого в стандартной опасной ситуаци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Скругленный прямоугольник 8"/>
          <p:cNvSpPr/>
          <p:nvPr/>
        </p:nvSpPr>
        <p:spPr>
          <a:xfrm>
            <a:off x="5137200" y="2097000"/>
            <a:ext cx="3827520" cy="1617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я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ен удерживать в памяти правило, высказанное взрослым и  действовать по нему без напомина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Скругленный прямоугольник 9"/>
          <p:cNvSpPr/>
          <p:nvPr/>
        </p:nvSpPr>
        <p:spPr>
          <a:xfrm>
            <a:off x="5246640" y="3933720"/>
            <a:ext cx="378936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ится к результату  музыкально – художественной деятельности (исполнить хорошо песню, танец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Скругленный прямоугольник 10"/>
          <p:cNvSpPr/>
          <p:nvPr/>
        </p:nvSpPr>
        <p:spPr>
          <a:xfrm>
            <a:off x="5246640" y="5013360"/>
            <a:ext cx="371808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е творчество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здании рисунка, лепки, аппликации и в конструировании начинает овладевать умениями работы по правилу и образцу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Скругленный прямоугольник 11"/>
          <p:cNvSpPr/>
          <p:nvPr/>
        </p:nvSpPr>
        <p:spPr>
          <a:xfrm>
            <a:off x="108000" y="3068640"/>
            <a:ext cx="5029200" cy="23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элементы планирования в познавательной деятельности, удерживает в памяти заданное правило или образ, умеет направлять свои действия, ориентируясь на заданные требова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3" descr="images"/>
          <p:cNvPicPr/>
          <p:nvPr/>
        </p:nvPicPr>
        <p:blipFill>
          <a:blip r:embed="rId1"/>
          <a:stretch/>
        </p:blipFill>
        <p:spPr>
          <a:xfrm>
            <a:off x="5078520" y="49320"/>
            <a:ext cx="1650960" cy="1693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Овладевший предпосылками УУД </a:t>
            </a:r>
            <a:br>
              <a:rPr sz="3600"/>
            </a:b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7 лет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особен воспринимать и удерживать составную инструкцию к выполнению познавательной и исследовательской задачи, к выбору способа её выполнения. Описывать процесс выполнения задания, проводить его самоанализ, давать самооценку  результатов.                                  Умеет действовать по собственному плану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394840" cy="41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cc66"/>
                </a:solidFill>
                <a:latin typeface="Arial"/>
              </a:rPr>
              <a:t>7 лет</a:t>
            </a:r>
            <a:endParaRPr b="0" lang="en-US" sz="29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Скругленный прямоугольник 4"/>
          <p:cNvSpPr/>
          <p:nvPr/>
        </p:nvSpPr>
        <p:spPr>
          <a:xfrm>
            <a:off x="108000" y="1197000"/>
            <a:ext cx="4319640" cy="1708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тает наизусть 3-4 стихотворения, самостоятельно рассказывает хорошо знакомые сказки, рассказы,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Скругленный прямоугольник 7"/>
          <p:cNvSpPr/>
          <p:nvPr/>
        </p:nvSpPr>
        <p:spPr>
          <a:xfrm>
            <a:off x="5076720" y="981000"/>
            <a:ext cx="371016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 по инструкции взрослого в стандартной опасной ситуаци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Скругленный прямоугольник 8"/>
          <p:cNvSpPr/>
          <p:nvPr/>
        </p:nvSpPr>
        <p:spPr>
          <a:xfrm>
            <a:off x="4716360" y="2097000"/>
            <a:ext cx="4248360" cy="17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я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меет действовать по указанию взрослого: выполнять инструкции данные словесно, точно воспроизводить словесный образец при пересказе литературного произведения близко к тексту. Выполняет графические диктант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Скругленный прямоугольник 9"/>
          <p:cNvSpPr/>
          <p:nvPr/>
        </p:nvSpPr>
        <p:spPr>
          <a:xfrm>
            <a:off x="4716360" y="3933720"/>
            <a:ext cx="431964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ит накопленный опыт слушания, исполнения. творчества в самостоятельную музыкально – художественную деятельнос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Скругленный прямоугольник 10"/>
          <p:cNvSpPr/>
          <p:nvPr/>
        </p:nvSpPr>
        <p:spPr>
          <a:xfrm>
            <a:off x="4500720" y="5013360"/>
            <a:ext cx="4464000" cy="14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е творчество                                 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здании рисунка, лепки, аппликации и в конструировании умеет работать по правилу и образцу, самостоятельно оценивает результат своей деятельност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   причины  допущенных ошибок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Скругленный прямоугольник 11"/>
          <p:cNvSpPr/>
          <p:nvPr/>
        </p:nvSpPr>
        <p:spPr>
          <a:xfrm>
            <a:off x="108000" y="3068640"/>
            <a:ext cx="4032360" cy="23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вариативные способы интеллектуальной задачи. В процессе усвоения познавательной информации широко использует способы организованной и самостоятельной познавательной деятельност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14" descr=""/>
          <p:cNvPicPr/>
          <p:nvPr/>
        </p:nvPicPr>
        <p:blipFill>
          <a:blip r:embed="rId1"/>
          <a:stretch/>
        </p:blipFill>
        <p:spPr>
          <a:xfrm>
            <a:off x="2627280" y="-7920"/>
            <a:ext cx="1297080" cy="1484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67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ы организации образовательного процесса в детском саду.</a:t>
            </a:r>
            <a:br>
              <a:rPr sz="40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95280" y="1447920"/>
          <a:ext cx="8137440" cy="430200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Традиционные формы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нтерактивные формы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3930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се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су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лечен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ктори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ир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атрализованн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дактические иг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ртивные иг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одные иг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курс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х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авк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сс-конферен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Школа исследователе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Клуб любознательн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сунки-сочи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н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следовательск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жиссерская иг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ение проблем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 коллек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Сказочная лаборатор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fff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85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витие предпосылок  универсальных учебных действий на этапе дошкольной подготовки – будет способствовать успешной адаптации и обучению в начальной школе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2707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СПАСИБО ЗА ВНИМАНИЕ 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ФГОС ДО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каз Министерства образования и науки РФ  от «17» октября 2013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стоящий приказ вступил в сил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1 января 2014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сновные принципы ФГОСДО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хранение уникальности и самоценности детства как важного этапа в общем развитии человек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ичностно – развивающий и гуманистический характер взаимодействия взрослых (родитель-педагог-ребенок) и дет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важение личности ребенк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ализация Программы в форме игры, познавательной и исследовательской деятельности, в форме творческой активности,   обеспечивающей художественно – эстетическое развитие ребен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 стандарте учитываютс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дивидуальные потребности ребен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можности освоения ребенка Программы на разных этапах её реализа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ae0d"/>
                </a:solidFill>
                <a:latin typeface="Times New Roman"/>
                <a:ea typeface="Times New Roman"/>
              </a:rPr>
              <a:t>Целевые ориентиры на этапе завершения дошкольного образования</a:t>
            </a:r>
            <a:br>
              <a:rPr sz="2800"/>
            </a:br>
            <a:r>
              <a:rPr b="1" lang="ru-RU" sz="2800" spc="-1" strike="noStrike">
                <a:solidFill>
                  <a:srgbClr val="ffae0d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Picture 2" descr="http://www.campacademia.com/blog/wp-content/uploads/2011/01/happy-running-boy.jpg"/>
          <p:cNvPicPr/>
          <p:nvPr/>
        </p:nvPicPr>
        <p:blipFill>
          <a:blip r:embed="rId1"/>
          <a:stretch/>
        </p:blipFill>
        <p:spPr>
          <a:xfrm>
            <a:off x="3500280" y="2071800"/>
            <a:ext cx="2732400" cy="364320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4"/>
          <p:cNvSpPr/>
          <p:nvPr/>
        </p:nvSpPr>
        <p:spPr>
          <a:xfrm>
            <a:off x="1071720" y="1071720"/>
            <a:ext cx="3860640" cy="85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овладевает основными культурными способами деятельност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Скругленный прямоугольник 5"/>
          <p:cNvSpPr/>
          <p:nvPr/>
        </p:nvSpPr>
        <p:spPr>
          <a:xfrm>
            <a:off x="214200" y="2286000"/>
            <a:ext cx="342900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способен к волевым усилиям, может следовать социальным нормам поведе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Скругленный прямоугольник 6"/>
          <p:cNvSpPr/>
          <p:nvPr/>
        </p:nvSpPr>
        <p:spPr>
          <a:xfrm>
            <a:off x="571680" y="4221000"/>
            <a:ext cx="3404880" cy="149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роявляет любознате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ет вопросы взрослым и сверстника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Скругленный прямоугольник 7"/>
          <p:cNvSpPr/>
          <p:nvPr/>
        </p:nvSpPr>
        <p:spPr>
          <a:xfrm>
            <a:off x="5286240" y="1214280"/>
            <a:ext cx="3143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ет установкой положительного отношения к миру, к разным видам труда, другим людям и самому себ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Скругленный прямоугольник 8"/>
          <p:cNvSpPr/>
          <p:nvPr/>
        </p:nvSpPr>
        <p:spPr>
          <a:xfrm>
            <a:off x="6215040" y="2500200"/>
            <a:ext cx="292896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обладает развитым воображением, владеет разными формами и видами игр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Скругленный прямоугольник 9"/>
          <p:cNvSpPr/>
          <p:nvPr/>
        </p:nvSpPr>
        <p:spPr>
          <a:xfrm>
            <a:off x="6072120" y="3786120"/>
            <a:ext cx="2857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достаточно хорошо владеет устной речью, может выражать свои мысли и жела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Скругленный прямоугольник 10"/>
          <p:cNvSpPr/>
          <p:nvPr/>
        </p:nvSpPr>
        <p:spPr>
          <a:xfrm>
            <a:off x="5357880" y="5143680"/>
            <a:ext cx="3429000" cy="15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ебенка хорошо развита крупная и мелкая мотори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Универсальные учебные действия (УУД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34960" y="2285640"/>
            <a:ext cx="3208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77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Прямая со стрелкой 4"/>
          <p:cNvCxnSpPr/>
          <p:nvPr/>
        </p:nvCxnSpPr>
        <p:spPr>
          <a:xfrm flipH="1">
            <a:off x="2339640" y="1784880"/>
            <a:ext cx="714960" cy="572040"/>
          </a:xfrm>
          <a:prstGeom prst="straightConnector1">
            <a:avLst/>
          </a:prstGeom>
          <a:ln w="38160">
            <a:solidFill>
              <a:srgbClr val="aaffff"/>
            </a:solidFill>
            <a:miter/>
            <a:tailEnd len="med" type="arrow" w="med"/>
          </a:ln>
        </p:spPr>
      </p:cxnSp>
      <p:sp>
        <p:nvSpPr>
          <p:cNvPr id="111" name="Скругленный прямоугольник 5"/>
          <p:cNvSpPr/>
          <p:nvPr/>
        </p:nvSpPr>
        <p:spPr>
          <a:xfrm>
            <a:off x="250920" y="2421000"/>
            <a:ext cx="4033800" cy="393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936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7700"/>
                </a:solidFill>
                <a:latin typeface="Times New Roman"/>
                <a:ea typeface="Times New Roman"/>
              </a:rPr>
              <a:t>в широком смысле означает умение учиться, т. е. способность обучающегося к саморазвитию и самосовершенствованию путём присвоения нового социального опы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2" name="Прямая со стрелкой 6"/>
          <p:cNvCxnSpPr/>
          <p:nvPr/>
        </p:nvCxnSpPr>
        <p:spPr>
          <a:xfrm>
            <a:off x="6515640" y="1809720"/>
            <a:ext cx="500760" cy="572400"/>
          </a:xfrm>
          <a:prstGeom prst="straightConnector1">
            <a:avLst/>
          </a:prstGeom>
          <a:ln w="38160">
            <a:solidFill>
              <a:srgbClr val="aaffff"/>
            </a:solidFill>
            <a:miter/>
            <a:tailEnd len="med" type="arrow" w="med"/>
          </a:ln>
        </p:spPr>
      </p:cxnSp>
      <p:sp>
        <p:nvSpPr>
          <p:cNvPr id="113" name="Скругленный прямоугольник 9"/>
          <p:cNvSpPr/>
          <p:nvPr/>
        </p:nvSpPr>
        <p:spPr>
          <a:xfrm>
            <a:off x="4572000" y="2421000"/>
            <a:ext cx="4286160" cy="4008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936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узком значении, этот термин можно определить как совокупность способов действий обучающегося, обеспечивающих его способность к самостоятельному усвоению новых знаний и умений, включая организацию этого процесс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Овладевший предпосылками УУД </a:t>
            </a:r>
            <a:br>
              <a:rPr sz="3600"/>
            </a:b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4 года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Умеет выполнять пошагово инструкцию взрослого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394840" cy="41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cc66"/>
                </a:solidFill>
                <a:latin typeface="Arial"/>
              </a:rPr>
              <a:t>4 года</a:t>
            </a:r>
            <a:endParaRPr b="0" lang="en-US" sz="29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Скругленный прямоугольник 4"/>
          <p:cNvSpPr/>
          <p:nvPr/>
        </p:nvSpPr>
        <p:spPr>
          <a:xfrm>
            <a:off x="108000" y="1268280"/>
            <a:ext cx="4319640" cy="180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и физическая культур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емится к постановке цели при выполнении физических упражнений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ен правильно реагировать на инструкцию взрослого в освоении КГН и ЗОЖ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Скругленный прямоугольник 5"/>
          <p:cNvSpPr/>
          <p:nvPr/>
        </p:nvSpPr>
        <p:spPr>
          <a:xfrm>
            <a:off x="214200" y="3322800"/>
            <a:ext cx="4000680" cy="1220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яет наизусть короткие стихотворения, произведения малых форм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ушает и слышит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Скругленный прямоугольник 7"/>
          <p:cNvSpPr/>
          <p:nvPr/>
        </p:nvSpPr>
        <p:spPr>
          <a:xfrm>
            <a:off x="5076720" y="981000"/>
            <a:ext cx="371016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ется действовать по инструкции взрослого в стандартной опасной ситуаци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Скругленный прямоугольник 8"/>
          <p:cNvSpPr/>
          <p:nvPr/>
        </p:nvSpPr>
        <p:spPr>
          <a:xfrm>
            <a:off x="5137200" y="2097000"/>
            <a:ext cx="3827520" cy="1617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я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ет речь взрослого, обращенную к группе детей эмоционально положительно реагирует на просьбы и требования взрослого (убрать игрушки, помочь воспитателю, маме, папе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Скругленный прямоугольник 9"/>
          <p:cNvSpPr/>
          <p:nvPr/>
        </p:nvSpPr>
        <p:spPr>
          <a:xfrm>
            <a:off x="5246640" y="3933720"/>
            <a:ext cx="354024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твлекается во время музыкально – художественной деятельност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Скругленный прямоугольник 10"/>
          <p:cNvSpPr/>
          <p:nvPr/>
        </p:nvSpPr>
        <p:spPr>
          <a:xfrm>
            <a:off x="5246640" y="5300640"/>
            <a:ext cx="342900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е творчество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 овладевать умениями слушать взрослого и выполнять его инструкци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Скругленный прямоугольник 11"/>
          <p:cNvSpPr/>
          <p:nvPr/>
        </p:nvSpPr>
        <p:spPr>
          <a:xfrm>
            <a:off x="108000" y="4724280"/>
            <a:ext cx="4319640" cy="194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28440">
            <a:solidFill>
              <a:srgbClr val="ffae0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 направлять свое внимание на знакомство с новым познавательным содержанием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о выполняет пошаговую инструкцию взрослого. При затруднениях обращается за помощью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13" descr="images"/>
          <p:cNvPicPr/>
          <p:nvPr/>
        </p:nvPicPr>
        <p:blipFill>
          <a:blip r:embed="rId1"/>
          <a:stretch/>
        </p:blipFill>
        <p:spPr>
          <a:xfrm>
            <a:off x="2127240" y="146160"/>
            <a:ext cx="1652760" cy="1695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Овладевший предпосылками УУД </a:t>
            </a:r>
            <a:br>
              <a:rPr sz="3600"/>
            </a:b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5 лет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Умеет действовать по простому правилу или образцу при постоянном контроле со стороны взрослых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09:43:53Z</dcterms:created>
  <dc:creator>server</dc:creator>
  <dc:description/>
  <dc:language>en-US</dc:language>
  <cp:lastModifiedBy>ASUS</cp:lastModifiedBy>
  <dcterms:modified xsi:type="dcterms:W3CDTF">2014-06-27T10:47:40Z</dcterms:modified>
  <cp:revision>46</cp:revision>
  <dc:subject/>
  <dc:title>Муниципальное автономное образовательное учреждение города Калининграда для детей дошкольного и младшего школьного возраста начальная школа – детский сад №72  «Солнечная страна»</dc:title>
</cp:coreProperties>
</file>