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F67-042F-4DF4-B45B-4163150E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AE2-E69F-4917-8F4D-332CC6FE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DB0-85F2-4DB8-9F12-35A153E7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816-0340-4A30-8AD6-CFF9D68D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F8FA-51BF-4C5A-A281-51059119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B829-C13D-4A7A-B7E6-38292585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191D-BCD1-4F4C-83A3-6B245D82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2B60-DA49-4635-A00A-6125EB45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5B36-8895-4A41-AD52-73EB4B16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197A-6C87-49BC-8CC3-44B7AC8F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A229-1387-4E94-8040-644A1978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C16-2347-41D9-BD0D-363DDA28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4C38-3E09-44A2-9121-2A437F51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4612-AA71-4279-8380-37F12AF3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1A0F-F480-4031-8BD2-714A88F6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1907-CE2E-44D6-8738-03E3AC4B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AA1D-6698-4B2E-B5EF-AA043D84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023-0213-4E0E-84B6-0F2F8AC8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042-948C-4D36-BF2E-77D8FCF6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168-D828-4753-B4EB-816AA655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306-22D1-45C1-B2A1-813FCF83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015-7951-47C3-90FF-C7BB9A6A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252-FC2D-44AC-BAD7-6730A051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C36-844E-47F5-A934-2EB09C8B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E57D-03D2-469E-8B15-EEA1A2D3AA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AEF2-BEEE-423B-AE8F-FD7F53F732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1 копия"/>
          <p:cNvPicPr/>
          <p:nvPr/>
        </p:nvPicPr>
        <p:blipFill>
          <a:blip r:embed="rId1"/>
          <a:stretch/>
        </p:blipFill>
        <p:spPr>
          <a:xfrm>
            <a:off x="0" y="0"/>
            <a:ext cx="1620720" cy="162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Юрий\Мои документы\фото и музыка\фото с семинара УМЦ концерта к дню матери открытого урока с литовской делегацией\открытие спортплощадки\Фото1065.jpg"/>
          <p:cNvPicPr/>
          <p:nvPr/>
        </p:nvPicPr>
        <p:blipFill>
          <a:blip r:embed="rId2"/>
          <a:stretch/>
        </p:blipFill>
        <p:spPr>
          <a:xfrm>
            <a:off x="3925800" y="3292560"/>
            <a:ext cx="4675320" cy="712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униципальное автономное образовательное учреждение города Калининграда для детей дошкольного и младшего школьного возраста начальная школ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детский сад №72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олнечная страна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177336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«Формирование предпосылок учебной деятельности в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етском  саду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50920" y="5157720"/>
            <a:ext cx="352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Охрименко Е.А., воспита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39484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cc66"/>
                </a:solidFill>
                <a:latin typeface="Arial"/>
              </a:rPr>
              <a:t>5 лет</a:t>
            </a:r>
            <a:endParaRPr b="0" lang="en-US" sz="2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Скругленный прямоугольник 4"/>
          <p:cNvSpPr/>
          <p:nvPr/>
        </p:nvSpPr>
        <p:spPr>
          <a:xfrm>
            <a:off x="108000" y="839880"/>
            <a:ext cx="4319640" cy="2065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и физическая культу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ен  активно и осознанно усваивать разучиваемые движения, их элементы, правила ЗОЖ ; понимать указания взрослого, образно интерпретировать и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Скругленный прямоугольник 7"/>
          <p:cNvSpPr/>
          <p:nvPr/>
        </p:nvSpPr>
        <p:spPr>
          <a:xfrm>
            <a:off x="5076720" y="981000"/>
            <a:ext cx="37101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 по инструкции взрослого в стандартной опасной ситуа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Скругленный прямоугольник 8"/>
          <p:cNvSpPr/>
          <p:nvPr/>
        </p:nvSpPr>
        <p:spPr>
          <a:xfrm>
            <a:off x="5137200" y="2097000"/>
            <a:ext cx="3827520" cy="161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ерживается основных норм и правил поведения при напоминании взрослого или сверстн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Скругленный прямоугольник 9"/>
          <p:cNvSpPr/>
          <p:nvPr/>
        </p:nvSpPr>
        <p:spPr>
          <a:xfrm>
            <a:off x="5246640" y="3933720"/>
            <a:ext cx="354024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оказу и объяснению при разучивании песен, танц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Скругленный прямоугольник 10"/>
          <p:cNvSpPr/>
          <p:nvPr/>
        </p:nvSpPr>
        <p:spPr>
          <a:xfrm>
            <a:off x="5246640" y="5300640"/>
            <a:ext cx="3429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 взрослого и выполнять его инструк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Скругленный прямоугольник 11"/>
          <p:cNvSpPr/>
          <p:nvPr/>
        </p:nvSpPr>
        <p:spPr>
          <a:xfrm>
            <a:off x="108000" y="3068640"/>
            <a:ext cx="502920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рекомендованные взрослым способы в разных видах деятельности для овладения новым познавательным содержанием. Пытается самостоятельно применять пошаговую инструкцию, добиваться задуманного результата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 выполняет пошаговую инструкцию взрослого. При затруднениях обращается за помощь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3" descr="images"/>
          <p:cNvPicPr/>
          <p:nvPr/>
        </p:nvPicPr>
        <p:blipFill>
          <a:blip r:embed="rId1"/>
          <a:stretch/>
        </p:blipFill>
        <p:spPr>
          <a:xfrm>
            <a:off x="5078520" y="49320"/>
            <a:ext cx="1650960" cy="1693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Овладевший предпосылками УУД </a:t>
            </a:r>
            <a:br>
              <a:rPr sz="3600"/>
            </a:b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6 лет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пособен воспринимать и удерживать инструкцию к выполнению познавательной и исследовательской задачи, к выбору способа её выполнения. Умеет действовать самостоятельно по простому правилу или образцу, заданному взрослы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39484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cc66"/>
                </a:solidFill>
                <a:latin typeface="Arial"/>
              </a:rPr>
              <a:t>6 лет</a:t>
            </a:r>
            <a:endParaRPr b="0" lang="en-US" sz="2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Скругленный прямоугольник 4"/>
          <p:cNvSpPr/>
          <p:nvPr/>
        </p:nvSpPr>
        <p:spPr>
          <a:xfrm>
            <a:off x="108000" y="839880"/>
            <a:ext cx="4319640" cy="2065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ен многое запоминать, читать наизу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Скругленный прямоугольник 7"/>
          <p:cNvSpPr/>
          <p:nvPr/>
        </p:nvSpPr>
        <p:spPr>
          <a:xfrm>
            <a:off x="5076720" y="981000"/>
            <a:ext cx="37101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 по инструкции взрослого в стандартной опасной ситуа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5137200" y="2097000"/>
            <a:ext cx="3827520" cy="161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ен удерживать в памяти правило, высказанное взрослым и  действовать по нему без напомина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Скругленный прямоугольник 9"/>
          <p:cNvSpPr/>
          <p:nvPr/>
        </p:nvSpPr>
        <p:spPr>
          <a:xfrm>
            <a:off x="5246640" y="3933720"/>
            <a:ext cx="378936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ся к результату  музыкально – художественной деятельности (исполнить хорошо песню, танец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Скругленный прямоугольник 10"/>
          <p:cNvSpPr/>
          <p:nvPr/>
        </p:nvSpPr>
        <p:spPr>
          <a:xfrm>
            <a:off x="5246640" y="5013360"/>
            <a:ext cx="371808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здании рисунка, лепки, аппликации и в конструировании начинает овладевать умениями работы по правилу и образц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Скругленный прямоугольник 11"/>
          <p:cNvSpPr/>
          <p:nvPr/>
        </p:nvSpPr>
        <p:spPr>
          <a:xfrm>
            <a:off x="108000" y="3068640"/>
            <a:ext cx="502920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элементы планирования в познавательной деятельности, удерживает в памяти заданное правило или образ, умеет направлять свои действия, ориентируясь на заданные требова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3" descr="images"/>
          <p:cNvPicPr/>
          <p:nvPr/>
        </p:nvPicPr>
        <p:blipFill>
          <a:blip r:embed="rId1"/>
          <a:stretch/>
        </p:blipFill>
        <p:spPr>
          <a:xfrm>
            <a:off x="5078520" y="49320"/>
            <a:ext cx="1650960" cy="1693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Овладевший предпосылками УУД </a:t>
            </a:r>
            <a:br>
              <a:rPr sz="3600"/>
            </a:b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7 лет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особен воспринимать и удерживать составную инструкцию к выполнению познавательной и исследовательской задачи, к выбору способа её выполнения. Описывать процесс выполнения задания, проводить его самоанализ, давать самооценку  результатов.                                  Умеет действовать по собственному план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39484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cc66"/>
                </a:solidFill>
                <a:latin typeface="Arial"/>
              </a:rPr>
              <a:t>7 лет</a:t>
            </a:r>
            <a:endParaRPr b="0" lang="en-US" sz="2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108000" y="1197000"/>
            <a:ext cx="4319640" cy="1708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тает наизусть 3-4 стихотворения, самостоятельно рассказывает хорошо знакомые сказки, рассказы,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5076720" y="981000"/>
            <a:ext cx="37101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 по инструкции взрослого в стандартной опасной ситуа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Скругленный прямоугольник 8"/>
          <p:cNvSpPr/>
          <p:nvPr/>
        </p:nvSpPr>
        <p:spPr>
          <a:xfrm>
            <a:off x="4716360" y="2097000"/>
            <a:ext cx="4248360" cy="17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еет действовать по указанию взрослого: выполнять инструкции данные словесно, точно воспроизводить словесный образец при пересказе литературного произведения близко к тексту. Выполняет графические диктант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9"/>
          <p:cNvSpPr/>
          <p:nvPr/>
        </p:nvSpPr>
        <p:spPr>
          <a:xfrm>
            <a:off x="4716360" y="3933720"/>
            <a:ext cx="431964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ит накопленный опыт слушания, исполнения. творчества в самостоятельную музыкально – художественную деятельно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10"/>
          <p:cNvSpPr/>
          <p:nvPr/>
        </p:nvSpPr>
        <p:spPr>
          <a:xfrm>
            <a:off x="4500720" y="5013360"/>
            <a:ext cx="446400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                                 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здании рисунка, лепки, аппликации и в конструировании умеет работать по правилу и образцу, самостоятельно оценивает результат своей деятель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  причины  допущенных ошиб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Скругленный прямоугольник 11"/>
          <p:cNvSpPr/>
          <p:nvPr/>
        </p:nvSpPr>
        <p:spPr>
          <a:xfrm>
            <a:off x="108000" y="3068640"/>
            <a:ext cx="403236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вариативные способы интеллектуальной задачи. В процессе усвоения познавательной информации широко использует способы организованной и самостоятельной познавательной деятельност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1"/>
          <a:stretch/>
        </p:blipFill>
        <p:spPr>
          <a:xfrm>
            <a:off x="2627280" y="-7920"/>
            <a:ext cx="129708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67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организации образовательного процесса в детском саду.</a:t>
            </a:r>
            <a:br>
              <a:rPr sz="40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1447920"/>
          <a:ext cx="8137440" cy="43020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Традиционные формы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нтерактивные формы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930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у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леч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тор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и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атрализован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дактически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ивн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ав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сс-конферен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Школа исследователе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луб любознательн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унки-сочи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следовательск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жиссерская иг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 проблем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коллек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казочная лаборато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85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тие предпосылок  универсальных учебных действий на этапе дошкольной подготовки – будет способствовать успешной адаптации и обучению в начальной школ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каз Министерства образования и науки РФ  от «17» октября 2013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стоящий приказ вступил в сил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1 января 2014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новные принципы ФГОСДО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хранение уникальности и самоценности детства как важного этапа в общем развитии челове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чностно – развивающий и гуманистический характер взаимодействия взрослых (родитель-педагог-ребенок) и дет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ажение личности ребен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лизация Программы в форме игры, познавательной и исследовательской деятельности, в форме творческой активности,   обеспечивающей художественно – эстетическое развитие ребен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 стандарте учитываютс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дивидуальные потребности ребе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можности освоения ребенка Программы на разных этапах её реализ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ae0d"/>
                </a:solidFill>
                <a:latin typeface="Times New Roman"/>
                <a:ea typeface="Times New Roman"/>
              </a:rPr>
              <a:t>Целевые ориентиры на этапе завершения дошко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ffae0d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Picture 2" descr="http://www.campacademia.com/blog/wp-content/uploads/2011/01/happy-running-boy.jpg"/>
          <p:cNvPicPr/>
          <p:nvPr/>
        </p:nvPicPr>
        <p:blipFill>
          <a:blip r:embed="rId1"/>
          <a:stretch/>
        </p:blipFill>
        <p:spPr>
          <a:xfrm>
            <a:off x="3500280" y="2071800"/>
            <a:ext cx="273240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4"/>
          <p:cNvSpPr/>
          <p:nvPr/>
        </p:nvSpPr>
        <p:spPr>
          <a:xfrm>
            <a:off x="1071720" y="1071720"/>
            <a:ext cx="3860640" cy="85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овладевает основными культурными способами деятель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214200" y="2286000"/>
            <a:ext cx="34290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пособен к волевым усилиям, может следовать социальным нормам повед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Скругленный прямоугольник 6"/>
          <p:cNvSpPr/>
          <p:nvPr/>
        </p:nvSpPr>
        <p:spPr>
          <a:xfrm>
            <a:off x="571680" y="4221000"/>
            <a:ext cx="3404880" cy="149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оявляет любозна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ет вопросы взрослым и сверстника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Скругленный прямоугольник 7"/>
          <p:cNvSpPr/>
          <p:nvPr/>
        </p:nvSpPr>
        <p:spPr>
          <a:xfrm>
            <a:off x="5286240" y="1214280"/>
            <a:ext cx="3143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 установкой положительного отношения к миру, к разным видам труда, другим людям и самому себ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8"/>
          <p:cNvSpPr/>
          <p:nvPr/>
        </p:nvSpPr>
        <p:spPr>
          <a:xfrm>
            <a:off x="6215040" y="2500200"/>
            <a:ext cx="29289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обладает развитым воображением, владеет разными формами и видами иг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Скругленный прямоугольник 9"/>
          <p:cNvSpPr/>
          <p:nvPr/>
        </p:nvSpPr>
        <p:spPr>
          <a:xfrm>
            <a:off x="6072120" y="3786120"/>
            <a:ext cx="2857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достаточно хорошо владеет устной речью, может выражать свои мысли и жела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Скругленный прямоугольник 10"/>
          <p:cNvSpPr/>
          <p:nvPr/>
        </p:nvSpPr>
        <p:spPr>
          <a:xfrm>
            <a:off x="5357880" y="5143680"/>
            <a:ext cx="3429000" cy="15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бенка хорошо развита крупная и мелкая мотор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Универсальные учебные действия (УУД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34960" y="2285640"/>
            <a:ext cx="3208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77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Прямая со стрелкой 4"/>
          <p:cNvCxnSpPr/>
          <p:nvPr/>
        </p:nvCxnSpPr>
        <p:spPr>
          <a:xfrm flipH="1">
            <a:off x="2339640" y="1784880"/>
            <a:ext cx="714960" cy="572040"/>
          </a:xfrm>
          <a:prstGeom prst="straightConnector1">
            <a:avLst/>
          </a:prstGeom>
          <a:ln w="38160">
            <a:solidFill>
              <a:srgbClr val="aaffff"/>
            </a:solidFill>
            <a:miter/>
            <a:tailEnd len="med" type="arrow" w="med"/>
          </a:ln>
        </p:spPr>
      </p:cxnSp>
      <p:sp>
        <p:nvSpPr>
          <p:cNvPr id="111" name="Скругленный прямоугольник 5"/>
          <p:cNvSpPr/>
          <p:nvPr/>
        </p:nvSpPr>
        <p:spPr>
          <a:xfrm>
            <a:off x="250920" y="2421000"/>
            <a:ext cx="4033800" cy="393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93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7700"/>
                </a:solidFill>
                <a:latin typeface="Times New Roman"/>
                <a:ea typeface="Times New Roman"/>
              </a:rPr>
              <a:t>в широком смысле означает умение учиться, т. е. способность обучающегося к саморазвитию и самосовершенствованию путём присвоения нового социального опы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2" name="Прямая со стрелкой 6"/>
          <p:cNvCxnSpPr/>
          <p:nvPr/>
        </p:nvCxnSpPr>
        <p:spPr>
          <a:xfrm>
            <a:off x="6515640" y="1809720"/>
            <a:ext cx="500760" cy="572400"/>
          </a:xfrm>
          <a:prstGeom prst="straightConnector1">
            <a:avLst/>
          </a:prstGeom>
          <a:ln w="38160">
            <a:solidFill>
              <a:srgbClr val="aaffff"/>
            </a:solidFill>
            <a:miter/>
            <a:tailEnd len="med" type="arrow" w="med"/>
          </a:ln>
        </p:spPr>
      </p:cxnSp>
      <p:sp>
        <p:nvSpPr>
          <p:cNvPr id="113" name="Скругленный прямоугольник 9"/>
          <p:cNvSpPr/>
          <p:nvPr/>
        </p:nvSpPr>
        <p:spPr>
          <a:xfrm>
            <a:off x="4572000" y="2421000"/>
            <a:ext cx="4286160" cy="40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93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зком значении, этот термин можно определить как совокупность способов действий обучающегося, обеспечивающих его способность к самостоятельному усвоению новых знаний и умений, включая организацию этого проце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Овладевший предпосылками УУД </a:t>
            </a:r>
            <a:br>
              <a:rPr sz="3600"/>
            </a:b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4 года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Умеет выполнять пошагово инструкцию взрослого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39484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cc66"/>
                </a:solidFill>
                <a:latin typeface="Arial"/>
              </a:rPr>
              <a:t>4 года</a:t>
            </a:r>
            <a:endParaRPr b="0" lang="en-US" sz="2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108000" y="1268280"/>
            <a:ext cx="4319640" cy="180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и физическая культу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емится к постановке цели при выполнении физических упражнений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ен правильно реагировать на инструкцию взрослого в освоении КГН и ЗО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214200" y="3322800"/>
            <a:ext cx="4000680" cy="1220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яет наизусть короткие стихотворения, произведения малых форм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ушает и слышит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Скругленный прямоугольник 7"/>
          <p:cNvSpPr/>
          <p:nvPr/>
        </p:nvSpPr>
        <p:spPr>
          <a:xfrm>
            <a:off x="5076720" y="981000"/>
            <a:ext cx="37101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ся действовать по инструкции взрослого в стандартной опасной ситуа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Скругленный прямоугольник 8"/>
          <p:cNvSpPr/>
          <p:nvPr/>
        </p:nvSpPr>
        <p:spPr>
          <a:xfrm>
            <a:off x="5137200" y="2097000"/>
            <a:ext cx="3827520" cy="161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ет речь взрослого, обращенную к группе детей эмоционально положительно реагирует на просьбы и требования взрослого (убрать игрушки, помочь воспитателю, маме, папе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Скругленный прямоугольник 9"/>
          <p:cNvSpPr/>
          <p:nvPr/>
        </p:nvSpPr>
        <p:spPr>
          <a:xfrm>
            <a:off x="5246640" y="3933720"/>
            <a:ext cx="354024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влекается во время музыкально – художественной деятель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10"/>
          <p:cNvSpPr/>
          <p:nvPr/>
        </p:nvSpPr>
        <p:spPr>
          <a:xfrm>
            <a:off x="5246640" y="5300640"/>
            <a:ext cx="3429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овладевать умениями слушать взрослого и выполнять его инструк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Скругленный прямоугольник 11"/>
          <p:cNvSpPr/>
          <p:nvPr/>
        </p:nvSpPr>
        <p:spPr>
          <a:xfrm>
            <a:off x="108000" y="4724280"/>
            <a:ext cx="4319640" cy="194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направлять свое внимание на знакомство с новым познавательным содержанием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 выполняет пошаговую инструкцию взрослого. При затруднениях обращается за помощь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3" descr="images"/>
          <p:cNvPicPr/>
          <p:nvPr/>
        </p:nvPicPr>
        <p:blipFill>
          <a:blip r:embed="rId1"/>
          <a:stretch/>
        </p:blipFill>
        <p:spPr>
          <a:xfrm>
            <a:off x="2127240" y="146160"/>
            <a:ext cx="1652760" cy="1695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Овладевший предпосылками УУД </a:t>
            </a:r>
            <a:br>
              <a:rPr sz="3600"/>
            </a:b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5 лет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Умеет действовать по простому правилу или образцу при постоянном контроле со стороны взрослых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9:43:53Z</dcterms:created>
  <dc:creator>server</dc:creator>
  <dc:description/>
  <dc:language>en-US</dc:language>
  <cp:lastModifiedBy>ASUS</cp:lastModifiedBy>
  <dcterms:modified xsi:type="dcterms:W3CDTF">2014-06-27T10:47:40Z</dcterms:modified>
  <cp:revision>46</cp:revision>
  <dc:subject/>
  <dc:title>Муниципальное автономное образовательное учреждение города Калининграда для детей дошкольного и младшего школьного возраста начальная школа – детский сад №72  «Солнечная страна»</dc:title>
</cp:coreProperties>
</file>