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0CB-B867-4E03-AAE5-68CA6F59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923-DA4D-46C1-9D69-2BE5A97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06B-0ACC-4CC4-B587-058EFC76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33E-2D46-437E-A41B-1A3DD44C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BF5-AF0A-43A6-ABD4-3C297A9A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970E-B28C-4024-87FA-3D9E6EA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9E3C-A677-44E5-9D8C-1EA68FF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486-20E8-4210-9D10-0169C93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46F4-D949-4361-BDC1-95E11E10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9B9-194C-45A7-8F0A-67E3843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BCD-67EE-4702-A042-6183585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B75-2A02-41B6-8FEE-F3E9240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627-46C5-4E77-A78A-F34DF40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BBC-3D94-45C9-B898-3C37819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3E9F-10F1-462B-A992-4FBBF90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A80-95C2-48B1-9BF3-F17EFDC5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D51-1832-4123-87FC-F3E66DA8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307F-5565-403A-ABB4-7794F69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A8EA-BB2D-4865-9E92-B635154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E7AD-21CF-4749-A4F6-7F9C5A0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2275-0A8F-46B0-9A74-7F351B4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4574-9925-4766-B7F2-F2E39511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111-6F21-4C3F-A7F7-442AF6C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19BD-D23C-490A-89B0-6B22585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DBC5-7FA7-4DE1-8D97-9ABBC95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F04D-68F9-4DFC-B71C-D3C8203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8B65-8DE7-4082-884E-853F8AF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184E-82D5-4F63-B5A6-930C21E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1B74-27E2-4CD2-8B39-1FF3F79D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60C8-9089-4696-8758-B57B9D26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953-26FF-4F2D-93D5-7F5E2542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207-A75F-4472-8244-A60BF209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649-8AFD-47E1-A35F-96B127D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D74-093C-4600-BBF2-FDF2B4F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D45-1065-473F-91AB-3B5EB28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A38-E457-4C17-AE5E-6BE0BE2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88F-56EE-494D-BB64-043B0D8D3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50D6-85F2-4FA3-B3D6-ED907278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3B3-53DB-4DA0-A568-2756EACD26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2160" y="5673600"/>
            <a:ext cx="69818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Пеканова Л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e2a"/>
                </a:solidFill>
                <a:latin typeface="Arial"/>
              </a:rPr>
              <a:t>ДЕНЬ НАРОДНОГО ЕДИНСТВА</a:t>
            </a:r>
            <a:br>
              <a:rPr sz="2400"/>
            </a:br>
            <a:r>
              <a:rPr b="1" lang="ru-RU" sz="2400" spc="-1" strike="noStrike">
                <a:solidFill>
                  <a:srgbClr val="000e2a"/>
                </a:solidFill>
                <a:latin typeface="Arial"/>
              </a:rPr>
              <a:t> 4 НОЯБР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C:\Users\Вадим\Desktop\minin1.jpg"/>
          <p:cNvPicPr/>
          <p:nvPr/>
        </p:nvPicPr>
        <p:blipFill>
          <a:blip r:embed="rId1"/>
          <a:stretch/>
        </p:blipFill>
        <p:spPr>
          <a:xfrm>
            <a:off x="2211480" y="1012680"/>
            <a:ext cx="482112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01320" y="566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рина Мниш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3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Arial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Arial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герь Лжедмитрия 2 в Туш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084720" y="1413000"/>
            <a:ext cx="30592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4437000"/>
            <a:ext cx="4897440" cy="1313640"/>
          </a:xfrm>
          <a:prstGeom prst="rect">
            <a:avLst/>
          </a:prstGeom>
          <a:solidFill>
            <a:srgbClr val="05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271440" y="137160"/>
            <a:ext cx="862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612 г. вся Русская земля встала против польских захватчиков и предателей. Начались бои за Москву. Князь Пожарский оказался талантливым полководцем. А Козьма Минин, не жалея жизни, сражался под стенами столицы, как простой рат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162160" y="2247840"/>
            <a:ext cx="6748560" cy="42181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ноября- день освобождения России от польских захватчиков. Этот день положил конец страшному Смутному врем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23920" y="355680"/>
            <a:ext cx="3994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от наступил славный день: вражеское войско сдалось на милость победител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язь Пожарский вступил в Китай-город с Казанскою иконой Божьей Матери и поклялся построить храм в память этой поб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227480" y="482760"/>
            <a:ext cx="4587840" cy="56908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93560" y="536400"/>
            <a:ext cx="32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адой Минину и Пожарском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а память народная. Недаром памятник им стоит на Красной площади - в самом сердце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640400" y="352440"/>
            <a:ext cx="4228920" cy="6246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0" y="224280"/>
            <a:ext cx="889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. Сбор средств начали в 1803 году, а работу поручили Ивану Мартосу. 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86200" y="288144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436aab2953b9t"/>
          <p:cNvPicPr/>
          <p:nvPr/>
        </p:nvPicPr>
        <p:blipFill>
          <a:blip r:embed="rId1"/>
          <a:stretch/>
        </p:blipFill>
        <p:spPr>
          <a:xfrm>
            <a:off x="187200" y="146160"/>
            <a:ext cx="5853240" cy="6572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6211800" y="24912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й за Моск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0433"/>
          <p:cNvPicPr/>
          <p:nvPr/>
        </p:nvPicPr>
        <p:blipFill>
          <a:blip r:embed="rId1"/>
          <a:stretch/>
        </p:blipFill>
        <p:spPr>
          <a:xfrm>
            <a:off x="387360" y="136440"/>
            <a:ext cx="8450280" cy="5621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972440" y="604836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 Минина и Пожарского в Китай-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сква горела, но была освобожд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43280" y="1600200"/>
            <a:ext cx="353196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D:\Ирина\My Pictures\b_14714.jpg"/>
          <p:cNvPicPr/>
          <p:nvPr/>
        </p:nvPicPr>
        <p:blipFill>
          <a:blip r:embed="rId2"/>
          <a:stretch/>
        </p:blipFill>
        <p:spPr>
          <a:xfrm>
            <a:off x="285840" y="1571760"/>
            <a:ext cx="8501040" cy="477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6800" y="2743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род встречает освободите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D:\Ирина\My Pictures\ft27b.jpg"/>
          <p:cNvPicPr/>
          <p:nvPr/>
        </p:nvPicPr>
        <p:blipFill>
          <a:blip r:embed="rId1"/>
          <a:stretch/>
        </p:blipFill>
        <p:spPr>
          <a:xfrm>
            <a:off x="714240" y="1643040"/>
            <a:ext cx="7858440" cy="485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95560" y="414360"/>
            <a:ext cx="38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занская ик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Рисунок1"/>
          <p:cNvPicPr/>
          <p:nvPr/>
        </p:nvPicPr>
        <p:blipFill>
          <a:blip r:embed="rId1"/>
          <a:stretch/>
        </p:blipFill>
        <p:spPr>
          <a:xfrm>
            <a:off x="4535640" y="311040"/>
            <a:ext cx="4422600" cy="5423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149400" y="1482840"/>
            <a:ext cx="3859200" cy="5197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750px-Monument_Minin_and_Pozharsky_in_NN1"/>
          <p:cNvPicPr/>
          <p:nvPr/>
        </p:nvPicPr>
        <p:blipFill>
          <a:blip r:embed="rId1"/>
          <a:stretch/>
        </p:blipFill>
        <p:spPr>
          <a:xfrm>
            <a:off x="1951200" y="236520"/>
            <a:ext cx="7016760" cy="5613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871640" y="5896080"/>
            <a:ext cx="70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 Минину и Пожарскому В Нижнем Нов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minpoj"/>
          <p:cNvPicPr/>
          <p:nvPr/>
        </p:nvPicPr>
        <p:blipFill>
          <a:blip r:embed="rId2"/>
          <a:stretch/>
        </p:blipFill>
        <p:spPr>
          <a:xfrm>
            <a:off x="246240" y="230040"/>
            <a:ext cx="1492200" cy="1681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2005 года 4ноября – государственный праздник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ь народного еди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889280" y="3071880"/>
            <a:ext cx="67183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 славу тех геро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Живём одной судьбо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годня День еди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ы празднуем с тобо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29" name="Picture 5" descr="Рисунок1"/>
            <p:cNvPicPr/>
            <p:nvPr/>
          </p:nvPicPr>
          <p:blipFill>
            <a:blip r:embed="rId1"/>
            <a:srcRect l="0" t="0" r="-12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gh"/>
            <p:cNvPicPr/>
            <p:nvPr/>
          </p:nvPicPr>
          <p:blipFill>
            <a:blip r:embed="rId2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мя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ал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4ноября День народного единст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2240" y="1857240"/>
            <a:ext cx="3984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шли в историю г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ари менялись и на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ремя смутное, невзг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ь не забудет никог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ревни, сёла,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поклоном русскому нар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годня празднуют своб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День единства навсег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D:\Ирина\My Pictures\65_02.jpg"/>
          <p:cNvPicPr/>
          <p:nvPr/>
        </p:nvPicPr>
        <p:blipFill>
          <a:blip r:embed="rId1"/>
          <a:stretch/>
        </p:blipFill>
        <p:spPr>
          <a:xfrm>
            <a:off x="4357800" y="1285920"/>
            <a:ext cx="4286160" cy="464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33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зьма Минин и Дмитрий Пожарский – русские национальные 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6320" y="1600200"/>
            <a:ext cx="449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мятник Минину и Пожарск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ульптор – И.П.Март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тановлен в 1818 году на Красной площ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нём надпись: «Князю Пожарскому и гражданину Минину благодарная Россия 1818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D:\Ирина\My Pictures\0000016503-YND.jpg"/>
          <p:cNvPicPr/>
          <p:nvPr/>
        </p:nvPicPr>
        <p:blipFill>
          <a:blip r:embed="rId1"/>
          <a:stretch/>
        </p:blipFill>
        <p:spPr>
          <a:xfrm>
            <a:off x="357120" y="1785960"/>
            <a:ext cx="4038840" cy="464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plus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кульптор изобрази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зьма Минин указывает рукой на Моск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н вручает князю Пожарскому старинный меч и призывает его встать во главе русского вой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ираясь на щит, раненый воевода приподнимается со своего лож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426960" y="1763640"/>
            <a:ext cx="80866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раздник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78960" y="1149480"/>
            <a:ext cx="84646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84 году умер  Иван Грозный. Его старший сын Иван был убит отцом в припадке гнева. Младшему сыну-Дмитрию, было всего 2 года.  На престол вступил болезненный и слабый средний сын – Федор Иоанович (1584-1598 гг.) Фактически власть перешла в руки шурина царя боярина Бориса Годунова. В 1598 году Федор Иоанович умирает. С ним прекращается династия Рюрикович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будет прав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C:\Users\Вадим\Desktop\ris_01-04-05.jpg"/>
          <p:cNvPicPr/>
          <p:nvPr/>
        </p:nvPicPr>
        <p:blipFill>
          <a:blip r:embed="rId1"/>
          <a:stretch/>
        </p:blipFill>
        <p:spPr>
          <a:xfrm>
            <a:off x="4803840" y="2967120"/>
            <a:ext cx="277812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0960" y="1149120"/>
            <a:ext cx="859464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сский престол царем был избран Борис Годунов. Он не был наследником династии Рюриковичей, поэтому фактически незаконно занимал этот пос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ствование Бориса Годунова было успешным до 1601 года. В 1601-1603 гг. начались небывалые неурожаи, заморозки, дожди и засуха уничтожали посевы. Начался голод. Народ быстро нашел причину бедствий – незаконный цар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Вадим\Desktop\1212.jpg"/>
          <p:cNvPicPr/>
          <p:nvPr/>
        </p:nvPicPr>
        <p:blipFill>
          <a:blip r:embed="rId1"/>
          <a:stretch/>
        </p:blipFill>
        <p:spPr>
          <a:xfrm>
            <a:off x="5865840" y="3189240"/>
            <a:ext cx="2795400" cy="36687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5680" y="16002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91 году в Угличе при загадочных обстоятельствах погиб последний прямой наследник Ивана Грозного – царевич Дмитрий. Расследование пришло к выводу, что мальчик сам себя заколол ножом в припадке эпилепсии. Народная молва обвинила в смерти царевича Бориса Годун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Users\Вадим\Desktop\original.jpg"/>
          <p:cNvPicPr/>
          <p:nvPr/>
        </p:nvPicPr>
        <p:blipFill>
          <a:blip r:embed="rId1"/>
          <a:stretch/>
        </p:blipFill>
        <p:spPr>
          <a:xfrm>
            <a:off x="4597560" y="3083040"/>
            <a:ext cx="4546440" cy="3132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становке всеобщего недоволь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рисом Годуновым появляются слухи о том, что не погиб царевич Дмитрий, а  жив и вынужден был бежать. В 1602 году объявился человек, выдающий себя за Дмитрия.  Позже выяснилось, что на самом деле был это беглый монах Григорий Отрепь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56:05Z</dcterms:created>
  <dc:creator>1</dc:creator>
  <dc:description/>
  <dc:language>en-US</dc:language>
  <cp:lastModifiedBy>Пользователь Windows</cp:lastModifiedBy>
  <dcterms:modified xsi:type="dcterms:W3CDTF">2019-11-19T16:21:44Z</dcterms:modified>
  <cp:revision>17</cp:revision>
  <dc:subject/>
  <dc:title>День народного един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4140</vt:lpwstr>
  </property>
</Properties>
</file>