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510-F83B-47CF-9B41-8CAF66CA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47A-F9FC-4B75-88C9-8D4AECBB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C3-61B5-4E80-B126-32F1AB62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9D9-5194-4A29-99DD-D9272B31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6186-4B77-4825-A1BA-057702AD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15C3-222F-4B13-AACF-A6B4172C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12D-FFF9-43EE-85BA-32D1E4EF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4418-B284-45E2-9B4F-7162418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1E05-4343-40BC-AEB3-28062B3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99C-B1E8-4893-85AB-58A6779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6E22-CFBA-40BD-AF03-EF9850BB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7EA-D2AA-4786-A99E-78A24C0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B97C-3880-4365-810F-2ECF9D2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7ED2-7219-4E19-AE9C-2E8B663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A319-00BA-49F3-89DB-7FC47A3E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AB6-4A3D-490F-9770-7D4DB5E4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72BA-B340-4445-89DA-080BB5A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EE83-5E39-497B-992C-91FD4139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092D-2FB4-4791-B41E-4CE5E6D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C2A3-C1BA-4B8E-8669-75A90CD9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71CB-D888-4CCD-BF10-CB352653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B618-AD5D-4453-BEA5-29B9078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492-0FFD-4765-8BE1-B33B8C8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48BF-68DF-4AF5-AF38-4A6B889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985A-DF5F-4FAF-8485-896355A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B8D0-5F58-4477-9AC4-A053185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57C6-DA46-446F-B694-05C80C8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867E-CCD6-488F-BA3D-E895A2D2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81DA-A8E2-4993-B689-92269DAE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9912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39200" y="160020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85904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9912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39200" y="3964320"/>
            <a:ext cx="232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AD96-06A0-404E-B53E-DB6E64AE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823-165F-4D4A-BB5E-C57E355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BE1-D1F7-4A91-9335-0E706473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59040" y="274320"/>
            <a:ext cx="72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033-CDD6-482A-806C-6740ACCC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6EB-07DF-4750-9083-4C39C6D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96432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8EF-311F-4344-A9F3-231701C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904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1600200"/>
            <a:ext cx="352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9040" y="3964320"/>
            <a:ext cx="721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6BD-D6EC-4E08-887F-E984E678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2C12-79FE-4FAD-BB91-BF045FF0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E95F-6636-4E52-B6AB-1A1BB5E7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F1D-0139-4961-A457-CE526EB7C4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2160" y="5673600"/>
            <a:ext cx="69818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Пеканова Л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e2a"/>
                </a:solidFill>
                <a:latin typeface="Arial"/>
              </a:rPr>
              <a:t>ДЕНЬ НАРОДНОГО ЕДИНСТВА</a:t>
            </a:r>
            <a:br>
              <a:rPr sz="2400"/>
            </a:br>
            <a:r>
              <a:rPr b="1" lang="ru-RU" sz="2400" spc="-1" strike="noStrike">
                <a:solidFill>
                  <a:srgbClr val="000e2a"/>
                </a:solidFill>
                <a:latin typeface="Arial"/>
              </a:rPr>
              <a:t> 4 НОЯБР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C:\Users\Вадим\Desktop\minin1.jpg"/>
          <p:cNvPicPr/>
          <p:nvPr/>
        </p:nvPicPr>
        <p:blipFill>
          <a:blip r:embed="rId1"/>
          <a:stretch/>
        </p:blipFill>
        <p:spPr>
          <a:xfrm>
            <a:off x="2211480" y="1012680"/>
            <a:ext cx="482112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559040" cy="6337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вый царь раздал должности полякам, остальные обещания не выполнил. В мае состоялась его свадьба с Мариной Мнишек(дочерью польского воевод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дение царя породило слухи,что он-«ненастоящий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936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ление Лжедмитр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01320" y="566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рина Мниш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62160" cy="5715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3" name="Text Box 7"/>
          <p:cNvSpPr/>
          <p:nvPr/>
        </p:nvSpPr>
        <p:spPr>
          <a:xfrm>
            <a:off x="468360" y="6308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Лжедмитрий I и </a:t>
            </a:r>
            <a:r>
              <a:rPr b="1" lang="ru-RU" sz="1800" spc="-1" strike="noStrike">
                <a:solidFill>
                  <a:srgbClr val="580000"/>
                </a:solidFill>
                <a:latin typeface="Arial"/>
              </a:rPr>
              <a:t>Марина</a:t>
            </a: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580000"/>
                </a:solidFill>
                <a:latin typeface="Arial"/>
              </a:rPr>
              <a:t>Мнишек</a:t>
            </a:r>
            <a:r>
              <a:rPr b="0" lang="ru-RU" sz="18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7280" y="404640"/>
            <a:ext cx="475128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АСИЛИЙ  ШУЙСКИЙ</a:t>
            </a:r>
            <a:br>
              <a:rPr sz="36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2349360"/>
            <a:ext cx="397044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ЛАВА  ЗАГОВОРА  ПРОТИВ  ЛЖЕДМИТР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ночь на 17мая 1606г был убит Лжедмитр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6600960" cy="5073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2" descr=""/>
          <p:cNvPicPr/>
          <p:nvPr/>
        </p:nvPicPr>
        <p:blipFill>
          <a:blip r:embed="rId1"/>
          <a:stretch/>
        </p:blipFill>
        <p:spPr>
          <a:xfrm>
            <a:off x="-85680" y="146160"/>
            <a:ext cx="8937720" cy="1231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4500720" y="1785960"/>
            <a:ext cx="4071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силий IV Шуйский (1552-1612), русский царь в 1606-1610. Сын княз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А. Шу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были недовольны приходом к власти «боярского» ца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движение против нового ц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3333960" cy="5191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вижение возглавил  Иван Болот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547640" y="6381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йско Болотниково под Москвой.Художник Э.Лиссн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Текст 7" descr=""/>
          <p:cNvPicPr/>
          <p:nvPr/>
        </p:nvPicPr>
        <p:blipFill>
          <a:blip r:embed="rId1"/>
          <a:stretch/>
        </p:blipFill>
        <p:spPr>
          <a:xfrm>
            <a:off x="249120" y="103320"/>
            <a:ext cx="3969000" cy="950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284720" y="856800"/>
            <a:ext cx="4332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580000"/>
                </a:solidFill>
                <a:latin typeface="Arial"/>
              </a:rPr>
              <a:t>Лжедмитрий </a:t>
            </a:r>
            <a:r>
              <a:rPr b="0" lang="en-US" sz="2800" spc="-1" strike="noStrike">
                <a:solidFill>
                  <a:srgbClr val="58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самозванец, выдававший себя за спасшегося 17 мая 1606 г. Лжедмитрия I. Настоящее имя и происхождение не установлено, хотя существует множество верс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5769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5715000" cy="4010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084720" y="177840"/>
            <a:ext cx="2808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герь Лжедмитрия 2 в Туш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084720" y="1413000"/>
            <a:ext cx="30592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608г войска самозванца обосновались в подмосковном с.Туши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коре Тушино стало второй столицей  со своим царём, прозванным в народе «тушинским вором», боярской думой, патриархом(Филар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4437000"/>
            <a:ext cx="4897440" cy="1313640"/>
          </a:xfrm>
          <a:prstGeom prst="rect">
            <a:avLst/>
          </a:prstGeom>
          <a:solidFill>
            <a:srgbClr val="05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Тушинское войско постоянно пополнялось за счёт московских  бояр, крестьян. Численность достигла 100тыс.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835280" y="5661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о вскоре в настроении крестьян и посадских людей произошёл резкий пер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68882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еврале 1609г Шуйский заключил договор со Швецией об отправке в Россию наёмного войска в обмен на уступку Швеции крепости Коре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500120" y="1523880"/>
            <a:ext cx="3503520" cy="47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292720" y="537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ведские и русские войска под командованием М. Скопина-Шуйского освободили северо-восточную часть Росс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1609 г Речь Посполитая объявила России войн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491240" cy="4714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70036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йско под предводительством Сигизмунда 3 осадило Смолен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271440" y="137160"/>
            <a:ext cx="862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612 г. вся Русская земля встала против польских захватчиков и предателей. Начались бои за Москву. Князь Пожарский оказался талантливым полководцем. А Козьма Минин, не жалея жизни, сражался под стенами столицы, как простой рат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162160" y="2247840"/>
            <a:ext cx="6748560" cy="42181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 ноября- день освобождения России от польских захватчиков. Этот день положил конец страшному Смутному врем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23920" y="355680"/>
            <a:ext cx="3994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от наступил славный день: вражеское войско сдалось на милость победителе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язь Пожарский вступил в Китай-город с Казанскою иконой Божьей Матери и поклялся построить храм в память этой поб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227480" y="482760"/>
            <a:ext cx="4587840" cy="56908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93560" y="536400"/>
            <a:ext cx="32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градой Минину и Пожарском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а память народная. Недаром памятник им стоит на Красной площади - в самом сердце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640400" y="352440"/>
            <a:ext cx="4228920" cy="6246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0" y="224280"/>
            <a:ext cx="8894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. Сбор средств начали в 1803 году, а работу поручили Ивану Мартосу. 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886200" y="288144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436aab2953b9t"/>
          <p:cNvPicPr/>
          <p:nvPr/>
        </p:nvPicPr>
        <p:blipFill>
          <a:blip r:embed="rId1"/>
          <a:stretch/>
        </p:blipFill>
        <p:spPr>
          <a:xfrm>
            <a:off x="187200" y="146160"/>
            <a:ext cx="5853240" cy="6572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6211800" y="24912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й за Моск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0433"/>
          <p:cNvPicPr/>
          <p:nvPr/>
        </p:nvPicPr>
        <p:blipFill>
          <a:blip r:embed="rId1"/>
          <a:stretch/>
        </p:blipFill>
        <p:spPr>
          <a:xfrm>
            <a:off x="387360" y="136440"/>
            <a:ext cx="8450280" cy="5621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972440" y="604836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 Минина и Пожарского в Китай-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сква горела, но была освобожд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43280" y="1600200"/>
            <a:ext cx="353196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D:\Ирина\My Pictures\b_14714.jpg"/>
          <p:cNvPicPr/>
          <p:nvPr/>
        </p:nvPicPr>
        <p:blipFill>
          <a:blip r:embed="rId2"/>
          <a:stretch/>
        </p:blipFill>
        <p:spPr>
          <a:xfrm>
            <a:off x="285840" y="1571760"/>
            <a:ext cx="8501040" cy="477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6800" y="2743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род встречает освободите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D:\Ирина\My Pictures\ft27b.jpg"/>
          <p:cNvPicPr/>
          <p:nvPr/>
        </p:nvPicPr>
        <p:blipFill>
          <a:blip r:embed="rId1"/>
          <a:stretch/>
        </p:blipFill>
        <p:spPr>
          <a:xfrm>
            <a:off x="714240" y="1643040"/>
            <a:ext cx="7858440" cy="485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295560" y="414360"/>
            <a:ext cx="38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занская ик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Рисунок1"/>
          <p:cNvPicPr/>
          <p:nvPr/>
        </p:nvPicPr>
        <p:blipFill>
          <a:blip r:embed="rId1"/>
          <a:stretch/>
        </p:blipFill>
        <p:spPr>
          <a:xfrm>
            <a:off x="4535640" y="311040"/>
            <a:ext cx="4422600" cy="5423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149400" y="1482840"/>
            <a:ext cx="3859200" cy="5197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750px-Monument_Minin_and_Pozharsky_in_NN1"/>
          <p:cNvPicPr/>
          <p:nvPr/>
        </p:nvPicPr>
        <p:blipFill>
          <a:blip r:embed="rId1"/>
          <a:stretch/>
        </p:blipFill>
        <p:spPr>
          <a:xfrm>
            <a:off x="1951200" y="236520"/>
            <a:ext cx="7016760" cy="5613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871640" y="5896080"/>
            <a:ext cx="70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 Минину и Пожарскому В Нижнем Новго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minpoj"/>
          <p:cNvPicPr/>
          <p:nvPr/>
        </p:nvPicPr>
        <p:blipFill>
          <a:blip r:embed="rId2"/>
          <a:stretch/>
        </p:blipFill>
        <p:spPr>
          <a:xfrm>
            <a:off x="246240" y="230040"/>
            <a:ext cx="1492200" cy="1681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2005 года 4ноября – государственный праздник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ь народного еди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889280" y="3071880"/>
            <a:ext cx="671832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о славу тех геро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Живём одной судьбой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годня День еди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ы празднуем с тобо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-36360" y="0"/>
            <a:ext cx="9180360" cy="6858000"/>
            <a:chOff x="-36360" y="0"/>
            <a:chExt cx="9180360" cy="6858000"/>
          </a:xfrm>
        </p:grpSpPr>
        <p:pic>
          <p:nvPicPr>
            <p:cNvPr id="129" name="Picture 5" descr="Рисунок1"/>
            <p:cNvPicPr/>
            <p:nvPr/>
          </p:nvPicPr>
          <p:blipFill>
            <a:blip r:embed="rId1"/>
            <a:srcRect l="0" t="0" r="-12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gh"/>
            <p:cNvPicPr/>
            <p:nvPr/>
          </p:nvPicPr>
          <p:blipFill>
            <a:blip r:embed="rId2"/>
            <a:stretch/>
          </p:blipFill>
          <p:spPr>
            <a:xfrm>
              <a:off x="-3636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7129440" cy="503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0000"/>
                </a:solidFill>
                <a:latin typeface="Comic Sans MS"/>
              </a:rPr>
              <a:t>Что такое «смута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44640" y="1341000"/>
            <a:ext cx="729936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580000"/>
                </a:solidFill>
                <a:uFillTx/>
                <a:latin typeface="Arial"/>
              </a:rPr>
              <a:t>Смута –</a:t>
            </a:r>
            <a:r>
              <a:rPr b="0" lang="ru-RU" sz="4000" spc="-1" strike="noStrike">
                <a:solidFill>
                  <a:srgbClr val="58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80000"/>
                </a:solidFill>
                <a:latin typeface="Arial"/>
              </a:rPr>
              <a:t>период борьбы за власть,       сопровождающийся сменой династий, интервенцией и другими потрясения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мя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ал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4ноября День народного единств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2240" y="1857240"/>
            <a:ext cx="3984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шли в историю г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ари менялись и на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ремя смутное, невзг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ь не забудет никог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ревни, сёла,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поклоном русскому нар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годня празднуют своб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День единства навсег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D:\Ирина\My Pictures\65_02.jpg"/>
          <p:cNvPicPr/>
          <p:nvPr/>
        </p:nvPicPr>
        <p:blipFill>
          <a:blip r:embed="rId1"/>
          <a:stretch/>
        </p:blipFill>
        <p:spPr>
          <a:xfrm>
            <a:off x="4357800" y="1285920"/>
            <a:ext cx="4286160" cy="464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33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зьма Минин и Дмитрий Пожарский – русские национальные геро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6320" y="1600200"/>
            <a:ext cx="449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мятник Минину и Пожарск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кульптор – И.П.Март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тановлен в 1818 году на Красной площ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нём надпись: «Князю Пожарскому и гражданину Минину благодарная Россия 1818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D:\Ирина\My Pictures\0000016503-YND.jpg"/>
          <p:cNvPicPr/>
          <p:nvPr/>
        </p:nvPicPr>
        <p:blipFill>
          <a:blip r:embed="rId1"/>
          <a:stretch/>
        </p:blipFill>
        <p:spPr>
          <a:xfrm>
            <a:off x="357120" y="1785960"/>
            <a:ext cx="4038840" cy="464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plus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кульптор изобрази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узьма Минин указывает рукой на Моск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н вручает князю Пожарскому старинный меч и призывает его встать во главе русского вой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ираясь на щит, раненый воевода приподнимается со своего лож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426960" y="1763640"/>
            <a:ext cx="80866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празднико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78960" y="1149480"/>
            <a:ext cx="84646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84 году умер  Иван Грозный. Его старший сын Иван был убит отцом в припадке гнева. Младшему сыну-Дмитрию, было всего 2 года.  На престол вступил болезненный и слабый средний сын – Федор Иоанович (1584-1598 гг.) Фактически власть перешла в руки шурина царя боярина Бориса Годунова. В 1598 году Федор Иоанович умирает. С ним прекращается династия Рюрикович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будет править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C:\Users\Вадим\Desktop\ris_01-04-05.jpg"/>
          <p:cNvPicPr/>
          <p:nvPr/>
        </p:nvPicPr>
        <p:blipFill>
          <a:blip r:embed="rId1"/>
          <a:stretch/>
        </p:blipFill>
        <p:spPr>
          <a:xfrm>
            <a:off x="4803840" y="2967120"/>
            <a:ext cx="277812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0960" y="1149120"/>
            <a:ext cx="859464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сский престол царем был избран Борис Годунов. Он не был наследником династии Рюриковичей, поэтому фактически незаконно занимал этот пос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ствование Бориса Годунова было успешным до 1601 года. В 1601-1603 гг. начались небывалые неурожаи, заморозки, дожди и засуха уничтожали посевы. Начался голод. Народ быстро нашел причину бедствий – незаконный цар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Вадим\Desktop\1212.jpg"/>
          <p:cNvPicPr/>
          <p:nvPr/>
        </p:nvPicPr>
        <p:blipFill>
          <a:blip r:embed="rId1"/>
          <a:stretch/>
        </p:blipFill>
        <p:spPr>
          <a:xfrm>
            <a:off x="5865840" y="3189240"/>
            <a:ext cx="2795400" cy="36687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45680" y="16002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591 году в Угличе при загадочных обстоятельствах погиб последний прямой наследник Ивана Грозного – царевич Дмитрий. Расследование пришло к выводу, что мальчик сам себя заколол ножом в припадке эпилепсии. Народная молва обвинила в смерти царевича Бориса Годуно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Users\Вадим\Desktop\original.jpg"/>
          <p:cNvPicPr/>
          <p:nvPr/>
        </p:nvPicPr>
        <p:blipFill>
          <a:blip r:embed="rId1"/>
          <a:stretch/>
        </p:blipFill>
        <p:spPr>
          <a:xfrm>
            <a:off x="4597560" y="3083040"/>
            <a:ext cx="4546440" cy="3132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59040" y="274320"/>
            <a:ext cx="721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у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59040" y="160020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становке всеобщего недоволь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рисом Годуновым появляются слухи о том, что не погиб царевич Дмитрий, а  жив и вынужден был бежать. В 1602 году объявился человек, выдающий себя за Дмитрия.  Позже выяснилось, что на самом деле был это беглый монах Григорий Отрепь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468360" y="3284640"/>
            <a:ext cx="799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36003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ЛЖЕДМИТРИЙ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(ГРИГОРИЙ  ОТРЕПЬЕВ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ЦАРЬ  С  160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8044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80000"/>
                </a:solidFill>
                <a:latin typeface="Arial"/>
              </a:rPr>
              <a:t>В июне 1605 г войско самозванца беспрепятственно вступило в Москв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65972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56:05Z</dcterms:created>
  <dc:creator>1</dc:creator>
  <dc:description/>
  <dc:language>en-US</dc:language>
  <cp:lastModifiedBy>Пользователь Windows</cp:lastModifiedBy>
  <dcterms:modified xsi:type="dcterms:W3CDTF">2019-11-19T16:21:44Z</dcterms:modified>
  <cp:revision>17</cp:revision>
  <dc:subject/>
  <dc:title>День народного един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4140</vt:lpwstr>
  </property>
</Properties>
</file>