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3.wmf" ContentType="image/x-wmf"/>
  <Override PartName="/ppt/media/image8.jpeg" ContentType="image/jpeg"/>
  <Override PartName="/ppt/media/image2.gif" ContentType="image/gif"/>
  <Override PartName="/ppt/media/image15.jpeg" ContentType="image/jpeg"/>
  <Override PartName="/ppt/media/image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9F8-E05A-4F9E-80A5-06B5B3B8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792-B270-4508-AB92-81B68AFA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48DB7-EC0E-42D6-BD61-720FE97C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7D43B-C4EB-45D7-9CEE-8A2DE7EC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D9FF1-3321-45BE-814F-C10BAC5A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E5CE2-BFD0-47B8-AC33-C8AFA874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989E9-84CC-4D64-9EFB-DABC3EDE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84BD6-EDF5-4022-B5B8-3159E2E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B6D90-85B9-460B-B079-D8C0DA7D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B2718-54CD-49C0-BD2B-3D19335D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14721-4DE4-4DF2-A781-5221C8FD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60C-287D-4293-A6A7-D62946AF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6FC-7E0E-4D96-8C41-9712DFC1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B171-7C61-4AFC-B33F-82905AA5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4FC9-0762-4C60-976D-40CAB840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C643-6B88-4442-A48F-1BD42BAC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CFC6-DA34-4242-AC87-AC642CA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49CE-465B-401D-A39C-3EABE007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8C97-57BF-4898-90B7-6CF5AC5E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E8C8-22B1-458F-9F5E-A3D71AA4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0AD-1C1C-4C4B-8F76-7F6C0711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7AB1-9305-4D40-B087-C82AD113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BC5F-EEEE-42CD-99F9-C4853D48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FC60-ADB1-4BB5-BAF9-D5BA88A0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948C-8206-4AB2-8010-BEEB63B1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E8CD-2EAD-47C8-9175-1BFB1BE1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3793-37F2-4CDA-B419-D21E1BF4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056C-D378-45F7-A212-095897B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9AB3C-1A77-4D61-807A-5A8280AD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5992-4796-4751-A89A-56A10DD7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2AA7-F908-480A-8AB4-AE8483DD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359-5ACB-4A45-91D8-F4B07520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370C-9DCB-4864-911A-C25CBC9F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00CB-8CD7-4911-A741-4C5E95A5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A8DE-3ECA-41FB-AB4F-B86E1EC9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F845-E3F7-4820-B9AA-F3CBBA9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FFD8-B5A9-44BB-A29C-E78E2A03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D8BF-D909-4731-BE4A-A1B04075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BBEF-D01A-4E66-A3E5-F77B59D9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6E52-1E71-4EED-ABA1-132DD6EC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DEAC6-A573-47BC-A812-40FAB192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D139-7719-4166-9359-31EFB349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181-554C-4FDC-AEB4-2B49EB42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EDBB1-5CCC-4420-8C11-B64223FE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5E13-7661-442B-B25D-548AD41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74038-EC6B-4AA3-9301-16C0FAAC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454B-6357-481D-B7D0-D3A92406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8A9D-BC52-4DFD-BC11-F8A9DD0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874F-4FAF-46D2-A985-343EFD5D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B66E-3238-48B5-8CC5-D0B119B4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05BDD-12B1-49AE-B825-E0BAD77C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A393-B0EF-406C-B93B-B024AD2D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9C7DB-8B5E-4671-BE4F-65345DA3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9F3-BD87-4408-9F3F-77B4FE60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DCFF2-4B0A-44FB-81BC-95334A45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1F21-593F-4E7A-A346-8EF96638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7387C-CCD5-43F7-9971-90C44C38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074E-351A-41F2-B33A-05F117A2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4C0E9-F135-4926-B497-03B0BB22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DDF8E-0A0C-43A4-9ADE-5CB53EA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380F-D31C-4D8D-B15D-C622A09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3E56-14E5-4109-9D57-D4045BD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DE575-E8A9-4710-828F-2F6D81DB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9D326-84B5-4B33-915A-A8B26900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F7C-0E5B-4397-A00B-2E2173D9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0DB0C-7B91-43E0-A920-431A2BFC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95F8-AB58-47E8-98FC-5954FF70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47E1C-4393-4F1D-82E0-3A285D5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7A514-2907-4C0C-BDEF-389A4CB0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C8144-AA57-450F-BD0D-FEA1BB11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D1AD8-32F7-48D5-AE07-3F17B801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CD34A-DC3D-454F-9B18-9AC75F2F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234D-1CB3-4D59-9E2E-D896A0F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5664B-22D0-406B-9FE8-8D2F5EF4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F3138-0FB5-47D3-9045-529CE61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147-92D0-4991-A077-B244A754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ABE75-7DD7-4F74-9390-9D96233D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6899B-9F71-455B-9371-D7AD5D64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46166-CC5C-49C9-89DD-651855FA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64C12-7D4B-4853-BDE3-1BA7C09D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14E26-9F44-4BDC-AAFF-B5556DD6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0B617-459B-453E-9766-C98DC6B1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CED02-5FE8-42A8-9B61-4D3FEE01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ED5C-6283-4A58-943E-695B9F6D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F8FF8-CE5B-45DF-8643-9143AC3F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C63E2-52F7-471F-9F18-90C04CBE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FF0-FBFC-4A0E-B06B-B777B27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B1216-B93B-46C5-9262-729E8D75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AC927-1CFA-4A61-BA64-DAFE510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75FBE-3BF3-4565-96C1-E0937CEF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36EB4-2C00-4DA6-A7D1-D09BE325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CD140-A7D9-423F-85B7-DF2E420F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6DA36-2E6E-4377-A1C6-A2C7D979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15951-9345-4054-8755-BEFF0BCC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1DB6A-F406-41CE-83E3-69ADE611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9D9B-589E-4BA6-B4D7-CF660980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19995-E2BF-470C-9424-0C02FB69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43C-EA8B-492A-885B-D0F01314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8F7A-F63A-49E4-A702-0C7DAB63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5FD0-DF31-4DE0-A532-5349044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84DA8-8B66-457D-8E06-C4EF13AC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CA750-71AC-4430-BF99-2F731518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FB960-9421-45BE-9769-13BD0EA6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0304-454C-427D-95E3-A1DA7921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6B704-C5BD-4990-9EB4-D8575EED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EAC6B-FA16-486D-B6E8-9D8BCFEA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99E8A-8BA4-4D35-AA4C-79CF6DE6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E2ADD-8260-413C-8883-8EB14483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06EE-3EEA-4263-83FB-4B39EDDCDE7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4526-B572-4DBC-8EBE-7FD5F4A815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5669-992F-4161-8CC5-DDEF9CC74DC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584-B145-44C3-8DD0-930CF225C79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81D3-1A8F-40AB-B067-519C646E84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5026-1F41-40CE-8758-BB4A65FF8DA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DBE6-EF3D-4EA9-8738-838FAFAA1D9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B9FC-0628-4A7B-8C5F-8B269788263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582D-42D0-4842-BD86-F04D91126A4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332000" y="4724280"/>
            <a:ext cx="64087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1979640" y="167652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WordArt 23"/>
          <p:cNvSpPr txBox="1"/>
          <p:nvPr/>
        </p:nvSpPr>
        <p:spPr>
          <a:xfrm>
            <a:off x="1692360" y="1125360"/>
            <a:ext cx="468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WordArt 25"/>
          <p:cNvSpPr txBox="1"/>
          <p:nvPr/>
        </p:nvSpPr>
        <p:spPr>
          <a:xfrm rot="21438600">
            <a:off x="3276360" y="3223800"/>
            <a:ext cx="532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0" y="-22680"/>
            <a:ext cx="914400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ьковская средняя школ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оленского района Смоленской област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тоговый проек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тем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Курение как фактор загрязнения воздух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бучающаяся 9 класс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Мазепова Карина Анатолье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mbria"/>
                <a:ea typeface="Calibri"/>
              </a:rPr>
              <a:t>Руководитель проекта: учитель биолог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mbria"/>
                <a:ea typeface="Calibri"/>
              </a:rPr>
              <a:t>Пеканова Людмила Александро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libri"/>
              </a:rPr>
              <a:t>д.Синьков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  <a:ea typeface="Calibri"/>
              </a:rPr>
              <a:t>2018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4"/>
          <p:cNvSpPr txBox="1"/>
          <p:nvPr/>
        </p:nvSpPr>
        <p:spPr>
          <a:xfrm rot="5400000">
            <a:off x="-2039040" y="266436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816200" y="635040"/>
            <a:ext cx="685944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ритч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давец табака расхваливает на ярмарке свой товар:</a:t>
            </a:r>
            <a:r>
              <a:rPr b="0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- Покупайте табак, прекрасный табак! Мой табак не простой, а с секретом. От моего табака стариком не будешь, собака не укусит, вор в дом не залез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дин парень купил немного табака и начал  расспрашивать продавц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cc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А почему стариком не буду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Потому что до старости не доживёш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cc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А почему собака не укусит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Так с палкой ходить будеш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cc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cc0066"/>
                </a:solidFill>
                <a:latin typeface="Tahoma"/>
              </a:rPr>
              <a:t>А почему вор в дом не залезет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Потому что всю ночь будешь кашля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2463840" y="708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6" name="Picture 11" descr="MCj03435330000[1]"/>
          <p:cNvPicPr/>
          <p:nvPr/>
        </p:nvPicPr>
        <p:blipFill>
          <a:blip r:embed="rId1"/>
          <a:stretch/>
        </p:blipFill>
        <p:spPr>
          <a:xfrm>
            <a:off x="6659640" y="2924280"/>
            <a:ext cx="22320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0" y="457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2520" y="4124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1800" y="7191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847800" y="556920"/>
            <a:ext cx="737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Исследовательская ча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Часть 1. Анкет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исследовательской части, я решила провести анкетирование среди обучающихся 6-9 класс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сего было мною опрошено 35 обучаю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данном анкетировании я получила ответы на интересующие меня вопрос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основе данных анкетирования я сделала ряд вывод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1.</a:t>
            </a:r>
            <a:r>
              <a:rPr b="0" lang="ru-RU" sz="1800" spc="-1" strike="noStrike">
                <a:solidFill>
                  <a:srgbClr val="c00000"/>
                </a:solidFill>
                <a:latin typeface="Tahoma"/>
                <a:ea typeface="Calibri"/>
              </a:rPr>
              <a:t> 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Соотношение числа курящих обучающих в моей школе с 6 по 11 класс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1" name="Диаграмма 2"/>
          <p:cNvGraphicFramePr/>
          <p:nvPr/>
        </p:nvGraphicFramePr>
        <p:xfrm>
          <a:off x="482760" y="3611520"/>
          <a:ext cx="74847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2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611520"/>
                    <a:ext cx="74847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Диаграмма 6"/>
          <p:cNvGraphicFramePr/>
          <p:nvPr/>
        </p:nvGraphicFramePr>
        <p:xfrm>
          <a:off x="299880" y="1822320"/>
          <a:ext cx="8653680" cy="478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822320"/>
                    <a:ext cx="865368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09680" y="36180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2. По половому признаку: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ndara"/>
              </a:rPr>
              <a:t>По половому признаку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Candara"/>
              </a:rPr>
              <a:t>Мальчики    7     100%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Candara"/>
              </a:rPr>
              <a:t>Девочки     0         0%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1030320" y="163080"/>
            <a:ext cx="5915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чины начала кур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у подростков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333360" y="1420920"/>
          <a:ext cx="7751880" cy="40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20920"/>
                    <a:ext cx="775188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2"/>
          <p:cNvSpPr/>
          <p:nvPr/>
        </p:nvSpPr>
        <p:spPr>
          <a:xfrm>
            <a:off x="1249200" y="617400"/>
            <a:ext cx="61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Экспериментальная ч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фасоль готовая.mp4" descr=""/>
          <p:cNvPicPr/>
          <p:nvPr/>
        </p:nvPicPr>
        <p:blipFill>
          <a:blip r:embed="rId1"/>
          <a:stretch/>
        </p:blipFill>
        <p:spPr>
          <a:xfrm>
            <a:off x="755640" y="1106640"/>
            <a:ext cx="7667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9" dur="1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фасоль1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0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0" y="713520"/>
            <a:ext cx="89535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акокурение </a:t>
            </a:r>
            <a:r>
              <a:rPr b="0" lang="ru-RU" sz="1800" spc="-1" strike="noStrike">
                <a:solidFill>
                  <a:srgbClr val="c00000"/>
                </a:solidFill>
                <a:latin typeface="Tahoma"/>
                <a:ea typeface="Calibri"/>
              </a:rPr>
              <a:t>–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это экологический фактор, так как он прямо или опосредованно влияет на численность вида Человек разумный (Homo sapiens) и имеет широкомасштабный характе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акокурение является антропогенным экологическим фактором, негативно влияющим на здоровье самого человека, здоровье населения и здоровье среды в целом. Решение этой глобальной проблемы зависит от дальнейших действий каждого. Данная работа является одним из способов её разрешения на уровне школы. Информация и наглядность, содержащаяся в проектной работе, может быть использована для проведен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ahoma"/>
                <a:ea typeface="Calibri"/>
              </a:rPr>
              <a:t>-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классных часов в 6-11 классах школ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-общешкольных родительских собра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оформления классных угол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ким образом, выполнена главная цель проекта: профилактика и предупреждение табакокурения среди обучающихся школы, привлечение внимания общественности к проблемам табакокур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518760" y="2953800"/>
            <a:ext cx="814212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: человек не слаб, рожден свободным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 не раб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вечером, как ляжешь спать ты должен  так себе сказать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Я выбрал сам себе дорогу к свету и, презирая сигарету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стану ни за что курить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 – человек! Я должен жить!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Памят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87" name="Рисунок 1" descr="congratulations-of-choosing-to-quit-smoking-while-this-is-great-news--727291"/>
          <p:cNvPicPr/>
          <p:nvPr/>
        </p:nvPicPr>
        <p:blipFill>
          <a:blip r:embed="rId1"/>
          <a:stretch/>
        </p:blipFill>
        <p:spPr>
          <a:xfrm>
            <a:off x="1906560" y="1092240"/>
            <a:ext cx="5330880" cy="161928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" descr="congratulations-of-choosing-to-quit-smoking-while-this-is-great-news--727291"/>
          <p:cNvPicPr/>
          <p:nvPr/>
        </p:nvPicPr>
        <p:blipFill>
          <a:blip r:embed="rId2"/>
          <a:stretch/>
        </p:blipFill>
        <p:spPr>
          <a:xfrm>
            <a:off x="1906560" y="1092240"/>
            <a:ext cx="5330880" cy="161928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1" descr="congratulations-of-choosing-to-quit-smoking-while-this-is-great-news--727291"/>
          <p:cNvPicPr/>
          <p:nvPr/>
        </p:nvPicPr>
        <p:blipFill>
          <a:blip r:embed="rId3"/>
          <a:stretch/>
        </p:blipFill>
        <p:spPr>
          <a:xfrm>
            <a:off x="2058840" y="1244520"/>
            <a:ext cx="5330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7"/>
          <p:cNvSpPr/>
          <p:nvPr/>
        </p:nvSpPr>
        <p:spPr>
          <a:xfrm>
            <a:off x="971640" y="148428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cc"/>
                </a:solidFill>
                <a:latin typeface="Tahoma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0" y="549360"/>
            <a:ext cx="82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8000" y="32400"/>
            <a:ext cx="862992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 и задачи проект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ю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моей работы является профилак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 предупреждение табакокурения среди обучаю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школы,привлечение их внимания к собственном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ь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учить историю возникновения табак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его физико-химические свойства,  а также влия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организм челове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ссмотреть причины курения, а главное влия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икотина на здоровье челове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здать памятку с указанием различны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етодов избавления от табакокур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Актуальность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этой темы связана с распространением этой вредной привычки среди обучающихся школы и пагубным влиянием курения  на здоровье человека и окружающую сре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beach"/>
          <p:cNvPicPr/>
          <p:nvPr/>
        </p:nvPicPr>
        <p:blipFill>
          <a:blip r:embed="rId1"/>
          <a:stretch/>
        </p:blipFill>
        <p:spPr>
          <a:xfrm>
            <a:off x="108000" y="1557360"/>
            <a:ext cx="3311640" cy="4751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4" descr="j0303434"/>
          <p:cNvPicPr/>
          <p:nvPr/>
        </p:nvPicPr>
        <p:blipFill>
          <a:blip r:embed="rId2"/>
          <a:stretch/>
        </p:blipFill>
        <p:spPr>
          <a:xfrm>
            <a:off x="755640" y="443700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19"/>
          <p:cNvSpPr/>
          <p:nvPr/>
        </p:nvSpPr>
        <p:spPr>
          <a:xfrm>
            <a:off x="3492360" y="1459080"/>
            <a:ext cx="56516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Табак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80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родом из Америки. Открытие табака связано с именем великого путешественника Христофора  Колумба. История приобщения европейцев к курению  началась так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12 октября 1492 года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матрос с корабля «Пинтас» знаменитой флотилии Колумба закричал: «Впереди земля !». В числе  подарков, преподнесённых Колумбу местными жителями, были  сушёные  листья  растения  « петум ». Аборигены  курили  эти листья, свёрнутые в трубочк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В Россию</a:t>
            </a:r>
            <a:r>
              <a:rPr b="1" lang="ru-RU" sz="1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табак был завезён английскими купцами в 1565 году через Архангельс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WordArt 23"/>
          <p:cNvSpPr txBox="1"/>
          <p:nvPr/>
        </p:nvSpPr>
        <p:spPr>
          <a:xfrm>
            <a:off x="971640" y="40464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ЯВЛЕНИЕ ТАБАКА</a:t>
            </a:r>
            <a:endParaRPr b="1" lang="en-US" sz="2800" spc="1" strike="noStrike">
              <a:ln w="1260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" dur="3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3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7"/>
          <p:cNvSpPr/>
          <p:nvPr/>
        </p:nvSpPr>
        <p:spPr>
          <a:xfrm>
            <a:off x="216000" y="1665360"/>
            <a:ext cx="871380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-по религиозным мотивам в Итал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табак был объявлен «забавой дьявол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- римские папы предлагали отлуча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от церкви курящих люд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- пять монахов, уличённых в курении, были заживо </a:t>
            </a: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замурованы в монастырской сте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800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ahoma"/>
              </a:rPr>
              <a:t>- в России в царствование царя Михаила Фёдоровича попавшийся на курении в первый раз наказывался 66 ударами палок по стопам, во второй раз – отрезанием носа и уш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WordArt 13"/>
          <p:cNvSpPr txBox="1"/>
          <p:nvPr/>
        </p:nvSpPr>
        <p:spPr>
          <a:xfrm>
            <a:off x="2268360" y="620640"/>
            <a:ext cx="6120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много истории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7" name="Picture 14" descr="MCj01577090000[1]"/>
          <p:cNvPicPr/>
          <p:nvPr/>
        </p:nvPicPr>
        <p:blipFill>
          <a:blip r:embed="rId1"/>
          <a:stretch/>
        </p:blipFill>
        <p:spPr>
          <a:xfrm>
            <a:off x="324000" y="549360"/>
            <a:ext cx="15112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6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6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WordArt 4"/>
          <p:cNvSpPr txBox="1"/>
          <p:nvPr/>
        </p:nvSpPr>
        <p:spPr>
          <a:xfrm rot="5400000">
            <a:off x="-1981440" y="314136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ЧТО ЖЕ ТАКОЕ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9" name="WordArt 5"/>
          <p:cNvSpPr txBox="1"/>
          <p:nvPr/>
        </p:nvSpPr>
        <p:spPr>
          <a:xfrm>
            <a:off x="3059280" y="836640"/>
            <a:ext cx="51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00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БАК ?</a:t>
            </a:r>
            <a:endParaRPr b="1" lang="en-US" sz="1800" spc="1" strike="noStrike">
              <a:ln w="6480">
                <a:solidFill>
                  <a:srgbClr val="00ff00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47640" y="1700280"/>
            <a:ext cx="705672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ТАБА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(Nicotiana), род однолетних и многолетних кустарников и травянистых растений семейства паслёновых. Листья цельнокрайние, цветки пятичленные, разнообразной окраски, плод - коробочка с очень мелкими семенами.</a:t>
            </a:r>
            <a:r>
              <a:rPr b="0" lang="ru-RU" sz="18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7" descr="MCBD05207_0000[1]"/>
          <p:cNvPicPr/>
          <p:nvPr/>
        </p:nvPicPr>
        <p:blipFill>
          <a:blip r:embed="rId1"/>
          <a:stretch/>
        </p:blipFill>
        <p:spPr>
          <a:xfrm>
            <a:off x="6227640" y="3789360"/>
            <a:ext cx="2665440" cy="27813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0"/>
          <p:cNvSpPr/>
          <p:nvPr/>
        </p:nvSpPr>
        <p:spPr>
          <a:xfrm>
            <a:off x="1619280" y="335772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В мире насчитывается свыше 60 его видов. Табак выращивают в 120 стран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5"/>
          <p:cNvSpPr txBox="1"/>
          <p:nvPr/>
        </p:nvSpPr>
        <p:spPr>
          <a:xfrm>
            <a:off x="611280" y="189000"/>
            <a:ext cx="792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держание табачного дым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468360" y="1557360"/>
            <a:ext cx="83516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В табачном дыме более 400 компонентов, 40 из них имеют канцерогенные свойства.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ahoma"/>
              </a:rPr>
              <a:t>Вредные вещества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никот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эфирные мас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углекислый га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аммиа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табачный дёго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полоний – 2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ероводор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инильная кислота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Picture 7" descr="MCj01499920000[1]"/>
          <p:cNvPicPr/>
          <p:nvPr/>
        </p:nvPicPr>
        <p:blipFill>
          <a:blip r:embed="rId1"/>
          <a:stretch/>
        </p:blipFill>
        <p:spPr>
          <a:xfrm>
            <a:off x="5796000" y="3284640"/>
            <a:ext cx="302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6"/>
          <p:cNvSpPr txBox="1"/>
          <p:nvPr/>
        </p:nvSpPr>
        <p:spPr>
          <a:xfrm>
            <a:off x="1763640" y="404640"/>
            <a:ext cx="511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отин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755640" y="1557360"/>
            <a:ext cx="6985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икотин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маслянистая прозрачная жидкость с неприятным запахом и горьким вкусом, на воздухе окрашивается в коричневый цвет и хорошо растворяется в вод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Tahoma"/>
              </a:rPr>
              <a:t>Сила ядовитого действия табака зависит о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одержания в нём никот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ух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плотности набивки сигаре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частоты и глубины затяж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В течение 30 лет курильщик выкуривает 20000 сигарет ( 160 кг табака 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9" descr="MCHM00144_0000[1]"/>
          <p:cNvPicPr/>
          <p:nvPr/>
        </p:nvPicPr>
        <p:blipFill>
          <a:blip r:embed="rId3"/>
          <a:stretch/>
        </p:blipFill>
        <p:spPr>
          <a:xfrm>
            <a:off x="6156360" y="3573360"/>
            <a:ext cx="2736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3"/>
          <p:cNvPicPr/>
          <p:nvPr/>
        </p:nvPicPr>
        <p:blipFill>
          <a:blip r:embed="rId1"/>
          <a:stretch/>
        </p:blipFill>
        <p:spPr>
          <a:xfrm>
            <a:off x="324000" y="981000"/>
            <a:ext cx="2305080" cy="5543640"/>
          </a:xfrm>
          <a:prstGeom prst="rect">
            <a:avLst/>
          </a:prstGeom>
          <a:ln w="0">
            <a:noFill/>
          </a:ln>
        </p:spPr>
      </p:pic>
      <p:sp>
        <p:nvSpPr>
          <p:cNvPr id="460" name="WordArt 6"/>
          <p:cNvSpPr txBox="1"/>
          <p:nvPr/>
        </p:nvSpPr>
        <p:spPr>
          <a:xfrm>
            <a:off x="2268360" y="260280"/>
            <a:ext cx="66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О вреде никотина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2987640" y="1341360"/>
            <a:ext cx="58323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нижается работа головного мозга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повреждается зубная эмал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хронические бронхи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ahoma"/>
              </a:rPr>
              <a:t>бронхиальная аст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стенокард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рак лёгк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ahoma"/>
              </a:rPr>
              <a:t>развиваются гастриты, язвенная болезн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a500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заболевание кровеносных сосуд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755640" y="1197000"/>
            <a:ext cx="503280" cy="7128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46821E-007 C -0.00225 0.00439 -0.01302 0.0178 -0.01319 0.02705 C -0.01336 0.0363 -0.00382 0.04601 -0.00104 0.05619 C 0.00174 0.06636 0.00018 0.07237 0.00365 0.08786 C 0.00712 0.10335 0.02327 0.13572 0.01962 0.14936 C 0.01598 0.16301 -0.02222 0.16624 -0.01857 0.1704 C -0.01493 0.17457 0.03368 0.16231 0.04167 0.17434 C 0.04966 0.18636 0.0382 0.21087 0.029 0.24231 C 0.0198 0.27376 -0.00573 0.3022 -0.01371 0.36277 C -0.0217 0.42335 -0.01649 0.54451 -0.01857 0.60578 C -0.02066 0.66705 -0.02482 0.70474 -0.02656 0.73064 E">
                                      <p:cBhvr>
                                        <p:cTn id="374" dur="5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3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2:45:33Z</dcterms:created>
  <dc:creator>_</dc:creator>
  <dc:description/>
  <dc:language>en-US</dc:language>
  <cp:lastModifiedBy>acer</cp:lastModifiedBy>
  <dcterms:modified xsi:type="dcterms:W3CDTF">2018-02-11T15:23:00Z</dcterms:modified>
  <cp:revision>33</cp:revision>
  <dc:subject/>
  <dc:title>Три                           ступени                         ведущие вниз</dc:title>
</cp:coreProperties>
</file>