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D60-AA59-437B-8F12-1C73B217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F3C-72CF-4B97-96B7-51E7E907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484-2EDD-420E-90ED-6F3DE0DD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3DA-A14B-4150-9E36-01E16D21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D1C-04B7-4644-ADC4-79877077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7972-FCDD-40EC-895A-B826E6A1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43F2-73E0-471A-8740-32FBD2B3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D70C-3F37-44C4-B7BE-01FC8EEB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56F-2EEA-4080-81AA-C79D7F79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9492-BEBE-4170-A199-F8AD71B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5417-63D5-4493-8F37-02AFA69D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2FF-13B1-4027-BAEC-426A3AC1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3AA5-EF6E-42F7-B1C1-0CAFAD34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AAC-5615-4CE3-8EC7-586DE45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59F1-0715-4EFC-A7E3-7A959A82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509-CC09-4020-93B5-341B7BA5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A92B-F2B8-4827-B389-7BD45CB8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C90-402D-42E9-B2B9-32AFF99C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3A3-C522-4F29-B7DB-BE8F811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0E0-D5BD-458A-904F-11EFB535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8DC-CFC6-4C85-92A0-8D32F33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2A3-EEFE-48F0-8355-E2ED9AB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FD1-8165-413D-BBF5-5F28A6B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81F-B9FA-48AB-BDA0-F6B17C4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A8F5-750E-4974-BFB4-207922CDC6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7628-DC8E-4689-B0F0-9DC0C7EBC2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3142800"/>
            <a:ext cx="8072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ajestic"/>
              </a:rPr>
              <a:t>Создание образовательной среды обеспечивающей доступность качественного образования для лиц с ограниченными возможностями здоровья и обеспечивающей их социализаци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00120" y="1356840"/>
            <a:ext cx="57866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работа с родителями(законными представителями) обучающихся с ОВ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ведены педагогом-психологом индивидуальные консультации по темам «Создание особых условий для детей, имеющих особые образовательные потребности»,сентябрь, 2018г. «Преодоление барьеров, мешающих получению образовательных потребностей детям с ОВЗ». Ноябрь,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заседание круглого стола для родителей (законных представителей), воспитывающих детей-инвалидов и детей с ОВЗ. 10 Декаб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служба поддержки для детей-инвалидов и детей с ОВ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дагогом-психологом проведены индивидуальные беседы с детьми-инвалидами  и детьми с ОВЗ по вопросам психологической и социальной адаптации. Октябрь, декабрь 2018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зданы комфортные условия для всех участников образовательного процесса: дети-инвалиды, обучающиеся с ОВЗ вовлечены  в олимпиады, конкурсы, выставки. Сентябрь-декабрь,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учающиеся с ОВЗ и дети-инвалиды посещают занятия по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Составитель Пеканова Людмила Александровна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Majestic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0240" y="966960"/>
            <a:ext cx="7619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6000" y="785520"/>
            <a:ext cx="74674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о заседание круглого стола для образовательного округа №4«Актуальность инклюзивного образования для детей с ОВ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03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 семинар для педагогов ОО по теме: «Изучение нормативных документов и методических рекомендаций по введению федерального образовательного стандарта по ОВ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.05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 банк данных обучающихся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нь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а и утверждена программа АООП для обучающихся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№59 от31.08.2018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 и утвержден локальный акт «Об инклюзивном (интегрированном) обучении обучающихся с ОВ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№59 от31.08.2018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тены учебники для образовательной организации, реализующей адаптированные основные общеобразователь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: 19 экземпля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а: 11385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ами образовательной организации пройдены курсы повышения квалифик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рганизация обучения детей с ограниченными возможностями здоровья в условиях инклюзивного образования»28.09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рганизация и обучение детей с ОВЗ» 5.10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собенности детей РАС» 20.06.201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 ОО приняли участие в вебинарах по проблемам детей с ОВ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4:20:45Z</dcterms:created>
  <dc:creator>Оля</dc:creator>
  <dc:description/>
  <dc:language>en-US</dc:language>
  <cp:lastModifiedBy>Пользователь Windows</cp:lastModifiedBy>
  <dcterms:modified xsi:type="dcterms:W3CDTF">2019-11-19T16:14:23Z</dcterms:modified>
  <cp:revision>57</cp:revision>
  <dc:subject/>
  <dc:title>Слайд 1</dc:title>
</cp:coreProperties>
</file>