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09D-F17B-4D1B-80D5-FDCE7F07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7AE-465B-4BC0-AA40-6C91BE0B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C9A-C04F-4EED-ABFC-F20E1B51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276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860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276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860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6B4-CC22-4DB6-AC04-2B161FC4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0143-3E18-4DB5-96DE-6682FC03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AE5A-8B61-46D9-8309-1BE9F7AA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0FC0-3BAB-4C0C-A79A-3547CF31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7990-61E8-45A7-97D2-64B1245A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D2C9-D8F2-4A73-B1AC-14261857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274320"/>
            <a:ext cx="7643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229F-836B-492C-9328-0033F0AE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6F65-6075-4A87-A7C5-4C8479EB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C32-2989-4300-814E-7C383A07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2B2B-6D8A-4E0D-84DF-9BD5C676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4F2F-2382-41C3-A844-6C393337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02E0-733D-4BA0-AFE9-D43E832D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A8D4-1D17-49DF-8613-5699E1D5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276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860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276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860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CD24-EE8D-467D-A238-41C39415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A5CD-28F9-40B4-BCED-BB8CEAC3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248-9C99-4083-92C9-7EB107A1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CF6-DD7F-46E3-A2D9-C6F9E60D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74320"/>
            <a:ext cx="7643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5588-C190-4F38-8273-BBF9C8A9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C850-F61A-4778-8DCF-3D604AE9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129-08DA-4DCB-AD7E-90AEA336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C266-BFA9-48F1-851B-E2BE90D9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FF81-897B-4693-8FC6-68DAB335A8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456E-24E9-4B31-9D9A-B8DCCB85DD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320" y="3142800"/>
            <a:ext cx="80722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ajestic"/>
              </a:rPr>
              <a:t>Создание образовательной среды обеспечивающей доступность качественного образования для лиц с ограниченными возможностями здоровья и обеспечивающей их социализацию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00120" y="1356840"/>
            <a:ext cx="57866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Majest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246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ована работа с родителями(законными представителями) обучающихся с ОВ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оведены педагогом-психологом индивидуальные консультации по темам «Создание особых условий для детей, имеющих особые образовательные потребности»,сентябрь, 2018г. «Преодоление барьеров, мешающих получению образовательных потребностей детям с ОВЗ». Ноябрь, 2018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заседание круглого стола для родителей (законных представителей), воспитывающих детей-инвалидов и детей с ОВЗ. 10 Декабр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246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ована служба поддержки для детей-инвалидов и детей с ОВ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едагогом-психологом проведены индивидуальные беседы с детьми-инвалидами  и детьми с ОВЗ по вопросам психологической и социальной адаптации. Октябрь, декабрь 2018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озданы комфортные условия для всех участников образовательного процесса: дети-инвалиды, обучающиеся с ОВЗ вовлечены  в олимпиады, конкурсы, выставки. Сентябрь-декабрь, 2018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бучающиеся с ОВЗ и дети-инвалиды посещают занятия по внеуроч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64388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ajestic"/>
              </a:rPr>
              <a:t>Составитель Пеканова Людмила Александровна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Majestic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7499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7499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7499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00240" y="966960"/>
            <a:ext cx="7619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76000" y="785520"/>
            <a:ext cx="746748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о заседание круглого стола для образовательного округа №4«Актуальность инклюзивного образования для детей с ОВ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.03.201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 семинар для педагогов ОО по теме: «Изучение нормативных документов и методических рекомендаций по введению федерального образовательного стандарта по ОВ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.05.201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762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 банк данных обучающихся с ОВ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юнь 2018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а и утверждена программа АООП для обучающихся с ОВ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№59 от31.08.2018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н и утвержден локальный акт «Об инклюзивном (интегрированном) обучении обучающихся с ОВЗ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№59 от31.08.2018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обретены учебники для образовательной организации, реализующей адаптированные основные общеобразовательные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: 19 экземпля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мма: 11385 руб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ами образовательной организации пройдены курсы повышения квалифик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рганизация обучения детей с ограниченными возможностями здоровья в условиях инклюзивного образования»28.09.201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рганизация и обучение детей с ОВЗ» 5.10.201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собенности детей РАС» 20.06.201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 ОО приняли участие в вебинарах по проблемам детей с ОВ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04:20:45Z</dcterms:created>
  <dc:creator>Оля</dc:creator>
  <dc:description/>
  <dc:language>en-US</dc:language>
  <cp:lastModifiedBy>Пользователь Windows</cp:lastModifiedBy>
  <dcterms:modified xsi:type="dcterms:W3CDTF">2019-11-19T16:14:23Z</dcterms:modified>
  <cp:revision>57</cp:revision>
  <dc:subject/>
  <dc:title>Слайд 1</dc:title>
</cp:coreProperties>
</file>