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B7CD-4CD1-4A52-B048-236FF317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2812A-6FCC-4C42-92BE-F34F5307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37D3A-A9EE-4FD6-AC2A-03E3FF65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E0854-D11F-4138-9029-174BA80A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BCA80-A394-4D96-BD49-3A74FC6F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6FB6A-AE62-4603-81D5-8D3B10C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B1F24-9BAF-4DC9-9E16-FC82A2AA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874DA-FE11-416A-9445-FDE3FE6C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6233F-187B-4DD6-8741-D597D677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8005F-F5AB-41F2-B956-D62E629A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65CD7-B238-453D-B237-32E45166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80A8A-5A72-47F1-B072-8B9FCD62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E63FC-0D9E-4DBC-A06A-7EAFB422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FF6DB-BE5E-4DC3-AAD9-770F57D6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FF2BA-13DC-4FE7-BE56-5CEBDADD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02141-2904-4766-B38D-F92B368A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A72E4-810D-409F-9A33-8947B74D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A1611-B7E9-420B-9622-DB35CFB2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DEC8D-5010-410E-A65E-F2A16AE6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F9BDC-DF1C-46F4-A06D-617EFE46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D76C8-8EC3-4E8E-8578-46A8A82E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76E4F-E264-49CE-BC81-E1DC2789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A8301-AAF5-468C-A20E-166779F3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2E1BF-3CD6-460D-A760-4F8FBB9B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5A879-E2A4-40BE-AF8A-7A7B8F31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7A2D0-B486-488B-8CD5-8B672AE8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D9574-3E44-43F8-89F6-AE18052C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D3FC9-8D86-4E7C-AF0D-BCA18F3F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B1C8C-4C58-4FDD-AA85-1B871668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1ABF3-CB6B-4FEE-A05F-2627BE9C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50C-8F7F-496C-83AF-984B7265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63466-F687-4FAA-8422-971EB97A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A6648-0457-4F3F-AE37-12F68BED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EE78F-2CA5-4195-9A28-0E927641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E7F4D-4D40-44B0-BD7E-711D081B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AD875-8128-4BFD-81A0-EA6EB082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36293-A7A4-49BB-9B51-99ABB7C6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D4E94-D698-46A4-8674-4457977A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C549B-61DA-47DC-9641-26C4E6C3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0EF3D-3203-4EC1-8C41-0BBD43E8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1831A-4700-4818-8499-EB5B08F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1C8-A6FF-4EB5-B43D-7D356263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39BB2-C40A-45BB-A7DF-ED1017C6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DB98E-8013-4A87-BCBB-21C14C3B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28333-6CFB-4E06-999B-6B319899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C048F-E472-48A5-9AB3-E1661B12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82E52-8894-4BDC-B66B-381DA11A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9233-A68F-4858-B639-06679607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671-3DAA-49A6-980D-9B98B6F1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8CE-1391-4D31-A081-3436640A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72A-F5B5-463A-9DDD-8A680308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68F-FA4F-45B1-BBDA-F00FC904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737-6950-456A-94D9-F23E7359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369-B8A3-4EB5-9F58-E67B45F3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47B-6610-4BE6-82BC-CA9479ED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86D-6D15-4F17-8D5B-BC1D7A8E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4E8-530A-4FD7-961C-E805C4F4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4459-AA23-471D-BA8B-E52CBCFE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7DF6-F5ED-4F5A-9320-83C951FD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A4CB-CD74-42B0-B010-2637B1A7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01C1-550E-44BD-B33A-27DD1895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58B8-9B57-4821-A9FB-493E75C4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3E71-5B0B-4B8B-AF6B-5FD0C5D3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8A1A-D95D-44FE-8633-3D299A33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9741-2788-4978-8DC6-54BE58C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0E80-0075-4B2C-BC83-83241F1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3FC1-BDA5-4BAB-BFE7-30F6CE57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6EF4-6CA6-497A-B034-DAA9E5B2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D623-97F7-42C4-AD4D-B56859E9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A7431-6645-438E-99E1-4EC73AFC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533C-7D23-491F-BC15-338EEE69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EF14-68F3-4F87-97D0-53908A53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FBE2-50E7-47D8-91AA-25E1BE7E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2FFD-9627-4E3B-AAA2-FECA16C2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69B8-EDC0-4D52-B9D5-31725912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41A1-94C1-40F2-8DB8-EF45B788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AF24-3280-4057-851E-5217DFFE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A338-D0E9-4021-AAE2-BCD11EB9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6129-5D0F-4D44-93E4-1A1E85CA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292C-26A7-4229-9F1B-73EB619C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1653-DED9-4365-A4BB-1B2BF298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A8E81-4141-4963-AD35-FAB1241D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0FC29-15FD-4D95-B5B6-03061C24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F606A-2ADC-4C06-B9AC-3856946E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F7BF-A6B0-4AF3-B7AA-3E1E4F5C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DECEA-4D8C-46E5-B8BD-5E4C72BE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F323-81B9-4CC2-8AA0-93B64A2B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A9E96-3E54-494C-82DC-7230458F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ADC66-B3FE-4D57-877D-15B0E53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7FA64-DB73-49C2-9D1C-6B90D73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3BB36-6E4A-45C0-A335-10054F88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5CE82-C956-421B-85CF-842D8C2F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FF68E-B4FC-43B4-A51B-B909AE17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D1005-8267-4022-8884-B1A3A844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33DD7-E049-43CA-BD8C-56EA2F45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F1191-4940-47D3-9245-806E7268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A850-4CC6-41B4-89C1-33329B85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3F0F7-7E5B-4DEE-ADD8-1A4844EB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2A28A-F2F3-4146-952C-9C4AB22E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B33C8-42F2-4270-B7A9-34698AB7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53658-E309-4364-AC38-A5E30478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1BD42-A038-4555-8820-0FAC210B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6FE86-14F9-4927-AF45-4A85B8D8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98100-7E76-43A8-8182-32965A60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A93F9-053D-42E2-BFA2-D9BF362A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80769-FDB4-41AF-A3DD-72157F69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2253F-3EE8-4D7A-84A5-BDFA0E4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F6322-D724-4BDE-999D-3A9653A3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1B6DF-CFC4-4C51-9D08-BF104FDF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68850-5BE6-43EF-90A0-DEBC2D5F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FD27C-8A0D-4537-9342-DD53F8DE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F1DBD-2414-446F-AE8F-A56D5671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34957-8B58-45E1-AA9C-2F7320BF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8897-2258-492A-BDF8-4CACC7B8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54EDA-A487-47F0-BF1F-DD069946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B94A-D876-4D87-8B03-B6B9B6D2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5629C-01FA-4504-B6C8-7E3AA58C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291AF-360C-4B3C-9EF5-26195EFA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56341-8F62-4815-A610-AE99DB74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66EE0-56C8-4A60-9D44-9A666B6A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99A44-0B0C-4636-AFAE-A318ADED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1AA6E-B8DE-44A0-A7C7-55EE3048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53199-6B6A-44D0-8BC7-F38BEB36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0DAEA-C3DD-4495-812A-EB206991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599E5-8312-4599-9B2C-0D26FEF0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ECDBF-DFE4-4A14-A020-12EED384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4AFA4-86AC-4691-849E-FEE1444A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AB32F-1F6C-4D2A-9B34-70A38A9E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BF728-5A51-4DD4-A742-81868825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46FC6-9E19-488C-BD3C-F7AD04E1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F7F8C-EF9A-4C35-AC82-F89C3556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7896D-50FA-4685-A9A2-14D24D88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653A-22E0-451B-AB2A-7DF72006116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8813-441D-43D2-89E0-E2108D58B0C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2B3B-2611-4880-A3DB-F72EDD8159B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EA28-4ABD-4D9C-A72E-0E15B306591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263B-D2E3-4C19-B1FA-543B969F1F7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CDC4-BC3F-4F42-B138-0B1E58C81DF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86C6-152F-425C-B4DC-B7812FC259A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BD95-0616-494F-B03E-36D47CEEEE0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CBB4-BBAC-457C-AE4E-8292F7BF6A7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BBB1-98D8-4030-AF81-F02C23A77AD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7087-CB5F-4314-A393-F28D740EE70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Группа 6"/>
          <p:cNvGrpSpPr/>
          <p:nvPr/>
        </p:nvGrpSpPr>
        <p:grpSpPr>
          <a:xfrm>
            <a:off x="900000" y="1628640"/>
            <a:ext cx="7201080" cy="2889360"/>
            <a:chOff x="900000" y="1628640"/>
            <a:chExt cx="7201080" cy="2889360"/>
          </a:xfrm>
        </p:grpSpPr>
        <p:pic>
          <p:nvPicPr>
            <p:cNvPr id="46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900000" y="1628640"/>
              <a:ext cx="720108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Прямоугольник 5"/>
            <p:cNvSpPr/>
            <p:nvPr/>
          </p:nvSpPr>
          <p:spPr>
            <a:xfrm>
              <a:off x="1948680" y="4171680"/>
              <a:ext cx="51012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Почему учителя не ставят отметки в 1 классе, ведь родители хотели бы знать об успеваемости своего ребенк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В 1 классе обучение  безотметочно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Это оправдано тем, что ребенок находится в самом начале учебного пути. К концу первого года обучения уже можно судить о той или иной степени успешности обучающего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В 1 классе основной упор делается на приобретение навыков учебного труда. Словесная или условно-знаковая оценка тоже зачастую присутствует в работе учителя с обучающимся. Важно, чтобы она была позитивн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Monotype Corsiva"/>
              </a:rPr>
              <a:t>Учебные занятия в 1 классе по </a:t>
            </a:r>
            <a:br>
              <a:rPr sz="4400"/>
            </a:br>
            <a:r>
              <a:rPr b="1" i="1" lang="ru-RU" sz="4400" spc="-1" strike="noStrike">
                <a:solidFill>
                  <a:srgbClr val="00b050"/>
                </a:solidFill>
                <a:latin typeface="Monotype Corsiva"/>
              </a:rPr>
              <a:t>УМК «Школа Ро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Литературное чт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Математи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Окружающий  ми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ИЗ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Тех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Физическая культу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Деловой сти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2" descr="C:\Users\User\Desktop\image1.jpg"/>
          <p:cNvPicPr/>
          <p:nvPr/>
        </p:nvPicPr>
        <p:blipFill>
          <a:blip r:embed="rId1"/>
          <a:stretch/>
        </p:blipFill>
        <p:spPr>
          <a:xfrm>
            <a:off x="2286000" y="1687680"/>
            <a:ext cx="45720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«Правильный» портф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4" descr="ноябрь-2003 010"/>
          <p:cNvPicPr/>
          <p:nvPr/>
        </p:nvPicPr>
        <p:blipFill>
          <a:blip r:embed="rId1"/>
          <a:stretch/>
        </p:blipFill>
        <p:spPr>
          <a:xfrm>
            <a:off x="785880" y="121428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ноябрь-2003 011"/>
          <p:cNvPicPr/>
          <p:nvPr/>
        </p:nvPicPr>
        <p:blipFill>
          <a:blip r:embed="rId2"/>
          <a:stretch/>
        </p:blipFill>
        <p:spPr>
          <a:xfrm>
            <a:off x="4000680" y="3429000"/>
            <a:ext cx="3198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Вес ранца без учебников не более 70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Ранец должен иметь широкие лям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(4-4,5 с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Норма массы портфеля с учебными пособия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1 – 2 класс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	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не более 2 кг 20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3 – 4 класс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	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не более </a:t>
            </a:r>
            <a:r>
              <a:rPr b="1" i="1" lang="en-US" sz="3200" spc="-1" strike="noStrike" u="sng">
                <a:solidFill>
                  <a:srgbClr val="00b050"/>
                </a:solidFill>
                <a:uFillTx/>
                <a:latin typeface="Monotype Corsiva"/>
              </a:rPr>
              <a:t>3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 кг 20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b050"/>
                </a:solidFill>
                <a:latin typeface="Monotype Corsiva"/>
              </a:rPr>
              <a:t>Физкультурная фор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Monotype Corsiva"/>
              </a:rPr>
              <a:t>Для спортивного зала</a:t>
            </a: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футболка,  спортивные брю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носки,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спортивная обувь</a:t>
            </a: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Monotype Corsiva"/>
              </a:rPr>
              <a:t>Для улицы</a:t>
            </a: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спортивный костю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спортивная обув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Monotype Corsiva"/>
              </a:rPr>
              <a:t>Для улицы (зимний период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куртка, спортивный костю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варежки, шерстяные нос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Monotype Corsiva"/>
              </a:rPr>
              <a:t>Ботинки зим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10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Monotype Corsiva"/>
              </a:rPr>
              <a:t>Без знаний в жизни не добьешься</a:t>
            </a:r>
            <a:br>
              <a:rPr sz="4000"/>
            </a:br>
            <a:r>
              <a:rPr b="1" lang="ru-RU" sz="4000" spc="-1" strike="noStrike">
                <a:solidFill>
                  <a:srgbClr val="92d050"/>
                </a:solidFill>
                <a:latin typeface="Monotype Corsiva"/>
              </a:rPr>
              <a:t>Всего того, что хочется иметь.</a:t>
            </a:r>
            <a:br>
              <a:rPr sz="4000"/>
            </a:br>
            <a:r>
              <a:rPr b="1" lang="ru-RU" sz="4000" spc="-1" strike="noStrike">
                <a:solidFill>
                  <a:srgbClr val="92d050"/>
                </a:solidFill>
                <a:latin typeface="Monotype Corsiva"/>
              </a:rPr>
              <a:t>А в школе опытом ты запасешься,</a:t>
            </a:r>
            <a:br>
              <a:rPr sz="4000"/>
            </a:br>
            <a:r>
              <a:rPr b="1" lang="ru-RU" sz="4000" spc="-1" strike="noStrike">
                <a:solidFill>
                  <a:srgbClr val="92d050"/>
                </a:solidFill>
                <a:latin typeface="Monotype Corsiva"/>
              </a:rPr>
              <a:t>Чтоб в будущее смело мог смотре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d050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едагогический коллекти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4" descr="C:\Users\фрося\Desktop\видео\IMG_20190306_095949.jpg"/>
          <p:cNvPicPr/>
          <p:nvPr/>
        </p:nvPicPr>
        <p:blipFill>
          <a:blip r:embed="rId1"/>
          <a:stretch/>
        </p:blipFill>
        <p:spPr>
          <a:xfrm>
            <a:off x="1039680" y="1214280"/>
            <a:ext cx="65502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От того, как будет чувствов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себя  ребён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поднимаясь на первую ступеньку лестницы позн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что он будет пережив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зависит весь его дальнейш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путь к знан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В.А. Сухомли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В нашей образовательной организации работают 13 педагог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12 педагогов имеют  первую квалификационную категорию. 29% педагогического состава - молодежь, 71%  - педагоги, трудовой стаж которых более 20 лет. Вместе – это сплав опыта и молодого зад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Будущий учитель обучающихся 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 кла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Сапроненкова Еле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Педагогический стаж работы: 20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Образование: высш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Категория: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Ваш ребенок идет в 1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Советы и рекоменд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родителям (законным представителям) будущих первоклассник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а так же ответы 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часто задаваемые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С какого возраста принимаются дети в 1 класс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Monotype Corsiva"/>
              </a:rPr>
              <a:t>В первый класс принимаются  дети, достигшие к 1 сентября текущего года возраста не мене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6 лет 6 месяцев</a:t>
            </a:r>
            <a:r>
              <a:rPr b="0" i="1" lang="ru-RU" sz="3200" spc="-1" strike="noStrike">
                <a:solidFill>
                  <a:srgbClr val="00b050"/>
                </a:solidFill>
                <a:latin typeface="Monotype Corsiva"/>
              </a:rPr>
              <a:t> при отсутствии противопоказаний по состоянию здоровья, но не позже достижения ими возраста 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Monotype Corsiva"/>
              </a:rPr>
              <a:t>(СанПиН 2.4.2.2821-10; п. 10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Monotype Corsiva"/>
              </a:rPr>
              <a:t>Существуют ли особенности в режиме дня первоклассник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В 1 полугодии уроки длятся 35 минут, во втором  - 45 минут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Безотметочная</a:t>
            </a: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система оценивания зн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Учебники выдаются бесплат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Домашние задания в 1 классе не задаются.</a:t>
            </a:r>
            <a:r>
              <a:rPr b="0" lang="ru-RU" sz="24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Домашних заданий в 1 классе нет. Однако, если вы хотите сформировать у своего ребенка качественные навыки письма, чтения, счета, то не отказывайтесь от тренировочных упражнений, которые может порекомендовать Ваш учитель.</a:t>
            </a:r>
            <a:r>
              <a:rPr b="1" i="1" lang="ru-RU" sz="44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Фокина Лидия Петровна</dc:creator>
  <dc:description/>
  <cp:keywords>Шаблон презентации</cp:keywords>
  <dc:language>en-US</dc:language>
  <cp:lastModifiedBy>фрося</cp:lastModifiedBy>
  <dcterms:modified xsi:type="dcterms:W3CDTF">2019-04-23T13:02:08Z</dcterms:modified>
  <cp:revision>60</cp:revision>
  <dc:subject/>
  <dc:title>В школу</dc:title>
</cp:coreProperties>
</file>