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CF402-ACAE-4C82-A84F-DA42D4AD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054CD-8463-4619-A4C2-C35C87DF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869DB-369B-49CA-932D-4FE6DFC1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6C8B3-F06B-4E57-B5A9-2D0AB76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5D6F7-9525-475D-84FD-FA18CE9B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11790-E6A3-45FD-9CF2-408A9528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3F5F7-C64E-476E-ADD5-42ACCDCB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CBB01-916F-4F04-A1D4-37F2566F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0A974-BE7B-4412-AA8B-2B75831A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576A0-26AE-412C-91AA-D8A8B7B4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6212A-07AB-4718-9C2F-4453BFE6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88497-42F3-4C0B-A995-1AEC8C93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88F2D-3DA4-489B-A64A-A47290EC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C331F-0B85-4E40-969D-F7EC48CA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17F70-7FCB-48EC-8044-6C7286BB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CBB6C-A5F3-4636-A250-E2BD64B3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C750D-DAE7-4FB2-9063-FF5BC02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93665-6AAD-4ABE-94B5-C3856D3E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1C9D5-18DB-4CFE-89F2-3D40750C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89709-A231-4929-9555-AFDC2E0C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2B060-7B01-4815-BAD3-EE1D34A7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67A41-4437-41EC-B877-AADB8F8D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110D7-22A7-4C25-B32D-07DB28BC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BC412-8EB9-4356-95C5-91102590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28C7C-B8FC-4F17-B5D9-C3F30A5C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9865F-5953-47AA-9594-01567370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29ED3-C3BD-48C7-8F37-CA945C91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8BCCC-3F6E-461B-8184-D54C1574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5CE8F-8F66-4A2B-8B4B-1E421794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E1671-FA61-46DC-B24B-353EA16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FF4-CAB3-4261-A277-E0D7AF83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0FF3D-4CB9-4390-B20E-B0743613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19516-5AEC-416E-A9C8-22795219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009CD-CAA6-49E1-BAB0-999A65E4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F82D0-231C-46BE-98F3-8D118FC4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B7E22-2B17-4274-8572-7A9786D5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2F7C3-9DA8-45C6-A353-493ABD08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A0640-9329-4EDF-872C-02124C22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92197-6892-47DA-A1A2-EA9EF7EC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28A17-0849-465C-8B3B-8EDB6318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052C9-72AA-4193-B56D-37A08BE5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C48-F44B-47FD-8AE0-726413E7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1F3D6-25DF-4682-AB1B-73572018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667BD-27AA-4C29-9FF0-04F6EC95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821A9-9FD7-4BDC-A295-7DE15E9B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8BB55-6B30-4CDF-B3FE-077866C9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74D58-9C30-45C1-9654-66C95258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A16-4A3E-4081-B246-09E7F756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9D5-40F4-458D-95C8-90CA4B49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BCC-28D8-4BA1-B8D9-84E9E4FA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401-7743-4B7A-86A9-CDE70F37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120-CF08-4F46-99CB-39BA4613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A01-9103-48D7-902C-001538EC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1EB-F846-4A29-A0A2-EEAE8B4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F99-450A-4390-BF85-961D557B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AF6-43A9-493F-B32B-40123A08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F88-55DA-4A42-BA14-592CE071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9523-E629-4112-9CBF-420AD204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2AD4-2490-4DF8-92B2-388D7F2D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BB55-315B-4361-A3D6-565D5F0F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7EDF-734D-4F4A-8B45-68D6CEA1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CEC7-76B5-4470-B942-86DA0CAD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35A2-5DC2-4CB9-B123-D3CE3901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D672-5323-4929-A851-7376CAAF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4682-8348-4B28-A3F1-2EDC64E6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0505-DC20-4EB5-8F04-DFA58326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C2DE-1CE4-46D9-AD46-A7218ED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C369-ECBE-481B-9442-AD8E955E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F3C3-0B97-4480-9234-089478C6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308A-63A0-45FA-B2E8-79AB695D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7133A-BFDB-4F7C-80AD-1A797399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4A3B4-3637-4AB2-B115-FA55C6CA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1E1E-D1E3-4D0E-925E-8FA76FD3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9244-CAA6-48BD-8752-DC346175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B6CF-6A54-49E8-B2FC-7FFDB496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AE66-C1E1-4ACE-AD40-0CFC4640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C707-F782-458B-8B68-3DDEA917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EA3F-409D-40CF-8A2F-78E0487C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087FF-A20D-4F82-BFBE-0ECFF42D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EDAE-51AA-4E85-9662-850DF5C9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98AE-84C7-44FF-8E46-5E3EBF92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7C872-9509-49AA-8CC5-A4156663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BB427-3C40-486E-9F69-6B715225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15D0-B102-437B-B85A-B84BB774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4649-4DAF-496C-9B9E-DC65D153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18E27-4F9C-4BC2-B0C1-28CCF7B0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71FF-61F3-4D4C-8561-2969B1B6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022D2-F7C2-465A-B5BB-075F7945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98A7A-AB28-46E1-B073-F7FB3BFF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0C609-35FD-4A8A-BB92-66220749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F9B5A-B8FE-4549-942C-68813429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8AEF5-9019-450F-97BC-B609C157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E68BE-423B-4D06-BDDC-D8B5EAB5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ECB89-3A29-4FC6-9C88-7D3AC215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AB029-B521-4C25-B7C3-F4497951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BF78D-DD84-41C8-A736-E07602C9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3E403-2DCF-4478-A9C5-43E2FDAA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39510-0EE1-448E-944E-EB88E762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A36AB-1152-418A-BCF7-51726DF7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1487-1AFA-462C-B7F3-0687F132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330A4-4955-411A-ABBF-B72CDF47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F5282-7E78-4F96-A5C5-FEF34FA0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8B8B6-8C2C-41E2-9C75-FB0EA20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C9BC8-F39D-42D6-AD0A-B864E641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2D80-1127-4B75-A142-EBD72447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FAAC0-0D92-44AC-BD9D-6849DD7A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8DB72-F330-485F-8B37-0807E284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032B-7F13-4B90-AB1E-6AE39D41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D3C79-D405-4606-819B-7F724A9A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19611-6883-41F0-97E2-3C783B91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FC3AC-A0D9-4948-A962-C42E8E4C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83FDC-749A-426E-9B81-5879585D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F93DD-9DD2-4FCB-A368-D8DEF54B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A5FEF-A389-42D5-BD8F-ECCF5B4B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B63F7-FE9E-4491-9ADE-9E10DEDC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4FF53-B0F6-4143-8053-4CAE358E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B5616-7199-4CA6-A459-291D89FC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6141A-ED14-483A-8E51-675E8F66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EEE71-EC80-4ECD-8368-7400C655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413B2-B073-4AA2-A68E-D42E67F3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D56A7-D64F-4729-BDC9-A2A1D748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0ED39-5A8D-4D08-BE9E-BE814081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3408A-A0D8-4781-A440-9CE77FCA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D104C-9F82-46DB-9DA6-67ECBDD6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ABB0D-D62B-4968-90A9-92912843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EFAC5-5CD9-42B4-8592-1268667B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B6908-C609-4A8D-81BD-EC283BB7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1C7F9-6EB8-470D-B6C8-81D576EE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DFFEA-4356-4A5E-BF2E-FC06785E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7904F-5A11-450E-8F22-895CEFCE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4F22F-417F-473C-91B0-70ED0F1A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B9354-3924-417A-931E-2ED08CBF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E2F1-CBAF-4CCA-9718-98EF6EEEF59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A55C-309F-4A43-9E78-B6DAD54D44D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E45A-E64A-42BD-8192-281816D0F7F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A24D-ACF8-415D-8D25-1F9E795B1EC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6675-75B8-49C7-9A2A-823D0FDE35B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1837-35B6-4F32-8C89-47DDB9D2F67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913E-3A65-4883-8D8D-76AA3837C41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9EE1-3208-4A76-ABB9-553BBD22E50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CF1D-DC9F-4003-88E4-E9D044C335F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DABE-C547-4D5E-AC00-2EA5E14F5B9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3A02-3065-4022-BBA0-69D3D9ECB36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Группа 6"/>
          <p:cNvGrpSpPr/>
          <p:nvPr/>
        </p:nvGrpSpPr>
        <p:grpSpPr>
          <a:xfrm>
            <a:off x="900000" y="1628640"/>
            <a:ext cx="7201080" cy="2889360"/>
            <a:chOff x="900000" y="1628640"/>
            <a:chExt cx="7201080" cy="2889360"/>
          </a:xfrm>
        </p:grpSpPr>
        <p:pic>
          <p:nvPicPr>
            <p:cNvPr id="46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00000" y="1628640"/>
              <a:ext cx="720108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Прямоугольник 5"/>
            <p:cNvSpPr/>
            <p:nvPr/>
          </p:nvSpPr>
          <p:spPr>
            <a:xfrm>
              <a:off x="1948680" y="4171680"/>
              <a:ext cx="51012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Почему учителя не ставят отметки в 1 классе, ведь родители хотели бы знать об успеваемости своего ребенк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В 1 классе обучение  безотметочно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Это оправдано тем, что ребенок находится в самом начале учебного пути. К концу первого года обучения уже можно судить о той или иной степени успешности обучающего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В 1 классе основной упор делается на приобретение навыков учебного труда. Словесная или условно-знаковая оценка тоже зачастую присутствует в работе учителя с обучающимся. Важно, чтобы она была позитивн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Monotype Corsiva"/>
              </a:rPr>
              <a:t>Учебные занятия в 1 классе по </a:t>
            </a:r>
            <a:br>
              <a:rPr sz="4400"/>
            </a:br>
            <a:r>
              <a:rPr b="1" i="1" lang="ru-RU" sz="4400" spc="-1" strike="noStrike">
                <a:solidFill>
                  <a:srgbClr val="00b050"/>
                </a:solidFill>
                <a:latin typeface="Monotype Corsiva"/>
              </a:rPr>
              <a:t>УМК «Школа Ро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Литературное чт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Математи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Окружающий  ми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ИЗ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Тех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Физическая культу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Деловой сти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2" descr="C:\Users\User\Desktop\image1.jpg"/>
          <p:cNvPicPr/>
          <p:nvPr/>
        </p:nvPicPr>
        <p:blipFill>
          <a:blip r:embed="rId1"/>
          <a:stretch/>
        </p:blipFill>
        <p:spPr>
          <a:xfrm>
            <a:off x="2286000" y="1687680"/>
            <a:ext cx="45720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«Правильный» портф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4" descr="ноябрь-2003 010"/>
          <p:cNvPicPr/>
          <p:nvPr/>
        </p:nvPicPr>
        <p:blipFill>
          <a:blip r:embed="rId1"/>
          <a:stretch/>
        </p:blipFill>
        <p:spPr>
          <a:xfrm>
            <a:off x="785880" y="121428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ноябрь-2003 011"/>
          <p:cNvPicPr/>
          <p:nvPr/>
        </p:nvPicPr>
        <p:blipFill>
          <a:blip r:embed="rId2"/>
          <a:stretch/>
        </p:blipFill>
        <p:spPr>
          <a:xfrm>
            <a:off x="4000680" y="3429000"/>
            <a:ext cx="3198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Вес ранца без учебников не более 70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Ранец должен иметь широкие лям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(4-4,5 с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Норма массы портфеля с учебными пособия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1 – 2 класс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	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не более 2 кг 20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3 – 4 класс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	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не более </a:t>
            </a:r>
            <a:r>
              <a:rPr b="1" i="1" lang="en-US" sz="3200" spc="-1" strike="noStrike" u="sng">
                <a:solidFill>
                  <a:srgbClr val="00b050"/>
                </a:solidFill>
                <a:uFillTx/>
                <a:latin typeface="Monotype Corsiva"/>
              </a:rPr>
              <a:t>3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 кг 20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b050"/>
                </a:solidFill>
                <a:latin typeface="Monotype Corsiva"/>
              </a:rPr>
              <a:t>Физкультурная фор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Monotype Corsiva"/>
              </a:rPr>
              <a:t>Для спортивного зала</a:t>
            </a: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футболка,  спортивные брю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носки,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спортивная обувь</a:t>
            </a: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Monotype Corsiva"/>
              </a:rPr>
              <a:t>Для улицы</a:t>
            </a: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спортивный костю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спортивная обув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Monotype Corsiva"/>
              </a:rPr>
              <a:t>Для улицы (зимний период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куртка, спортивный костю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варежки, шерстяные нос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Ботинки зим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10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Monotype Corsiva"/>
              </a:rPr>
              <a:t>Без знаний в жизни не добьешься</a:t>
            </a:r>
            <a:br>
              <a:rPr sz="4000"/>
            </a:br>
            <a:r>
              <a:rPr b="1" lang="ru-RU" sz="4000" spc="-1" strike="noStrike">
                <a:solidFill>
                  <a:srgbClr val="92d050"/>
                </a:solidFill>
                <a:latin typeface="Monotype Corsiva"/>
              </a:rPr>
              <a:t>Всего того, что хочется иметь.</a:t>
            </a:r>
            <a:br>
              <a:rPr sz="4000"/>
            </a:br>
            <a:r>
              <a:rPr b="1" lang="ru-RU" sz="4000" spc="-1" strike="noStrike">
                <a:solidFill>
                  <a:srgbClr val="92d050"/>
                </a:solidFill>
                <a:latin typeface="Monotype Corsiva"/>
              </a:rPr>
              <a:t>А в школе опытом ты запасешься,</a:t>
            </a:r>
            <a:br>
              <a:rPr sz="4000"/>
            </a:br>
            <a:r>
              <a:rPr b="1" lang="ru-RU" sz="4000" spc="-1" strike="noStrike">
                <a:solidFill>
                  <a:srgbClr val="92d050"/>
                </a:solidFill>
                <a:latin typeface="Monotype Corsiva"/>
              </a:rPr>
              <a:t>Чтоб в будущее смело мог смотре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d050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едагогический коллекти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4" descr="C:\Users\фрося\Desktop\видео\IMG_20190306_095949.jpg"/>
          <p:cNvPicPr/>
          <p:nvPr/>
        </p:nvPicPr>
        <p:blipFill>
          <a:blip r:embed="rId1"/>
          <a:stretch/>
        </p:blipFill>
        <p:spPr>
          <a:xfrm>
            <a:off x="1039680" y="1214280"/>
            <a:ext cx="65502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От того, как будет чувствов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себя  ребён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поднимаясь на первую ступеньку лестницы позн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что он будет пережив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зависит весь его дальнейш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путь к знан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В.А. Сухомли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В нашей образовательной организации работают 13 педагог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12 педагогов имеют  первую квалификационную категорию. 29% педагогического состава - молодежь, 71%  - педагоги, трудовой стаж которых более 20 лет. Вместе – это сплав опыта и молодого зад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Будущий учитель обучающихся 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 кла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Сапроненкова Еле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Педагогический стаж работы: 20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Образование: высш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Категория: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Ваш ребенок идет в 1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Советы и рекоменд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родителям (законным представителям) будущих первоклассник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а так же ответы 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часто задаваемые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С какого возраста принимаются дети в 1 класс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Monotype Corsiva"/>
              </a:rPr>
              <a:t>В первый класс принимаются  дети, достигшие к 1 сентября текущего года возраста не мене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6 лет 6 месяцев</a:t>
            </a:r>
            <a:r>
              <a:rPr b="0" i="1" lang="ru-RU" sz="3200" spc="-1" strike="noStrike">
                <a:solidFill>
                  <a:srgbClr val="00b050"/>
                </a:solidFill>
                <a:latin typeface="Monotype Corsiva"/>
              </a:rPr>
              <a:t> при отсутствии противопоказаний по состоянию здоровья, но не позже достижения ими возраста 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Monotype Corsiva"/>
              </a:rPr>
              <a:t>(СанПиН 2.4.2.2821-10; п. 10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Monotype Corsiva"/>
              </a:rPr>
              <a:t>Существуют ли особенности в режиме дня первоклассник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В 1 полугодии уроки длятся 35 минут, во втором  - 45 минут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Безотметочная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система оценивания зн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Учебники выдаются бесплат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Домашние задания в 1 классе не задаются.</a:t>
            </a:r>
            <a:r>
              <a:rPr b="0" lang="ru-RU" sz="24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Домашних заданий в 1 классе нет. Однако, если вы хотите сформировать у своего ребенка качественные навыки письма, чтения, счета, то не отказывайтесь от тренировочных упражнений, которые может порекомендовать Ваш учитель.</a:t>
            </a:r>
            <a:r>
              <a:rPr b="1" i="1" lang="ru-RU" sz="44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Фокина Лидия Петровна</dc:creator>
  <dc:description/>
  <cp:keywords>Шаблон презентации</cp:keywords>
  <dc:language>en-US</dc:language>
  <cp:lastModifiedBy>фрося</cp:lastModifiedBy>
  <dcterms:modified xsi:type="dcterms:W3CDTF">2019-04-23T13:02:08Z</dcterms:modified>
  <cp:revision>60</cp:revision>
  <dc:subject/>
  <dc:title>В школу</dc:title>
</cp:coreProperties>
</file>