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E47-CEE1-420C-BC35-A93B88F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889-94E3-49F6-A9D9-47B2670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467-46FA-4211-BFFB-67AADC09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F4F-5B15-467C-9C2F-7F04AB5F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6F2-8874-48BD-A5C4-5020FEE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A4D-EBDE-40C0-9BB2-1ADE57C9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002-D699-4366-9FF8-DA644E6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A86-CF36-4CEF-B494-099A953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C89-7284-4E1B-ACA6-E757110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3F6-6B7E-43C6-BF69-BFD3ED64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405-F390-4B04-8400-C867972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266-3EEA-45A9-A5A4-1F86818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CF47-7C5A-461B-848A-DD9021AA3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3240" y="3449520"/>
            <a:ext cx="2465280" cy="340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8240" y="20520"/>
            <a:ext cx="4349520" cy="56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 u="sng">
                <a:solidFill>
                  <a:srgbClr val="ff0000"/>
                </a:solidFill>
                <a:uFillTx/>
                <a:latin typeface="a_Romanus"/>
              </a:rPr>
              <a:t>Рыцарский Турнир</a:t>
            </a:r>
            <a:br>
              <a:rPr sz="7200"/>
            </a:br>
            <a:r>
              <a:rPr b="1" lang="ru-RU" sz="7200" spc="-1" strike="noStrike" u="sng">
                <a:solidFill>
                  <a:srgbClr val="7030a0"/>
                </a:solidFill>
                <a:uFillTx/>
                <a:latin typeface="a_Romanus"/>
              </a:rPr>
              <a:t>6 класс</a:t>
            </a:r>
            <a:br>
              <a:rPr sz="7200"/>
            </a:br>
            <a:r>
              <a:rPr b="1" lang="ru-RU" sz="5400" spc="-1" strike="noStrike">
                <a:solidFill>
                  <a:srgbClr val="00b0f0"/>
                </a:solidFill>
                <a:latin typeface="a_Romanus"/>
              </a:rPr>
              <a:t>Юным рыцарям 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a_Romanus"/>
              </a:rPr>
              <a:t>и джентльменам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_Romanus"/>
              </a:rPr>
              <a:t>«Милые дамы»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_Romanus"/>
              </a:rPr>
              <a:t>«Храбрые рыцар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15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1583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а поведения за стол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5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ищу надо брать с тарелки вилкой или лож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Когда ешь, не откусывай больших кусков – это некрас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разговаривай с полным ртом, старайся кушать беззв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Если тебе нужно что-нибудь взять, не тянись через стол, а вежливо попроси пере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Из блюда бери ближний к себе кусок, не выби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икогда не отзывайся плохо о блюде, которое едят твои соседи. Если ты сам его не любишь, не порть аппетит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сиди боком к столу – это некрас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кроши хлеб, доедай кусок до конца. Не забывай, сколько людей трудилось, чтобы этот кусочек попал к тебе на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ным рыцарям   и джентльменам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икет в послов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1640" y="1052640"/>
            <a:ext cx="569916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го в другом не любишь, того и сам не дел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ереги платье снову, а честь смол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чужой монастырь со своим уставом не хо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ил тот гость, что недолго гос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е думай быть нарядным, а думай быть опря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-34920" y="1936800"/>
            <a:ext cx="3441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0" y="115920"/>
            <a:ext cx="86756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178160" y="189000"/>
            <a:ext cx="457380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4321080" cy="30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332000" y="1600200"/>
            <a:ext cx="180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5" descr=""/>
          <p:cNvPicPr/>
          <p:nvPr/>
        </p:nvPicPr>
        <p:blipFill>
          <a:blip r:embed="rId1"/>
          <a:stretch/>
        </p:blipFill>
        <p:spPr>
          <a:xfrm>
            <a:off x="2268360" y="0"/>
            <a:ext cx="65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2843280" y="0"/>
            <a:ext cx="592776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92520" y="4554000"/>
            <a:ext cx="4870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начит быть рыцарем и джентльменом в наш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5589720" y="2637000"/>
            <a:ext cx="31813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417680"/>
            <a:ext cx="53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дном из торжественных приемов короля Франции Людовика XIV гостям вручили карточки с перечисленными правилам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французских карточек-этикеток произошло название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тикет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спитанность, хорошие манеры, умение себя ве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Портрет Людовика XIV"/>
          <p:cNvPicPr/>
          <p:nvPr/>
        </p:nvPicPr>
        <p:blipFill>
          <a:blip r:embed="rId1"/>
          <a:stretch/>
        </p:blipFill>
        <p:spPr>
          <a:xfrm>
            <a:off x="5830920" y="1420920"/>
            <a:ext cx="31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57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а дружбы и товариществ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С друзьями разговаривай вежливо, приве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омогай другу, не жди, когда он попросит тебя о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адо искренне радоваться успехам товарищей – тебя будут .считать хорошим другом, честным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оделись с другом игрушками, книгами, яблоком, конф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Останови товарища, если он поступает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Чтобы у тебя были друзья, умей сам быть хороши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За свои ошибки отвечай сам, не перекладывай вину на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8930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равила поведения в автобусе  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входе в автобус мальчик пропускает девочку вперед, а выходит перв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йдя из автобуса, мальчик подает руку девочке, а также маме, бабуш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ие уступают место старшим, мужчины – женщин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ранспорте нельзя громко смеяться и разговаривать. Нельзя кушать, так как можно запачкать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льзя бросать мусор в окно, оставлять на сиденье, бросать на п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нужно взять билет, то вежливо просят делать это пассажиров, стоящих ря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45:41Z</dcterms:created>
  <dc:creator>users</dc:creator>
  <dc:description/>
  <dc:language>en-US</dc:language>
  <cp:lastModifiedBy>Пользователь</cp:lastModifiedBy>
  <dcterms:modified xsi:type="dcterms:W3CDTF">2019-11-19T17:49:52Z</dcterms:modified>
  <cp:revision>60</cp:revision>
  <dc:subject/>
  <dc:title>Этикет</dc:title>
</cp:coreProperties>
</file>