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825-78D2-438E-B36B-9FE80A3E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0E4-AB52-4CC3-B418-48982E6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37D-2083-4E5E-8C3C-CC6ADFE9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8A0-AC8D-48AD-86A4-E6789EEC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394-A116-45DF-A5A7-44F17CBE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0DF1-B8D1-4921-B652-AC48E55E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344D-6A9B-4FD8-AB8C-AADB41B4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B6D-BC2B-46A2-A76B-CE19C762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084B-6E00-4545-8B95-876094C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F94-49AB-4FA2-B904-4CCB284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600E-125E-4818-B623-5F802F8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EDE-1316-4240-A133-D1D59C5C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6EE-FB06-4016-84E6-A1B1342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C6FA-9D9C-4603-9975-A01FBB5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434-992D-4354-8E73-52A2B58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35D3-CBB7-4104-9CD5-387A26AD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9F7F-B8DD-45D3-A1FE-69F272B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A616-5172-46A0-B99C-C9C0C8A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A4BC-C5BC-480F-8579-CF12B2B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1966-B7F4-4514-B088-6419C57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DFF2-E908-4778-A985-E343E08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D767-54D7-4EAC-B175-E376F44D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5E8-B83A-43DA-AAE7-4BD1C33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F70A-7EDE-4732-B6AF-226CEB5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A62F-0E0B-46CC-B0C4-DB18F84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3C08-3844-4174-A118-596A5098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6859-8A8B-4DB6-A4FA-4E64590C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163B-E04F-459E-A84F-14EA8FF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45C9-250C-424F-B8D6-7F95DD05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6160-F21F-44CE-9E34-52450414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D574-3E00-4765-B131-6AE86412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D2FE-A1B8-43F5-9FCE-A44C132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EEFD-A1C8-4FBD-9CD4-3414AFE5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5F9-92C6-4CE9-9414-0A1D0F0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3D8B-8A17-49AC-98B0-EA4482E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5C90-05D5-4BFD-A7A6-F6231A9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E6AE-FBCA-4241-ABC6-2CBF34D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522E-37EB-436F-85A8-597F452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2C80-D12B-4554-B8B0-314686D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FAB9-DAFA-4EBE-8FE2-08C9F92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BF42-BE6F-47AC-8594-64459B24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51B3-87F0-4348-A306-F66045D3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E2AC-6932-40FE-9CA8-FEFB8E37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429-AC5C-48E9-B1D4-E5F45099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3A2-BB49-4458-809D-D99761D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4AA-CD84-48C4-9D3D-9B93DE1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594-09E0-44F6-8D03-6C9C865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405-8D18-4996-B042-684F31F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C97C-1747-4109-9791-9C40C15C3366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25DB-47A4-44BA-B669-4C24CBEC98CE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CAA0-DB5E-40FD-8DBF-DCF78CED40D5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88AA-2648-4B6A-ADAD-0BCCBFADFE37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-262080"/>
            <a:ext cx="7851600" cy="229248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1152360"/>
            <a:ext cx="7851600" cy="27910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F:\mir_v_nashih_rukah.jpg"/>
          <p:cNvPicPr/>
          <p:nvPr/>
        </p:nvPicPr>
        <p:blipFill>
          <a:blip r:embed="rId3"/>
          <a:stretch/>
        </p:blipFill>
        <p:spPr>
          <a:xfrm>
            <a:off x="2771640" y="3573360"/>
            <a:ext cx="3313080" cy="2427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1116000" y="62150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учающиеся 8 класса 2016-2017г. Руководитель  Л.А. Пекан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Arial"/>
              </a:rPr>
              <a:t>Загрязн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8a3c12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3c12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Загрязнение окружающей сред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1197000"/>
          <a:ext cx="8229600" cy="5638680"/>
        </p:xfrm>
        <a:graphic>
          <a:graphicData uri="http://schemas.openxmlformats.org/drawingml/2006/table">
            <a:tbl>
              <a:tblPr/>
              <a:tblGrid>
                <a:gridCol w="2016000"/>
                <a:gridCol w="3240000"/>
                <a:gridCol w="2973600"/>
              </a:tblGrid>
              <a:tr h="78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6c7d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ран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Гидр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Неф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bec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удобр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Резин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8a3c12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d4d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ывод работы перв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 загрязнения в мире создает человек – от чего сам и страдает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3" descr=""/>
          <p:cNvPicPr/>
          <p:nvPr/>
        </p:nvPicPr>
        <p:blipFill>
          <a:blip r:embed="rId1"/>
          <a:stretch/>
        </p:blipFill>
        <p:spPr>
          <a:xfrm>
            <a:off x="517680" y="1316160"/>
            <a:ext cx="7791120" cy="2536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0280" y="4076640"/>
            <a:ext cx="7772400" cy="1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втор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зучить мнение жителей о санитарном состоянии деревни Синьково, связанного с накоплением твердых бытовых отход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ы социологического опроса</a:t>
            </a:r>
            <a:br>
              <a:rPr sz="3200"/>
            </a:b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“От кого зависит чистота деревни Синьково” </a:t>
            </a:r>
            <a:br>
              <a:rPr sz="3200"/>
            </a:b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1. Куда вы выбрасываете мусор?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47" name="Содержимое 4" descr=""/>
          <p:cNvPicPr/>
          <p:nvPr/>
        </p:nvPicPr>
        <p:blipFill>
          <a:blip r:embed="rId1"/>
          <a:stretch/>
        </p:blipFill>
        <p:spPr>
          <a:xfrm>
            <a:off x="457200" y="1974960"/>
            <a:ext cx="8229600" cy="435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2.Всегда ли Вы бросаете мусор в урну, находясь в школе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505040" cy="4505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3998880" y="177336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сегда ли Вы бросаете мусор в урну, находясь на улице?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505400" cy="4505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бираете ли вы за собой мусор когда проводите время на природе?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505400" cy="4505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45054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. Как вы думаете, кто виноват в разбросанном мусоре нашей деревн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330720" y="2889360"/>
            <a:ext cx="2482560" cy="2481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1571760" y="1714680"/>
            <a:ext cx="3022560" cy="2481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5000760" y="1785960"/>
            <a:ext cx="2824200" cy="24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Люблю и зна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Знаю и любл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И тем полней любл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a3c12"/>
                </a:solidFill>
                <a:latin typeface="Constantia"/>
              </a:rPr>
              <a:t>Чем глубже знаю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3c12"/>
                </a:solidFill>
                <a:latin typeface="Constantia"/>
              </a:rPr>
              <a:t>                                </a:t>
            </a:r>
            <a:r>
              <a:rPr b="0" lang="ru-RU" sz="2600" spc="-1" strike="noStrike">
                <a:solidFill>
                  <a:srgbClr val="8a3c12"/>
                </a:solidFill>
                <a:latin typeface="Constantia"/>
              </a:rPr>
              <a:t>Ю.К.Ефре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ывод работы втор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Жители понимают, что источником загрязнения является человек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изкий уровень экологической  куль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Местные экологические проблемы кажутся мелкими и незначительными по сравнению с глобальными проблемами. Но решение местных экологических проблем – это один шаг к разрешению проблемы биосферы и здоровья всего живого на Земл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3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2603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4005360"/>
            <a:ext cx="7772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третье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лучшение санитарного состояния деревни Синьково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борка мусора на территории деревн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бор мусора на автобусной остановке д.Синьково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 работы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бор мусора на территории школьного пруда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После того, как нами была собрана информация по данной проблеме, проведен социологический опрос, изучены материалы, мы решили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Clr>
                <a:srgbClr val="0bd0d9"/>
              </a:buClr>
              <a:buSzPct val="27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ть информационный буклет для экологического просвещения населен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a3c12"/>
                </a:solidFill>
                <a:latin typeface="Calibri"/>
              </a:rPr>
              <a:t>Буклет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Мусор-враг                                  Каждый может внести           Если хочешь  быть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свой вклад                                   счастливым-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в благоустройство                   сделай мир вокруг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onstantia"/>
              </a:rPr>
              <a:t>своей деревни                           счастливым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тром вышли на уборк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зяли веники, совки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явить нужно сноровку                                                                               Друг посмотри                                Чтоб быстрее подмест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т веточка, бумаг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проходи, а подним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едь это всем нам над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авайте вместе наводи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десь чистоту, порядок                                                   Обучающиеся 8 класс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БОУ Синьковская СШ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аши решения по улучшения санитарного состояния деревни Синьково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4000" y="184428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Организовать постоянно действующую группу обучающихся, ведущих просветительскую работу среди населения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Участвовать в субботниках, экологических акциях по благоустройству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оздавать и распространять экологические листов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3c12"/>
              </a:buClr>
              <a:buSzPct val="95000"/>
              <a:buFont typeface="Arial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11" descr=""/>
          <p:cNvPicPr/>
          <p:nvPr/>
        </p:nvPicPr>
        <p:blipFill>
          <a:blip r:embed="rId1"/>
          <a:stretch/>
        </p:blipFill>
        <p:spPr>
          <a:xfrm>
            <a:off x="212760" y="426960"/>
            <a:ext cx="8570880" cy="10238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28"/>
          <p:cNvSpPr/>
          <p:nvPr/>
        </p:nvSpPr>
        <p:spPr>
          <a:xfrm>
            <a:off x="357120" y="1544760"/>
            <a:ext cx="30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збиться на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 Box 1029"/>
          <p:cNvSpPr/>
          <p:nvPr/>
        </p:nvSpPr>
        <p:spPr>
          <a:xfrm>
            <a:off x="623880" y="213840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брать тему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030"/>
          <p:cNvSpPr/>
          <p:nvPr/>
        </p:nvSpPr>
        <p:spPr>
          <a:xfrm>
            <a:off x="1022400" y="2581200"/>
            <a:ext cx="57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йти материал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1031"/>
          <p:cNvSpPr/>
          <p:nvPr/>
        </p:nvSpPr>
        <p:spPr>
          <a:xfrm>
            <a:off x="1366920" y="3029040"/>
            <a:ext cx="59482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здать  буклет 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сти социологический опро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извести уборку мусора в деревн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AutoShape 1034"/>
          <p:cNvSpPr/>
          <p:nvPr/>
        </p:nvSpPr>
        <p:spPr>
          <a:xfrm>
            <a:off x="2714760" y="1171440"/>
            <a:ext cx="1008000" cy="102708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50120 h 1027080"/>
              <a:gd name="textAreaBottom" fmla="*/ 876960 h 1027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1035"/>
          <p:cNvSpPr/>
          <p:nvPr/>
        </p:nvSpPr>
        <p:spPr>
          <a:xfrm>
            <a:off x="3832200" y="154476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1036"/>
          <p:cNvSpPr/>
          <p:nvPr/>
        </p:nvSpPr>
        <p:spPr>
          <a:xfrm>
            <a:off x="4933800" y="1986120"/>
            <a:ext cx="1008360" cy="982440"/>
          </a:xfrm>
          <a:custGeom>
            <a:avLst/>
            <a:gdLst>
              <a:gd name="textAreaLeft" fmla="*/ 147600 w 1008360"/>
              <a:gd name="textAreaRight" fmla="*/ 860760 w 100836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1037"/>
          <p:cNvSpPr/>
          <p:nvPr/>
        </p:nvSpPr>
        <p:spPr>
          <a:xfrm>
            <a:off x="6048360" y="228924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 Box 1032"/>
          <p:cNvSpPr/>
          <p:nvPr/>
        </p:nvSpPr>
        <p:spPr>
          <a:xfrm>
            <a:off x="5675400" y="481320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щитить свой проект на дне нау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:\1m904nFEuzzAJC3oL2LR4WaJUStNz1894.jpg"/>
          <p:cNvPicPr/>
          <p:nvPr/>
        </p:nvPicPr>
        <p:blipFill>
          <a:blip r:embed="rId2"/>
          <a:stretch/>
        </p:blipFill>
        <p:spPr>
          <a:xfrm>
            <a:off x="576360" y="4668840"/>
            <a:ext cx="2127240" cy="19368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037"/>
          <p:cNvSpPr/>
          <p:nvPr/>
        </p:nvSpPr>
        <p:spPr>
          <a:xfrm>
            <a:off x="7647120" y="331956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AutoShape 1037"/>
          <p:cNvSpPr/>
          <p:nvPr/>
        </p:nvSpPr>
        <p:spPr>
          <a:xfrm>
            <a:off x="7120080" y="2584440"/>
            <a:ext cx="1008000" cy="98280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800"/>
              <a:gd name="textAreaBottom" fmla="*/ 839160 h 982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AutoShape 1037"/>
          <p:cNvSpPr/>
          <p:nvPr/>
        </p:nvSpPr>
        <p:spPr>
          <a:xfrm>
            <a:off x="7956720" y="4029120"/>
            <a:ext cx="1008000" cy="98244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143640 h 982440"/>
              <a:gd name="textAreaBottom" fmla="*/ 838800 h 982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395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Результаты работы над проектом: 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862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В ходе проекта нами были изучена  и улучшена санитарно-экологическая обстановка в деревне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5000"/>
              </a:lnSpc>
              <a:spcBef>
                <a:spcPts val="862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Наш клас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Продолжит исследования проблем сбора и уборки мусора на улицах деревни Синько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Начнет изучение влияния загрязнения на здоровье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3c12"/>
                </a:solidFill>
                <a:latin typeface="Times New Roman"/>
              </a:rPr>
              <a:t>Продолжит пропаганду уважительного отношения  к окружающей сред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Список литератур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Яковиев В.Н. Экологическое право. К., 1998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Шешученко Ю.С. Правовые проблемы экологии. М, 1989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8a3c1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2" descr="C:\Users\маргарита\Pictures\encoded.png"/>
          <p:cNvPicPr/>
          <p:nvPr/>
        </p:nvPicPr>
        <p:blipFill>
          <a:blip r:embed="rId1"/>
          <a:stretch/>
        </p:blipFill>
        <p:spPr>
          <a:xfrm>
            <a:off x="5076720" y="3429000"/>
            <a:ext cx="3456000" cy="31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0280" y="7992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7dc7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Цель нашего проекта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и улучшить санитарно-экологическую обстановку в д.Синьков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616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создать инициативную групп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мнение жителей по данной проблем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изучить причины и последствия загрязнения окружающей сред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показать на личном примере, что чистота на улице – дело рук самих жителей деревни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bd0d9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наметить пути решения проблемы</a:t>
            </a:r>
            <a:r>
              <a:rPr b="1" lang="ru-RU" sz="28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703080" y="692280"/>
            <a:ext cx="60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40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нашего проекта:</a:t>
            </a:r>
            <a:r>
              <a:rPr b="0" lang="ru-RU" sz="4400" spc="-1" strike="noStrike">
                <a:solidFill>
                  <a:srgbClr val="e66c7d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847800" y="25704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244440"/>
            <a:ext cx="60544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571680" y="1428840"/>
            <a:ext cx="66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3200" spc="-1" strike="noStrike">
                <a:solidFill>
                  <a:srgbClr val="e66c7d"/>
                </a:solidFill>
                <a:latin typeface="Constantia"/>
              </a:rPr>
              <a:t>Мы </a:t>
            </a:r>
            <a:r>
              <a:rPr b="0" lang="ru-RU" sz="2800" spc="-1" strike="noStrike">
                <a:solidFill>
                  <a:srgbClr val="e66c7d"/>
                </a:solidFill>
                <a:latin typeface="Constantia"/>
              </a:rPr>
              <a:t>разбились на групп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763640" y="2290680"/>
            <a:ext cx="257184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ерва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изучение видов загрязн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871560" y="4521240"/>
            <a:ext cx="257184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тора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роведение опроса жителей дерев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5210280" y="3576600"/>
            <a:ext cx="2571480" cy="1285920"/>
          </a:xfrm>
          <a:prstGeom prst="rect">
            <a:avLst/>
          </a:prstGeom>
          <a:solidFill>
            <a:srgbClr val="f5c4c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Третья групп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-сбор мусора в дерев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"/>
          <p:cNvSpPr/>
          <p:nvPr/>
        </p:nvSpPr>
        <p:spPr>
          <a:xfrm>
            <a:off x="357120" y="1928880"/>
            <a:ext cx="72867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  <a:ea typeface="Arial"/>
              </a:rPr>
              <a:t>Какие основные загрязнения окружающей среды существуют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530280" y="299736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  <a:ea typeface="Arial"/>
              </a:rPr>
              <a:t>Отношение людей к загрязнению дерев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714240" y="4149720"/>
            <a:ext cx="842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e66c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66c7d"/>
                </a:solidFill>
                <a:latin typeface="Constantia"/>
              </a:rPr>
              <a:t>Что может сделать каждый житель для чистоты дерев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142920" y="500040"/>
            <a:ext cx="8786880" cy="785880"/>
          </a:xfrm>
          <a:prstGeom prst="rect">
            <a:avLst/>
          </a:prstGeom>
          <a:solidFill>
            <a:srgbClr val="60b5cc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Прямоугольник 1" descr=""/>
          <p:cNvPicPr/>
          <p:nvPr/>
        </p:nvPicPr>
        <p:blipFill>
          <a:blip r:embed="rId1"/>
          <a:stretch/>
        </p:blipFill>
        <p:spPr>
          <a:xfrm>
            <a:off x="-133200" y="378000"/>
            <a:ext cx="9405720" cy="124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80960" y="1316160"/>
            <a:ext cx="7871040" cy="27493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450864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Цель работы первой группы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3c12"/>
                </a:solidFill>
                <a:latin typeface="Times New Roman"/>
                <a:ea typeface="Times New Roman"/>
              </a:rPr>
              <a:t>изучение видов загрязнения окружающей сред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00:41Z</dcterms:created>
  <dc:creator>Студент</dc:creator>
  <dc:description/>
  <dc:language>en-US</dc:language>
  <cp:lastModifiedBy>Пользователь Windows</cp:lastModifiedBy>
  <dcterms:modified xsi:type="dcterms:W3CDTF">2019-11-19T15:41:20Z</dcterms:modified>
  <cp:revision>84</cp:revision>
  <dc:subject/>
  <dc:title>Проект:</dc:title>
</cp:coreProperties>
</file>