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C78-CF10-4B67-A132-70FB374E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D46-0A1F-479C-98C9-0C8E8FE1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0D7-F7F1-44DE-AA63-114AF073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18C-D613-49E3-A694-E03B6F7B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9185-5402-46D8-AB77-AFE51539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02DD-4881-4B86-889B-5720AB07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EA84-05DF-4A11-9F6A-6A9E9AA8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3799-6C59-40C8-A48C-F21E094D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68D2-3C80-4EF7-9AB1-078D85BB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4D2A-4BFF-484B-8464-658D6688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B470-4E59-47D7-9F29-5CE5114A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D7B-7177-426E-BBA3-AB4618C5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6239-706B-40B4-8F97-A9148AD4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3906-2D23-45DB-9488-C3C0418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9BD0-1DAD-4407-A46D-63CE4683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8177-19C1-4274-B147-28B3CAD2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9A6C-968E-48AE-A816-E782A537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579C-ACE4-4C8C-9AB0-C00159BB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0FB9-5A8E-4506-B419-8240F698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2461-245F-4B3F-BF9F-24B77536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213B-5172-4621-8C81-3C0F796D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2D74-3B2A-4D72-AB22-97182FD7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31E-57EB-4D27-8EA4-2F5E52C8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CA0E-6A96-48D1-B91C-A0DE6A53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75BC-0D7F-4948-AA57-F857EA3F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65EB-58B2-4E9B-996B-6D0CC8FE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2ED6-EF1A-4217-81E7-7DE9185F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2E02-0D05-4472-A9C5-01DC7E4A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7EF2-A781-435B-8A07-615964AD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27A6-07AD-4EDB-B38F-EED78706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61CD-620D-40E4-A7FC-0DB6BB9A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12D3D-FEA0-4226-B728-E436B43C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7EBA5-7B3D-4CE5-8442-B5AEC10B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CB8-8CE3-43F5-9969-93F6D289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B7367-277C-43A4-9581-19D42C52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49D2-D1AA-432D-BACD-74E9C4D8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7DAB0-A804-40CC-AB7A-2081EDEF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D4A1-FD85-43C9-85B9-EBF1436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772E-5C42-4E1C-A285-9004896A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9FE0-2184-4D5A-AB6A-7C045AC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44DE-9420-40BE-A4E6-61815791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8364E-DF62-461F-BC4A-A4186FA9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F99B5-9BB3-4D38-A15A-4B4E7D00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7E0-33F9-48AB-B739-07F7B159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C95-BA2F-4BCF-8F18-EDE518FF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CAD-E702-4353-BA60-0399F990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A2A-DC2A-4EA6-8561-9C69C0B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984-FEA9-4B15-B3C8-3225B616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BB9A-0BA8-42C1-B7C3-CE871CECD902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4D2-F6CC-4556-8A2D-E71A7E873E01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53BF-870A-4ECA-86A6-F8B305A29284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33A4-A653-4C24-B48A-1B6A93B131D7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3120" y="-262080"/>
            <a:ext cx="7851600" cy="2292480"/>
          </a:xfrm>
          <a:prstGeom prst="rect">
            <a:avLst/>
          </a:prstGeom>
          <a:ln w="0">
            <a:noFill/>
          </a:ln>
        </p:spPr>
      </p:pic>
      <p:pic>
        <p:nvPicPr>
          <p:cNvPr id="196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1152360"/>
            <a:ext cx="7851600" cy="27910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F:\mir_v_nashih_rukah.jpg"/>
          <p:cNvPicPr/>
          <p:nvPr/>
        </p:nvPicPr>
        <p:blipFill>
          <a:blip r:embed="rId3"/>
          <a:stretch/>
        </p:blipFill>
        <p:spPr>
          <a:xfrm>
            <a:off x="2771640" y="3573360"/>
            <a:ext cx="3313080" cy="2427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1116000" y="62150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учающиеся 8 класса 2016-2017г. Руководитель  Л.А. Пекано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Arial"/>
              </a:rPr>
              <a:t>Загрязн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Загрязнение окружающей среды.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68360" y="1197000"/>
          <a:ext cx="8229600" cy="5638680"/>
        </p:xfrm>
        <a:graphic>
          <a:graphicData uri="http://schemas.openxmlformats.org/drawingml/2006/table">
            <a:tbl>
              <a:tblPr/>
              <a:tblGrid>
                <a:gridCol w="2016000"/>
                <a:gridCol w="3240000"/>
                <a:gridCol w="2973600"/>
              </a:tblGrid>
              <a:tr h="78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6c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6c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6c7d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Ат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Транс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Гидр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Нефт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bec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Ли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удобр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Резин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ывод работы перво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загрязнения в мире создает человек – от чего сам и страдает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3" descr=""/>
          <p:cNvPicPr/>
          <p:nvPr/>
        </p:nvPicPr>
        <p:blipFill>
          <a:blip r:embed="rId1"/>
          <a:stretch/>
        </p:blipFill>
        <p:spPr>
          <a:xfrm>
            <a:off x="517680" y="1316160"/>
            <a:ext cx="7791120" cy="2536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30280" y="4076640"/>
            <a:ext cx="7772400" cy="1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Цель работы второ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изучить мнение жителей о санитарном состоянии деревни Синьково, связанного с накоплением твердых бытовых отходов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Результаты социологического опроса</a:t>
            </a:r>
            <a:br>
              <a:rPr sz="3200"/>
            </a:b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“От кого зависит чистота деревни Синьково” </a:t>
            </a:r>
            <a:br>
              <a:rPr sz="3200"/>
            </a:b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1. Куда вы выбрасываете мусор?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47" name="Содержимое 4" descr=""/>
          <p:cNvPicPr/>
          <p:nvPr/>
        </p:nvPicPr>
        <p:blipFill>
          <a:blip r:embed="rId1"/>
          <a:stretch/>
        </p:blipFill>
        <p:spPr>
          <a:xfrm>
            <a:off x="457200" y="1974960"/>
            <a:ext cx="8229600" cy="435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2.Всегда ли Вы бросаете мусор в урну, находясь в школе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505040" cy="4505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3998880" y="1773360"/>
            <a:ext cx="4505400" cy="45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сегда ли Вы бросаете мусор в урну, находясь на улице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505400" cy="4505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4505400" cy="45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Убираете ли вы за собой мусор когда проводите время на природе?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505400" cy="4505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4505400" cy="45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 Как вы думаете, кто виноват в разбросанном мусоре нашей деревн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330720" y="2889360"/>
            <a:ext cx="2482560" cy="2481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1571760" y="1714680"/>
            <a:ext cx="3022560" cy="2481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3"/>
          <a:stretch/>
        </p:blipFill>
        <p:spPr>
          <a:xfrm>
            <a:off x="5000760" y="1785960"/>
            <a:ext cx="2824200" cy="248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3c12"/>
                </a:solidFill>
                <a:latin typeface="Constantia"/>
              </a:rPr>
              <a:t>Люблю и знаю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3c12"/>
                </a:solidFill>
                <a:latin typeface="Constantia"/>
              </a:rPr>
              <a:t>Знаю и люблю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3c12"/>
                </a:solidFill>
                <a:latin typeface="Constantia"/>
              </a:rPr>
              <a:t>И тем полней люблю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3c12"/>
                </a:solidFill>
                <a:latin typeface="Constantia"/>
              </a:rPr>
              <a:t>Чем глубже знаю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a3c12"/>
                </a:solidFill>
                <a:latin typeface="Constantia"/>
              </a:rPr>
              <a:t>                                </a:t>
            </a:r>
            <a:r>
              <a:rPr b="0" lang="ru-RU" sz="2600" spc="-1" strike="noStrike">
                <a:solidFill>
                  <a:srgbClr val="8a3c12"/>
                </a:solidFill>
                <a:latin typeface="Constantia"/>
              </a:rPr>
              <a:t>Ю.К.Ефрем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ывод работы второ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Жители понимают, что источником загрязнения является человек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Низкий уровень экологической  культу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Местные экологические проблемы кажутся мелкими и незначительными по сравнению с глобальными проблемами. Но решение местных экологических проблем – это один шаг к разрешению проблемы биосферы и здоровья всего живого на Земл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3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26035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0280" y="4005360"/>
            <a:ext cx="7772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Цель работы третье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улучшение санитарного состояния деревни Синьково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Уборка мусора на территории деревни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Сбор мусора на автобусной остановке д.Синьково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Результат работы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Сбор мусора на территории школьного пруда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1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После того, как нами была собрана информация по данной проблеме, проведен социологический опрос, изучены материалы, мы решили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Clr>
                <a:srgbClr val="0bd0d9"/>
              </a:buClr>
              <a:buSzPct val="27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ть информационный буклет для экологического просвещения населен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8a3c12"/>
                </a:solidFill>
                <a:latin typeface="Calibri"/>
              </a:rPr>
              <a:t>Буклет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Мусор-враг                                  Каждый может внести           Если хочешь  быть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свой вклад                                   счастливым-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в благоустройство                   сделай мир вокруг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своей деревни                           счастливым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тром вышли на уборк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зяли веники, совки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оявить нужно сноровку                                                                               Друг посмотри                                Чтоб быстрее подмест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т веточка, бумаг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 проходи, а подним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дь это всем нам над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авайте вместе наводит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десь чистоту, порядок                                                   Обучающиеся 8 класс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БОУ Синьковская СШ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Наши решения по улучшения санитарного состояния деревни Синьково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4000" y="184428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Организовать постоянно действующую группу обучающихся, ведущих просветительскую работу среди населения деревни Синько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Участвовать в субботниках, экологических акциях по благоустройству деревни Синько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Создавать и распространять экологические листов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3c12"/>
              </a:buClr>
              <a:buSzPct val="95000"/>
              <a:buFont typeface="Arial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11" descr=""/>
          <p:cNvPicPr/>
          <p:nvPr/>
        </p:nvPicPr>
        <p:blipFill>
          <a:blip r:embed="rId1"/>
          <a:stretch/>
        </p:blipFill>
        <p:spPr>
          <a:xfrm>
            <a:off x="212760" y="426960"/>
            <a:ext cx="8570880" cy="10238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28"/>
          <p:cNvSpPr/>
          <p:nvPr/>
        </p:nvSpPr>
        <p:spPr>
          <a:xfrm>
            <a:off x="357120" y="1544760"/>
            <a:ext cx="30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збиться на груп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 Box 1029"/>
          <p:cNvSpPr/>
          <p:nvPr/>
        </p:nvSpPr>
        <p:spPr>
          <a:xfrm>
            <a:off x="623880" y="213840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брать тему исследо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1030"/>
          <p:cNvSpPr/>
          <p:nvPr/>
        </p:nvSpPr>
        <p:spPr>
          <a:xfrm>
            <a:off x="1022400" y="2581200"/>
            <a:ext cx="57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йти материал по теме исследо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1031"/>
          <p:cNvSpPr/>
          <p:nvPr/>
        </p:nvSpPr>
        <p:spPr>
          <a:xfrm>
            <a:off x="1366920" y="3029040"/>
            <a:ext cx="59482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здать  буклет  по теме исследо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вести социологический опро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извести уборку мусора в деревн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AutoShape 1034"/>
          <p:cNvSpPr/>
          <p:nvPr/>
        </p:nvSpPr>
        <p:spPr>
          <a:xfrm>
            <a:off x="2714760" y="1171440"/>
            <a:ext cx="1008000" cy="102708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50120 h 1027080"/>
              <a:gd name="textAreaBottom" fmla="*/ 876960 h 1027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AutoShape 1035"/>
          <p:cNvSpPr/>
          <p:nvPr/>
        </p:nvSpPr>
        <p:spPr>
          <a:xfrm>
            <a:off x="3832200" y="1544760"/>
            <a:ext cx="1008000" cy="98244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AutoShape 1036"/>
          <p:cNvSpPr/>
          <p:nvPr/>
        </p:nvSpPr>
        <p:spPr>
          <a:xfrm>
            <a:off x="4933800" y="1986120"/>
            <a:ext cx="1008360" cy="982440"/>
          </a:xfrm>
          <a:custGeom>
            <a:avLst/>
            <a:gdLst>
              <a:gd name="textAreaLeft" fmla="*/ 147600 w 1008360"/>
              <a:gd name="textAreaRight" fmla="*/ 860760 w 100836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AutoShape 1037"/>
          <p:cNvSpPr/>
          <p:nvPr/>
        </p:nvSpPr>
        <p:spPr>
          <a:xfrm>
            <a:off x="6048360" y="2289240"/>
            <a:ext cx="1008000" cy="98244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 Box 1032"/>
          <p:cNvSpPr/>
          <p:nvPr/>
        </p:nvSpPr>
        <p:spPr>
          <a:xfrm>
            <a:off x="5675400" y="481320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щитить свой проект на дне нау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:\1m904nFEuzzAJC3oL2LR4WaJUStNz1894.jpg"/>
          <p:cNvPicPr/>
          <p:nvPr/>
        </p:nvPicPr>
        <p:blipFill>
          <a:blip r:embed="rId2"/>
          <a:stretch/>
        </p:blipFill>
        <p:spPr>
          <a:xfrm>
            <a:off x="576360" y="4668840"/>
            <a:ext cx="2127240" cy="19368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037"/>
          <p:cNvSpPr/>
          <p:nvPr/>
        </p:nvSpPr>
        <p:spPr>
          <a:xfrm>
            <a:off x="7647120" y="3319560"/>
            <a:ext cx="1008000" cy="98244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AutoShape 1037"/>
          <p:cNvSpPr/>
          <p:nvPr/>
        </p:nvSpPr>
        <p:spPr>
          <a:xfrm>
            <a:off x="7120080" y="2584440"/>
            <a:ext cx="1008000" cy="98280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800"/>
              <a:gd name="textAreaBottom" fmla="*/ 839160 h 982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AutoShape 1037"/>
          <p:cNvSpPr/>
          <p:nvPr/>
        </p:nvSpPr>
        <p:spPr>
          <a:xfrm>
            <a:off x="7956720" y="4029120"/>
            <a:ext cx="1008000" cy="98244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Результаты работы над проектом: 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862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 ходе проекта нами были изучена  и улучшена санитарно-экологическая обстановка в деревне Синько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5000"/>
              </a:lnSpc>
              <a:spcBef>
                <a:spcPts val="862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Наш класс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</a:rPr>
              <a:t>Продолжит исследования проблем сбора и уборки мусора на улицах деревни Синько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</a:rPr>
              <a:t>Начнет изучение влияния загрязнения на здоровье челове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</a:rPr>
              <a:t>Продолжит пропаганду уважительного отношения  к окружающей сред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Список литератур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a3c1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Яковиев В.Н. Экологическое право. К., 1998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a3c1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Шешученко Ю.С. Правовые проблемы экологии. М, 1989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a3c1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2" descr="C:\Users\маргарита\Pictures\encoded.png"/>
          <p:cNvPicPr/>
          <p:nvPr/>
        </p:nvPicPr>
        <p:blipFill>
          <a:blip r:embed="rId1"/>
          <a:stretch/>
        </p:blipFill>
        <p:spPr>
          <a:xfrm>
            <a:off x="5076720" y="3429000"/>
            <a:ext cx="3456000" cy="31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0280" y="79920"/>
            <a:ext cx="777240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7dc7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Цель нашего проекта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изучить и улучшить санитарно-экологическую обстановку в д.Синьков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616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создать инициативную групп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изучить мнение жителей по данной проблем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изучить причины и последствия загрязнения окружающей сред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показать на личном примере, что чистота на улице – дело рук самих жителей деревн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наметить пути решения проблемы</a:t>
            </a:r>
            <a:r>
              <a:rPr b="1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703080" y="692280"/>
            <a:ext cx="60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Задачи </a:t>
            </a:r>
            <a:r>
              <a:rPr b="1" lang="ru-RU" sz="40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нашего проекта:</a:t>
            </a:r>
            <a:r>
              <a:rPr b="0" lang="ru-RU" sz="44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847800" y="25704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Прямоугольник 2" descr=""/>
          <p:cNvPicPr/>
          <p:nvPr/>
        </p:nvPicPr>
        <p:blipFill>
          <a:blip r:embed="rId1"/>
          <a:stretch/>
        </p:blipFill>
        <p:spPr>
          <a:xfrm>
            <a:off x="1316160" y="244440"/>
            <a:ext cx="6054480" cy="1279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571680" y="1428840"/>
            <a:ext cx="66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3200" spc="-1" strike="noStrike">
                <a:solidFill>
                  <a:srgbClr val="e66c7d"/>
                </a:solidFill>
                <a:latin typeface="Constantia"/>
              </a:rPr>
              <a:t>Мы </a:t>
            </a:r>
            <a:r>
              <a:rPr b="0" lang="ru-RU" sz="2800" spc="-1" strike="noStrike">
                <a:solidFill>
                  <a:srgbClr val="e66c7d"/>
                </a:solidFill>
                <a:latin typeface="Constantia"/>
              </a:rPr>
              <a:t>разбились на групп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1763640" y="2290680"/>
            <a:ext cx="2571840" cy="1285920"/>
          </a:xfrm>
          <a:prstGeom prst="rect">
            <a:avLst/>
          </a:prstGeom>
          <a:solidFill>
            <a:srgbClr val="f5c4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ервая групп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-изучение видов загрязн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871560" y="4521240"/>
            <a:ext cx="2571840" cy="1285920"/>
          </a:xfrm>
          <a:prstGeom prst="rect">
            <a:avLst/>
          </a:prstGeom>
          <a:solidFill>
            <a:srgbClr val="f5c4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торая групп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роведение опроса жителей дерев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5210280" y="3576600"/>
            <a:ext cx="2571480" cy="1285920"/>
          </a:xfrm>
          <a:prstGeom prst="rect">
            <a:avLst/>
          </a:prstGeom>
          <a:solidFill>
            <a:srgbClr val="f5c4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Третья групп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-сбор мусора в дерев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357120" y="1928880"/>
            <a:ext cx="72867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e66c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66c7d"/>
                </a:solidFill>
                <a:latin typeface="Constantia"/>
                <a:ea typeface="Arial"/>
              </a:rPr>
              <a:t>Какие основные загрязнения окружающей среды существуют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buClr>
                <a:srgbClr val="e66c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530280" y="299736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e66c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66c7d"/>
                </a:solidFill>
                <a:latin typeface="Constantia"/>
                <a:ea typeface="Arial"/>
              </a:rPr>
              <a:t>Отношение людей к загрязнению дерев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714240" y="4149720"/>
            <a:ext cx="842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e66c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66c7d"/>
                </a:solidFill>
                <a:latin typeface="Constantia"/>
              </a:rPr>
              <a:t>Что может сделать каждый житель для чистоты дерев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142920" y="500040"/>
            <a:ext cx="8786880" cy="785880"/>
          </a:xfrm>
          <a:prstGeom prst="rect">
            <a:avLst/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Прямоугольник 1" descr=""/>
          <p:cNvPicPr/>
          <p:nvPr/>
        </p:nvPicPr>
        <p:blipFill>
          <a:blip r:embed="rId1"/>
          <a:stretch/>
        </p:blipFill>
        <p:spPr>
          <a:xfrm>
            <a:off x="-133200" y="378000"/>
            <a:ext cx="9405720" cy="124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80960" y="1316160"/>
            <a:ext cx="7871040" cy="27493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0280" y="450864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Цель работы перво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изучение видов загрязнения окружающей сред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00:41Z</dcterms:created>
  <dc:creator>Студент</dc:creator>
  <dc:description/>
  <dc:language>en-US</dc:language>
  <cp:lastModifiedBy>Пользователь Windows</cp:lastModifiedBy>
  <dcterms:modified xsi:type="dcterms:W3CDTF">2019-11-19T15:41:20Z</dcterms:modified>
  <cp:revision>84</cp:revision>
  <dc:subject/>
  <dc:title>Проект:</dc:title>
</cp:coreProperties>
</file>