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7C3-BF1D-4D86-B7DF-A21055159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CB37-2A23-4088-AC9E-101551B15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E6D-2C22-4159-8032-E8BC11D76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1CF-F216-4249-92F7-D41EBA66B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A5C8-BE5A-4BC8-A3C6-1606E6B86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18F-32C2-40A5-9396-D559AAEC4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2AB-99DE-4756-9A2C-918479BB4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1B8-2DA4-4CB6-938C-703F1F070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460-0575-4050-AC6C-0466A4065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A11D-2B97-4E30-91CB-713487718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7A29-4120-4CA5-8948-6ACF4F05A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2AD-402D-4F93-B718-184A1B11A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7AE-A915-40CF-9FD7-0BEBD1C70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199-2F8B-4565-938A-ED079E33F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2E5B-8134-44A1-B46D-F1E1D2B6C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524-BDA8-410E-85D4-D643F723B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A20-7D36-4379-A6BE-B2E2DA4C5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331-D5CE-4E46-96AF-57DEA9927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0EA5-270E-4500-9714-81046ACCD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394-55D9-4ADF-B04F-139A8B361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54C4-8BE8-4CC6-90F4-E062DBD297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6D7-5392-4EBD-BEC8-5AC459F0D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193-9D80-47F9-81A2-0F26BB29D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2144-4A18-4AE6-B9DC-C7DBAB1D6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5DD-FD3E-4350-AF49-D07A1CE2C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52C-544F-410D-8AA4-2E0F7D16A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45B5-60D4-4F15-9128-59B87616D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921-8233-4F35-BCB0-7D9514D60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6BC-AFC7-4769-9BBC-446EAF3A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30B-3188-4968-98A4-5B77E97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534-A0F4-4AC9-AFC8-6CBFA3C5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26F-05AF-49CB-B2FC-058A598F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A3D-A746-45D9-BB74-26149DC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372-F02D-468D-879E-AE8CD2A3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C35-7227-44AA-9B0E-CA4F615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6F0-8725-41E5-9ACA-4C48A45C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BB0-A19B-4FE0-949D-22F0956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B91-A7D4-4179-9D64-00D3593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E55-5702-4675-95EE-E479AA3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E86-73D6-4481-89CB-6F65F4A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164-68F6-4283-A348-4D5B8414AA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Готовимся к ЕГЭ и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0505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3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Найдите 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лии никак не толще бутылочной шей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елаю удачи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2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3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дешь ты, голова?»— Лисица, встретяся с Ослом, его спросил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ой приём здесь использова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использована периф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>
            <a:hlinkClick r:id="rId2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>
            <a:hlinkClick r:id="rId3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5" name="CommandButton1" descr=""/>
          <p:cNvPicPr/>
          <p:nvPr/>
        </p:nvPicPr>
        <p:blipFill>
          <a:blip r:embed="rId4"/>
          <a:stretch/>
        </p:blipFill>
        <p:spPr>
          <a:xfrm>
            <a:off x="3886200" y="838080"/>
            <a:ext cx="1523880" cy="533520"/>
          </a:xfrm>
          <a:prstGeom prst="rect">
            <a:avLst/>
          </a:prstGeom>
          <a:ln w="0">
            <a:noFill/>
          </a:ln>
        </p:spPr>
      </p:pic>
      <p:pic>
        <p:nvPicPr>
          <p:cNvPr id="516" name="TextBox1" descr=""/>
          <p:cNvPicPr/>
          <p:nvPr/>
        </p:nvPicPr>
        <p:blipFill>
          <a:blip r:embed="rId5"/>
          <a:stretch/>
        </p:blipFill>
        <p:spPr>
          <a:xfrm>
            <a:off x="1600200" y="1523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2" descr=""/>
          <p:cNvPicPr/>
          <p:nvPr/>
        </p:nvPicPr>
        <p:blipFill>
          <a:blip r:embed="rId6"/>
          <a:stretch/>
        </p:blipFill>
        <p:spPr>
          <a:xfrm>
            <a:off x="7010280" y="15238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518" name="CommandButton2" descr=""/>
          <p:cNvPicPr/>
          <p:nvPr/>
        </p:nvPicPr>
        <p:blipFill>
          <a:blip r:embed="rId7"/>
          <a:stretch/>
        </p:blipFill>
        <p:spPr>
          <a:xfrm>
            <a:off x="3429000" y="152388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519" name="CommandButton3" descr=""/>
          <p:cNvPicPr/>
          <p:nvPr/>
        </p:nvPicPr>
        <p:blipFill>
          <a:blip r:embed="rId8"/>
          <a:stretch/>
        </p:blipFill>
        <p:spPr>
          <a:xfrm>
            <a:off x="3581280" y="594360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3" descr=""/>
          <p:cNvPicPr/>
          <p:nvPr/>
        </p:nvPicPr>
        <p:blipFill>
          <a:blip r:embed="rId9"/>
          <a:stretch/>
        </p:blipFill>
        <p:spPr>
          <a:xfrm>
            <a:off x="15238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1" name="TextBox4" descr=""/>
          <p:cNvPicPr/>
          <p:nvPr/>
        </p:nvPicPr>
        <p:blipFill>
          <a:blip r:embed="rId10"/>
          <a:stretch/>
        </p:blipFill>
        <p:spPr>
          <a:xfrm>
            <a:off x="22096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2" name="TextBox5" descr=""/>
          <p:cNvPicPr/>
          <p:nvPr/>
        </p:nvPicPr>
        <p:blipFill>
          <a:blip r:embed="rId11"/>
          <a:stretch/>
        </p:blipFill>
        <p:spPr>
          <a:xfrm>
            <a:off x="28195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3" name="TextBox6" descr=""/>
          <p:cNvPicPr/>
          <p:nvPr/>
        </p:nvPicPr>
        <p:blipFill>
          <a:blip r:embed="rId12"/>
          <a:stretch/>
        </p:blipFill>
        <p:spPr>
          <a:xfrm>
            <a:off x="35053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4" name="TextBox7" descr=""/>
          <p:cNvPicPr/>
          <p:nvPr/>
        </p:nvPicPr>
        <p:blipFill>
          <a:blip r:embed="rId13"/>
          <a:stretch/>
        </p:blipFill>
        <p:spPr>
          <a:xfrm>
            <a:off x="41148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8" descr=""/>
          <p:cNvPicPr/>
          <p:nvPr/>
        </p:nvPicPr>
        <p:blipFill>
          <a:blip r:embed="rId14"/>
          <a:stretch/>
        </p:blipFill>
        <p:spPr>
          <a:xfrm>
            <a:off x="48006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9" descr=""/>
          <p:cNvPicPr/>
          <p:nvPr/>
        </p:nvPicPr>
        <p:blipFill>
          <a:blip r:embed="rId15"/>
          <a:stretch/>
        </p:blipFill>
        <p:spPr>
          <a:xfrm>
            <a:off x="54100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TextBox10" descr=""/>
          <p:cNvPicPr/>
          <p:nvPr/>
        </p:nvPicPr>
        <p:blipFill>
          <a:blip r:embed="rId16"/>
          <a:stretch/>
        </p:blipFill>
        <p:spPr>
          <a:xfrm>
            <a:off x="60199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11" descr=""/>
          <p:cNvPicPr/>
          <p:nvPr/>
        </p:nvPicPr>
        <p:blipFill>
          <a:blip r:embed="rId17"/>
          <a:stretch/>
        </p:blipFill>
        <p:spPr>
          <a:xfrm>
            <a:off x="66294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TextBox12" descr=""/>
          <p:cNvPicPr/>
          <p:nvPr/>
        </p:nvPicPr>
        <p:blipFill>
          <a:blip r:embed="rId18"/>
          <a:stretch/>
        </p:blipFill>
        <p:spPr>
          <a:xfrm>
            <a:off x="7315200" y="4038480"/>
            <a:ext cx="3808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3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пы обруч золотой 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венец на новобрачн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ы, листики осенние, на веточках сидели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Дунул ветер - полетели.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Назовите вариант ответа, в котором употреблена гипер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Так скушай же ещё тарелочку,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Ирина</cp:lastModifiedBy>
  <dcterms:modified xsi:type="dcterms:W3CDTF">2012-09-25T14:25:3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