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391-7D84-48D7-A6C2-31D059CAE7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764D-2C7B-4EEB-8572-5FFBDACE3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8FD-9821-4FBE-AC3D-80CAD178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18F-7ECA-48AA-BA09-6526DAB2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2A3-7C3B-4C79-B376-6FA22889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B81-EBDA-474F-ACAA-66FFCECB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AA8B-4260-4B2B-A0F3-8FEF2CCA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24E-BB0D-4122-844B-C77E7D34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ACBA-91C1-44DC-A330-EAAB802E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C193-5B9D-41B3-8BD3-E6A60AFE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5C25-171A-41E7-B862-5DB277F9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A348-1462-4AE4-B474-FAF97595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6BAE-1DBB-499B-B342-278B0565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A7D-CC5A-4470-86ED-F3F1AA57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556-1BE0-4416-ABC8-B5A5D5DE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99FE-EBF0-483F-AB17-4459F64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9B23-366E-4E34-ACC0-E14BA95A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CB87-60D2-4C09-98A8-147D2F2F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44FE-5C03-437B-8789-EA85A36F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09A2-0DD3-4382-B539-78F1C376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FB05-CBBB-448D-ADE6-B82F781A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EBBD-A068-47E8-8A4B-AE601F38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1F92-43B1-41E1-BDAD-50528CC6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E9228-2B2B-4681-96F7-E960A176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FB5-A877-429E-87B2-696A44D6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EBBA-304C-4207-B7DD-26943D3F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3BDF-E8A7-4F8A-A8A0-F5F78B05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D34F-CFBD-4621-B4C1-9AC114C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DF90-7A59-4E29-BB7B-41D16EB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3B41-4091-491E-9369-57007977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8819-92B2-4012-8797-1A62CC77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47A5-6F14-4972-B124-77E46EA7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78548-5325-4C4F-A145-14E53404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5AEC-94E6-4621-A017-3CDD245F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734FC-B9EF-44C0-B163-ADE6B57C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5C6-6969-410F-8F9F-EB37EB0B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6F04-8443-462E-B12C-2604BFC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00C9-94CC-4AF1-BDA6-BDF03C41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A526-0E35-4DA2-B402-B0D6C575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FF0F-9494-48DF-9045-2BD84A88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2D16-3A32-4549-94ED-9372C14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294B-231F-461C-96D4-2B1A4DC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7740-9AB4-4FC1-A9E1-46F749DA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8702C-E6EE-4C36-9709-8B5B3478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3895-A3B3-483F-9B75-591E94A7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038CA-E627-4AC3-9A61-A656EC26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169-93F6-4B90-B6C8-2A34FEA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740C-7187-43F9-BEE4-BEC54455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03BA6-DAE9-4141-94C9-DA7625DB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9C735-1E6D-4752-A8C6-F338C682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BF2A-B208-4329-A5B6-8D8BAFD4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A80C-1D20-4FF7-870F-F789DC4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E80C9-55B7-4BAD-9992-BB799EB6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F544E-8D0D-4BBE-AB9C-DCFD272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4E79-7898-4A85-9650-45F21BD0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82E79-CB5B-48AF-BC2F-C7AB11D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EAC9-1CEE-47DF-995D-38F7F60C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52D-0EB4-41C1-AE39-142F9637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9A6D-64F1-451D-89E2-641CA078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36C45-749E-463C-A88D-8D9B00D0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B955B-DF51-487A-A096-23174474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E9F3F-BB01-49A3-933B-4A8F4162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DEADC-821E-41AF-86D7-10C0DC9E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1B6C9-BD38-4A11-AA9B-A239F27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4D8D-DDC5-4164-8BBE-B7B92887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D528-B4F6-44C3-ACFB-B9AB2301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8AC2-DB6E-4863-B159-EF87C93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208F-3235-4316-8F2B-9CD72E9B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110-F1AC-4214-B443-30FCC1B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3B8B-7ACF-48F6-82C1-C350B019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DA082-077D-4561-87F1-145D074D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CC571-6588-4410-9A37-CF29F23C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596F0-5BB2-446F-808C-CFF83D72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A9EDB-5AEE-446D-A54D-77D92214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DA6E6-92F3-4D7E-A15A-6AF41122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9BEF7-F982-48E1-86CF-9EC284F8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5C6ED-32B0-4206-B6A5-55FB9CB5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AD416-26CE-4B11-9A07-B893356A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97EE-8F98-4272-8BB2-4762DA9A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5B1-9C5A-4825-BD2A-F4D30E4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5129-94FF-4C02-AE2F-87275528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59E40-1777-4AFB-AFE5-CF70037C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8E6E2-DE67-4966-BD3F-09F4A943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4FCAE-7A17-4B4F-8092-4DDCDE1E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3DCB-D562-4699-9993-0F1A1AE8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8C372-BA2C-4DB0-A233-A6E9856F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82A5F-F3AB-4DAA-AFD6-C2AD2E4F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8F4B-870C-44E6-A70A-C4DF7183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7E5B2-2192-4AB9-8A1F-04820ACC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C365A-390A-4426-9CC3-94F6B211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69F-9BD1-42EE-82A0-6727942B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E3EAB-E190-4104-BF1A-396B71CE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3064E-751C-42BF-9E3A-8B1CE2C2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3EFB6-ADE8-4C20-ABDE-E38EADC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D0D9A-A755-4F70-B039-0C092A6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AE177-0ED7-4BED-9233-83661338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D1208-AF5F-4008-863D-4F27D379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30AC4-CEC9-4D71-AB1B-479AACA6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7D33-0CD4-461F-AE87-4D3E640FD2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7BEE-D0E5-4C1E-BB46-8B343D03A9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97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C472-CF4E-405F-99FD-D7080ACF7A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4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AC6F-0A35-4270-8A13-D5C4B0D514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1869-8BDE-44EF-B9D6-840A5FC420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7702-B7E7-43C8-8B66-B073E9091C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E6F9-C54F-4E22-A30E-C4F3222681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9337-778D-4D86-9640-07C6E1835AF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8560" y="907560"/>
            <a:ext cx="7427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Тема</a:t>
            </a: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урока :</a:t>
            </a:r>
            <a:br>
              <a:rPr sz="6000"/>
            </a:br>
            <a:r>
              <a:rPr b="0" lang="ru-RU" sz="6000" spc="-1" strike="noStrike">
                <a:solidFill>
                  <a:srgbClr val="572314"/>
                </a:solidFill>
                <a:latin typeface="Corbel"/>
              </a:rPr>
              <a:t>« Атмосферная циркуляция»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052640"/>
            <a:ext cx="7407000" cy="25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2" descr="C:\Users\Татьяна\Desktop\Атмосферная циркуляция\IMG_0002схема2.tif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71360" y="857160"/>
            <a:ext cx="7785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Арктический фронт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озникает между  арктическими  и умеренными воздушными массами.(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сположен в северной части Баренцева моря, над северной частью Восточной Сибири и морем Лаптевых и над Чукотским полуострово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олярный фронт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возникает между  умеренными  и  тропическими  воздушными масса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сположен над Среднерусской возвышенностью к Предуралью, на юге Восточной Сибири, над южной частью Дальнего Востока, и над Японским морем 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00120" y="-143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д Россией располагаетс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тмосферные вихр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2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Циклоны и антициклоны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60" y="64260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икл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это крупномасштабные атмосферные возмущения в области низкого давления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тицикл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районы относительно высокого атмосферного давления.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Users\Татьяна\Desktop\Атмосферная циркуляция\IMG_0003схема3.tif"/>
          <p:cNvPicPr/>
          <p:nvPr/>
        </p:nvPicPr>
        <p:blipFill>
          <a:blip r:embed="rId3"/>
          <a:stretch/>
        </p:blipFill>
        <p:spPr>
          <a:xfrm>
            <a:off x="142920" y="1857240"/>
            <a:ext cx="9097920" cy="2703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Прохождение циклона"/>
          <p:cNvPicPr/>
          <p:nvPr/>
        </p:nvPicPr>
        <p:blipFill>
          <a:blip r:embed="rId4"/>
          <a:stretch/>
        </p:blipFill>
        <p:spPr>
          <a:xfrm>
            <a:off x="357120" y="4357800"/>
            <a:ext cx="3787920" cy="2376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Город Норильск"/>
          <p:cNvPicPr/>
          <p:nvPr/>
        </p:nvPicPr>
        <p:blipFill>
          <a:blip r:embed="rId5"/>
          <a:stretch/>
        </p:blipFill>
        <p:spPr>
          <a:xfrm>
            <a:off x="4929120" y="4429080"/>
            <a:ext cx="3857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1704960" y="-71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Цикло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5435640" y="3429000"/>
            <a:ext cx="914400" cy="91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5867280" y="3068640"/>
            <a:ext cx="1441440" cy="1081080"/>
          </a:xfrm>
          <a:prstGeom prst="parallelogram">
            <a:avLst>
              <a:gd name="adj" fmla="val 33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5580000" y="2637000"/>
            <a:ext cx="1297080" cy="158400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0" descr="Циклон"/>
          <p:cNvPicPr/>
          <p:nvPr/>
        </p:nvPicPr>
        <p:blipFill>
          <a:blip r:embed="rId1"/>
          <a:stretch/>
        </p:blipFill>
        <p:spPr>
          <a:xfrm>
            <a:off x="0" y="824040"/>
            <a:ext cx="5245200" cy="3519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aнтициклон_3406702"/>
          <p:cNvPicPr/>
          <p:nvPr/>
        </p:nvPicPr>
        <p:blipFill>
          <a:blip r:embed="rId2"/>
          <a:stretch/>
        </p:blipFill>
        <p:spPr>
          <a:xfrm>
            <a:off x="3992400" y="3716280"/>
            <a:ext cx="5135760" cy="31417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3564000" y="2830680"/>
            <a:ext cx="6773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Антициклон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Закрепление тем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1.Что такое антициклон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2. Что такое циклон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3. Что такое атмосферная циркуляция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4. Что такое  атмосферный фронт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5. Что такое  трансформация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56800" y="-360"/>
            <a:ext cx="8286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еографический диктан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Атмосферный вихрь с высоким давлением в цент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Атмосферный вихрь с низким давлением в цент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Приносит пасмурную пого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Зона столкновения теплых и холодных воздушных масс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Восходящие потоки воздуха в цент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Нисходящее движение воздуха в центр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7.Движение от центра к перифер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8.Движение против часовой стрелки к центр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Они бывают теплые и холодны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95560" indent="-228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тветы на диктан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Циклон: 2; 3; 5; 8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Антициклон: 1; 4; 6; 7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Атмосферный фронт: 3; 5; 9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43080" y="1213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Домашнее задание. 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1720" y="2214360"/>
            <a:ext cx="792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аграф 19, выучить основные понят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0080" y="499680"/>
            <a:ext cx="88581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Цель урока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: сформировать целостное представление о циркуляции атмосферы.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56800" y="1356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крыть роль атмосферной циркуляции в формировании климата Росс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формировать понятия «воздушные массы», «атмосферный фронт», «циклон», «антициклон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что происходит на границах воздушных масс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вить влияние циклонов и антициклонов на пого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5436a"/>
                </a:solidFill>
                <a:latin typeface="Corbel"/>
              </a:rPr>
              <a:t>План урока: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1. Атмосферная циркуляц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2. Воздушные массы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3. Атмосферные фронты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4. Циклон. Антицикло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31640" y="-1717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70c0"/>
                </a:solidFill>
                <a:latin typeface="Corbel"/>
              </a:rPr>
              <a:t>Вспомнит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186920" y="765000"/>
            <a:ext cx="7643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Что такое воздушные массы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Когда перемещаются воздушные массы над поверхностью земли, что происходит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Какие  причины  вызывают  движение воздушных масс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Как движется ветер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Какие постоянные ветра вы зна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Какие воздушные массы оказывают влияние на климат Росс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Воздушные массы"/>
          <p:cNvPicPr/>
          <p:nvPr/>
        </p:nvPicPr>
        <p:blipFill>
          <a:blip r:embed="rId1"/>
          <a:stretch/>
        </p:blipFill>
        <p:spPr>
          <a:xfrm>
            <a:off x="1619280" y="1197000"/>
            <a:ext cx="6756480" cy="50799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332000" y="404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Свойства воздушны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star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90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785880" y="260280"/>
            <a:ext cx="74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океанов на климат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C:\Users\Татьяна\Desktop\Атмосферная циркуляция\IMG_0002схема.tif"/>
          <p:cNvPicPr/>
          <p:nvPr/>
        </p:nvPicPr>
        <p:blipFill>
          <a:blip r:embed="rId1"/>
          <a:stretch/>
        </p:blipFill>
        <p:spPr>
          <a:xfrm>
            <a:off x="608040" y="2643120"/>
            <a:ext cx="8535960" cy="23576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3"/>
          <p:cNvSpPr/>
          <p:nvPr/>
        </p:nvSpPr>
        <p:spPr>
          <a:xfrm>
            <a:off x="3358440" y="50007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холодный и сух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"/>
          <p:cNvSpPr/>
          <p:nvPr/>
        </p:nvSpPr>
        <p:spPr>
          <a:xfrm>
            <a:off x="4005720" y="535788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933120" y="492912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холод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летом тепл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6"/>
          <p:cNvSpPr/>
          <p:nvPr/>
        </p:nvSpPr>
        <p:spPr>
          <a:xfrm>
            <a:off x="6429240" y="49291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кая и сухая погода с температурой воздуха до 40 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7"/>
          <p:cNvSpPr/>
          <p:nvPr/>
        </p:nvSpPr>
        <p:spPr>
          <a:xfrm>
            <a:off x="1071720" y="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душная масс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упные объемы воздуха, отличающиеся по своим свойствам: температуре, влажности и прозра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8"/>
          <p:cNvSpPr/>
          <p:nvPr/>
        </p:nvSpPr>
        <p:spPr>
          <a:xfrm>
            <a:off x="1071720" y="135720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цирк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мещение воздушных масс различного происхождения из одного места в друг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4998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Атмосферный фронт</a:t>
            </a: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 – это полоса, разделяющая разные по своим свойствам воздушные массы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Ширина фронтов достигает нескольких десятков километров. На фронтах всегда происходит смена температуры, облачности, давления воздуха – смена погоды. 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44480" y="-21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Образование фрон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dc765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5" descr="Атмосферные фронты"/>
          <p:cNvPicPr/>
          <p:nvPr/>
        </p:nvPicPr>
        <p:blipFill>
          <a:blip r:embed="rId1"/>
          <a:stretch/>
        </p:blipFill>
        <p:spPr>
          <a:xfrm>
            <a:off x="571680" y="857160"/>
            <a:ext cx="828648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1:16:47Z</dcterms:created>
  <dc:creator>Yuri  V. Anikin</dc:creator>
  <dc:description/>
  <dc:language>en-US</dc:language>
  <cp:lastModifiedBy>Александр</cp:lastModifiedBy>
  <dcterms:modified xsi:type="dcterms:W3CDTF">2017-11-21T17:12:44Z</dcterms:modified>
  <cp:revision>102</cp:revision>
  <dc:subject/>
  <dc:title>Тема: Атмосферная циркуляция.</dc:title>
</cp:coreProperties>
</file>