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23A7-5135-43FB-9D05-5D35BEB042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F0F7-8D33-4DD7-9FF5-7B0D287FB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5EE-E1A9-44B4-A17C-A0FFF66A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613-5F4F-461E-8C54-2837F1DE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588-CF7A-4EDE-9B28-CAC88765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200-EC6F-4984-818E-8F8575D6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9CA1-6716-4684-B6D9-E6EE804B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6035-12D4-441C-8332-D3763528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EA49-617C-45C0-BCA3-2B081D95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B1D3-A04D-4FC3-8E01-3344074C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0EC6-5B8A-40C9-967A-AA75D2EC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F640-F226-4F4C-BDDF-2B1C8266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C549-9533-4FED-8DD3-666F1388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40A-700D-4176-8878-9E9F81E7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5B8A-23E8-492A-9DCB-CB206FAC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47DE-DB3F-4477-9425-27A0EE7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E9B6-6F29-43D8-A861-11E60492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BEB2-99C7-4B2A-A3FF-EFBAF279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FB78-2D75-437D-8AED-834A0ED5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B2C17-C692-41E4-AAEC-807644F4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21F2-C3E0-4319-8068-04E18F99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0624-2D83-4E89-8F4B-43B9377C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BCB9-9775-4804-99CF-7F53557E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7A64-4A64-4A4D-A8F1-75E66A50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570-9AAA-44CB-A67C-B1382A84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9841-79E0-4700-B00F-8B2346A0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66B8-35C1-429C-8CF0-387FE287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089F-B3D0-4EA1-BA14-39D5490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230F5-C4E9-4447-A0CD-511125F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F298-8577-425B-A2B8-ED623A7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E5B1B-F0F1-4CF7-9D5F-FE3359F8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50B6-76BE-47C1-B915-65E23C7F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B8E9D-D60F-49F7-A301-EF53F459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D896E-9055-4F5F-8D07-081749B4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1DD3D-1588-48D1-9F89-68A01EF1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D6B-CEF5-442B-8019-81606C67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86CA8-722A-4AB4-B57B-046EC1A4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EC95-8C47-4F61-88BE-EC7BA0BE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4211-915B-4830-B5F9-60A06630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C7BE8-E985-4B67-A5E1-0E7E8D4B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D20A-B4D1-4FE3-8321-FE40B68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E7CE-2E7D-4849-8E88-8F65F2E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6473-83D5-4262-BC93-D3A25A31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BC520-D3D2-402C-AD87-F5DDC033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CB0C0-25C5-41B3-824C-F4846946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5C56E-18F6-43DC-9973-A533BBDE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601-E1A4-4FEC-8279-8877DF6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1CD4-FD90-4CDD-89EF-228087EE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E2A6-DCC6-4D13-AFC7-9EBD833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CF9F-DAC1-4B5A-A609-23CA54E2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2A1BB-33D2-4EE6-AA84-CB27F900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32EE7-A331-4943-BF89-2D7DE756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2E36-EEF2-42E2-9D87-4BAB8B3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F1639-EDE7-4794-9465-62D90AF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8FB4-C4BF-4F15-AAE3-A1EA913C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6BE3-CBB9-4AB8-BC56-DF1C9DC2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00D1-93C7-4794-A6C0-6D0FA93E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6A6-D353-4E67-B200-C827E189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4C5B-8B51-44CD-BB54-4FCD9A09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9C1A0-7565-443F-8288-9C4BFC81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AD79-DA78-42C4-BD2A-387C036C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52D1-F249-45AC-AA0F-B050582D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144D4-86E1-464C-923D-8FA2C3B2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E971-6395-485E-9744-AFEE6814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B45EB-39CA-47D0-BD1F-25857BB7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D28B-3B8D-44C5-8B1C-9E35510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0A8A1-8175-49DB-86C6-F6F55A56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F287-50F3-40CC-B4D4-F5D5472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F81-FE79-47FB-A89C-B1FEAF18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9005A-760C-4979-B552-EEC47F4C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E90B9-2FBF-4117-8524-73AD34C9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E1B8-2166-41FE-8080-663308C5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5152D-85DE-471F-B8E6-4065C10D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DC00-8160-412C-8394-E5D41853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626EA-CBD3-4F4C-BE49-65FC3BA9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C24FC-16AA-4EC4-BFF7-5B06D5D4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64943-10DA-496F-8AE9-58B60186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9B2B7-0A42-46DE-BA6B-B5B29E78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CB95E-62F3-40B7-9912-357D19A5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D76-A47F-41C4-A3D3-81688F1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636CD-77E8-44ED-AAF4-C35AB339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BC29-9A4F-436B-BD26-A611A578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7598-77D6-4084-8775-03C27568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8B3E-FC73-43CF-980C-589C92A1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4300A-A6DC-4CFE-AB98-B47E7844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88F0B-354F-4D0C-B5AE-E4440353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40209-C60B-4153-B9C3-0F0403DF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EF522-6F52-4B5E-8112-70BAC9FA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40C2-6183-4315-B659-73C7D8A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6E298-B33F-4A95-9BF0-19C8CE04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DA7-88EC-466A-ADA7-BAC6A700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BD095-B593-441E-AE7C-FB92E2C7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B80D4-5883-42A5-BAF3-388809D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38AE3-2A4A-40E5-AAD3-3E34F609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65B5F-7D4B-4F85-A9A4-5EC7C950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1677A-8E46-4353-AF5C-0505EA62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80225-4DEA-48BE-9358-E12E7CC1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31F89-A575-4E23-8BA5-BAF82060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423-D59A-4AAE-956C-A1EDA3563F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CDE-2050-43BF-B4E8-888CEAC919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E8BE-4DBD-4343-A3F0-435C1EDBF1E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B78C-9227-4275-9862-4F3A8C461C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7666-1C2E-44E8-A828-6DD31C93835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82E6-12F8-4DFE-BE5F-EE3DD50D8E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D77F-37D9-44C4-A69D-1736550EF3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1E67-D889-436B-AA48-EE56B35D48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8560" y="907560"/>
            <a:ext cx="7427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Тема</a:t>
            </a: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урока :</a:t>
            </a:r>
            <a:br>
              <a:rPr sz="6000"/>
            </a:b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« Атмосферная циркуляция»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052640"/>
            <a:ext cx="74070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2" descr="C:\Users\Татьяна\Desktop\Атмосферная циркуляция\IMG_0002схема2.tif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71360" y="857160"/>
            <a:ext cx="7785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Арктический фронт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озникает между  арктическими  и умеренными воздушными массами.(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сположен в северной части Баренцева моря, над северной частью Восточной Сибири и морем Лаптевых и над Чукотским полуострово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олярный фронт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озникает между  умеренными  и  тропическими  воздушными масса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сположен над Среднерусской возвышенностью к Предуралью, на юге Восточной Сибири, над южной частью Дальнего Востока, и над Японским морем 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00120" y="-143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д Россией располагаетс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тмосферные вихр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2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Циклоны и антициклоны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60" y="64260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икл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это крупномасштабные атмосферные возмущения в области низкого давления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тицикл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районы относительно высокого атмосферного давления.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Users\Татьяна\Desktop\Атмосферная циркуляция\IMG_0003схема3.tif"/>
          <p:cNvPicPr/>
          <p:nvPr/>
        </p:nvPicPr>
        <p:blipFill>
          <a:blip r:embed="rId3"/>
          <a:stretch/>
        </p:blipFill>
        <p:spPr>
          <a:xfrm>
            <a:off x="142920" y="1857240"/>
            <a:ext cx="9097920" cy="2703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Прохождение циклона"/>
          <p:cNvPicPr/>
          <p:nvPr/>
        </p:nvPicPr>
        <p:blipFill>
          <a:blip r:embed="rId4"/>
          <a:stretch/>
        </p:blipFill>
        <p:spPr>
          <a:xfrm>
            <a:off x="357120" y="4357800"/>
            <a:ext cx="3787920" cy="2376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Город Норильск"/>
          <p:cNvPicPr/>
          <p:nvPr/>
        </p:nvPicPr>
        <p:blipFill>
          <a:blip r:embed="rId5"/>
          <a:stretch/>
        </p:blipFill>
        <p:spPr>
          <a:xfrm>
            <a:off x="4929120" y="4429080"/>
            <a:ext cx="3857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1704960" y="-71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Цикло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5435640" y="3429000"/>
            <a:ext cx="914400" cy="91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5867280" y="3068640"/>
            <a:ext cx="1441440" cy="1081080"/>
          </a:xfrm>
          <a:prstGeom prst="parallelogram">
            <a:avLst>
              <a:gd name="adj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5580000" y="2637000"/>
            <a:ext cx="1297080" cy="158400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0" descr="Циклон"/>
          <p:cNvPicPr/>
          <p:nvPr/>
        </p:nvPicPr>
        <p:blipFill>
          <a:blip r:embed="rId1"/>
          <a:stretch/>
        </p:blipFill>
        <p:spPr>
          <a:xfrm>
            <a:off x="0" y="824040"/>
            <a:ext cx="5245200" cy="3519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aнтициклон_3406702"/>
          <p:cNvPicPr/>
          <p:nvPr/>
        </p:nvPicPr>
        <p:blipFill>
          <a:blip r:embed="rId2"/>
          <a:stretch/>
        </p:blipFill>
        <p:spPr>
          <a:xfrm>
            <a:off x="3992400" y="3716280"/>
            <a:ext cx="5135760" cy="31417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3564000" y="2830680"/>
            <a:ext cx="6773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Антициклон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Закрепление тем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1.Что такое антициклон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2. Что такое циклон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3. Что такое атмосферная циркуляция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4. Что такое  атмосферный фронт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5. Что такое  трансформация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56800" y="-360"/>
            <a:ext cx="8286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еографический диктан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Атмосферный вихрь с высоким давлением в цент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Атмосферный вихрь с низким давлением в цент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Приносит пасмурную пого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Зона столкновения теплых и холодных воздушных масс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Восходящие потоки воздуха в цент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Нисходящее движение воздуха в цент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7.Движение от центра к перифер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8.Движение против часовой стрелки к центр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Они бывают теплые и холодны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тветы на диктан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Циклон: 2; 3; 5; 8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Антициклон: 1; 4; 6; 7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Атмосферный фронт: 3; 5; 9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43080" y="1213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Домашнее задание.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1720" y="2214360"/>
            <a:ext cx="792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аграф 19, выучить основные понят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0080" y="499680"/>
            <a:ext cx="88581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Цель урока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: сформировать целостное представление о циркуляции атмосферы.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56800" y="1356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крыть роль атмосферной циркуляции в формировании климата Росс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формировать понятия «воздушные массы», «атмосферный фронт», «циклон», «антициклон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что происходит на границах воздушных масс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вить влияние циклонов и антициклонов на пого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5436a"/>
                </a:solidFill>
                <a:latin typeface="Corbel"/>
              </a:rPr>
              <a:t>План урока: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1. Атмосферная циркуляц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2. Воздушные массы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3. Атмосферные фронты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4. Циклон. Антицикло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31640" y="-1717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70c0"/>
                </a:solidFill>
                <a:latin typeface="Corbel"/>
              </a:rPr>
              <a:t>Вспомнит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186920" y="765000"/>
            <a:ext cx="7643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Что такое воздушные массы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Когда перемещаются воздушные массы над поверхностью земли, что происходит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Какие  причины  вызывают  движение воздушных масс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Как движется ветер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Какие постоянные ветра вы зна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Какие воздушные массы оказывают влияние на климат Росс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Воздушные массы"/>
          <p:cNvPicPr/>
          <p:nvPr/>
        </p:nvPicPr>
        <p:blipFill>
          <a:blip r:embed="rId1"/>
          <a:stretch/>
        </p:blipFill>
        <p:spPr>
          <a:xfrm>
            <a:off x="1619280" y="1197000"/>
            <a:ext cx="6756480" cy="50799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332000" y="404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Свойства воздушны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star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90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785880" y="260280"/>
            <a:ext cx="74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океанов на климат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C:\Users\Татьяна\Desktop\Атмосферная циркуляция\IMG_0002схема.tif"/>
          <p:cNvPicPr/>
          <p:nvPr/>
        </p:nvPicPr>
        <p:blipFill>
          <a:blip r:embed="rId1"/>
          <a:stretch/>
        </p:blipFill>
        <p:spPr>
          <a:xfrm>
            <a:off x="608040" y="2643120"/>
            <a:ext cx="8535960" cy="23576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3"/>
          <p:cNvSpPr/>
          <p:nvPr/>
        </p:nvSpPr>
        <p:spPr>
          <a:xfrm>
            <a:off x="3358440" y="50007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холодный и сух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"/>
          <p:cNvSpPr/>
          <p:nvPr/>
        </p:nvSpPr>
        <p:spPr>
          <a:xfrm>
            <a:off x="4005720" y="535788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933120" y="492912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холод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летом тепл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6"/>
          <p:cNvSpPr/>
          <p:nvPr/>
        </p:nvSpPr>
        <p:spPr>
          <a:xfrm>
            <a:off x="6429240" y="49291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кая и сухая погода с температурой воздуха до 40 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7"/>
          <p:cNvSpPr/>
          <p:nvPr/>
        </p:nvSpPr>
        <p:spPr>
          <a:xfrm>
            <a:off x="1071720" y="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душная масс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упные объемы воздуха, отличающиеся по своим свойствам: температуре, влажности и прозра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8"/>
          <p:cNvSpPr/>
          <p:nvPr/>
        </p:nvSpPr>
        <p:spPr>
          <a:xfrm>
            <a:off x="1071720" y="135720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цирк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мещение воздушных масс различного происхождения из одного места в друг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4998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Атмосферный фронт</a:t>
            </a: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 – это полоса, разделяющая разные по своим свойствам воздушные массы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Ширина фронтов достигает нескольких десятков километров. На фронтах всегда происходит смена температуры, облачности, давления воздуха – смена погоды. 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44480" y="-21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Образование фрон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dc765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5" descr="Атмосферные фронты"/>
          <p:cNvPicPr/>
          <p:nvPr/>
        </p:nvPicPr>
        <p:blipFill>
          <a:blip r:embed="rId1"/>
          <a:stretch/>
        </p:blipFill>
        <p:spPr>
          <a:xfrm>
            <a:off x="571680" y="857160"/>
            <a:ext cx="828648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1:16:47Z</dcterms:created>
  <dc:creator>Yuri  V. Anikin</dc:creator>
  <dc:description/>
  <dc:language>en-US</dc:language>
  <cp:lastModifiedBy>Александр</cp:lastModifiedBy>
  <dcterms:modified xsi:type="dcterms:W3CDTF">2017-11-21T17:12:44Z</dcterms:modified>
  <cp:revision>102</cp:revision>
  <dc:subject/>
  <dc:title>Тема: Атмосферная циркуляция.</dc:title>
</cp:coreProperties>
</file>