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825163" cy="8121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2E4-64A9-4B06-AD2F-43588BF5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23560" y="4890960"/>
            <a:ext cx="907092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DBD-BDDE-4ABC-B0E3-C516AC6B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7188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23560" y="489096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71880" y="489096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B49-C5A2-43B9-9D8B-D06F6111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0760" y="234612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57600" y="234612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23560" y="489096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0760" y="489096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257600" y="489096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AF5-DFAA-41A6-A3A5-95200A76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A54C-A3A0-4B50-A179-6AFBB092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30D8-D15A-4356-B97E-1407D168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6250-9C66-43F9-8E01-7734AE58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442656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71880" y="2346120"/>
            <a:ext cx="442656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BB8B-1F89-494F-AE2B-FB788E7D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0341-308B-4DEC-B1EC-CAD67678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03040" y="114120"/>
            <a:ext cx="847548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5F27-53E8-4239-BCC5-ED8DDDF3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71880" y="2346120"/>
            <a:ext cx="442656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23560" y="489096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10AB-518E-43BB-853F-C0667D8A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47F-C035-4D2E-B09C-C470620F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442656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7188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71880" y="489096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11B8-31A9-40EB-A86A-EBBFD800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7188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23560" y="4890960"/>
            <a:ext cx="907092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DA2B-0DE2-4066-BAFA-55649918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23560" y="4890960"/>
            <a:ext cx="907092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C6E4-2C2E-41BE-83E3-D042CFCD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77188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23560" y="489096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771880" y="489096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F41C-667C-44B5-8661-1FA87217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0760" y="234612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257600" y="234612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23560" y="489096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0760" y="489096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7257600" y="489096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8F84-0FCA-4A04-A66F-121C8CC0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070-313A-4A48-87E1-B9B6C0D4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442656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71880" y="2346120"/>
            <a:ext cx="442656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E07-2FDC-403E-B042-CBEF31D2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B56C-E80C-4651-9AE2-AFE54525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03040" y="114120"/>
            <a:ext cx="847548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89F-37ED-454E-8E49-A38AB322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1880" y="2346120"/>
            <a:ext cx="442656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3560" y="489096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F5FA-6892-4FDF-B541-6213F02E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442656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188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1880" y="489096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976-9B62-43FC-A98E-2EF61A6A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7188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23560" y="4890960"/>
            <a:ext cx="907092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151-DD88-4871-86B2-32ECC22B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631880"/>
            <a:ext cx="2525760" cy="1206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360" rIns="10836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714680" y="1631880"/>
            <a:ext cx="8570880" cy="1206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360" rIns="10836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 fontScale="99000"/>
          </a:bodyPr>
          <a:p>
            <a:pPr marL="524880" indent="-524880">
              <a:spcBef>
                <a:spcPts val="9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1" marL="1041840" indent="-515520">
              <a:spcBef>
                <a:spcPts val="95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2" marL="1516320" indent="-472680">
              <a:spcBef>
                <a:spcPts val="9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3" marL="1970640" indent="-452520">
              <a:spcBef>
                <a:spcPts val="95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4" marL="2426400" indent="-454320">
              <a:spcBef>
                <a:spcPts val="9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5" marL="2426400" indent="-454320">
              <a:spcBef>
                <a:spcPts val="9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6" marL="2426400" indent="-454320">
              <a:spcBef>
                <a:spcPts val="9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20680" y="7397640"/>
            <a:ext cx="2255760" cy="541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970440" y="7397640"/>
            <a:ext cx="3427200" cy="541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39080" y="7397640"/>
            <a:ext cx="2255760" cy="541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fld id="{D5AC2583-6E2F-4D7C-AE9D-3623247671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992160" y="665280"/>
            <a:ext cx="181080" cy="12636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9783720" y="318960"/>
            <a:ext cx="181080" cy="12718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1082520"/>
            <a:ext cx="10285200" cy="2977920"/>
            <a:chOff x="0" y="1082520"/>
            <a:chExt cx="10285200" cy="2977920"/>
          </a:xfrm>
        </p:grpSpPr>
        <p:sp>
          <p:nvSpPr>
            <p:cNvPr id="46" name="Oval 7"/>
            <p:cNvSpPr/>
            <p:nvPr/>
          </p:nvSpPr>
          <p:spPr>
            <a:xfrm>
              <a:off x="270360" y="1082520"/>
              <a:ext cx="2977200" cy="297792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000" bIns="54000" anchor="ctr">
              <a:noAutofit/>
            </a:bodyPr>
            <a:p>
              <a:pPr algn="ctr"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985040"/>
              <a:ext cx="5593680" cy="1353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691520" y="1985040"/>
              <a:ext cx="5593680" cy="13536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721440" y="1804320"/>
              <a:ext cx="270360" cy="171648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9293040" y="1432080"/>
              <a:ext cx="309600" cy="162432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 fontScale="99000"/>
          </a:bodyPr>
          <a:p>
            <a:pPr marL="524880" indent="-524880">
              <a:spcBef>
                <a:spcPts val="9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1" marL="1041840" indent="-515520">
              <a:spcBef>
                <a:spcPts val="95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2" marL="1516320" indent="-472680">
              <a:spcBef>
                <a:spcPts val="9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3" marL="1970640" indent="-452520">
              <a:spcBef>
                <a:spcPts val="95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4" marL="2426400" indent="-454320">
              <a:spcBef>
                <a:spcPts val="9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5" marL="2426400" indent="-454320">
              <a:spcBef>
                <a:spcPts val="9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6" marL="2426400" indent="-454320">
              <a:spcBef>
                <a:spcPts val="9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812880" y="7397640"/>
            <a:ext cx="2254320" cy="541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698640" y="7397640"/>
            <a:ext cx="3429000" cy="541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759800" y="7397640"/>
            <a:ext cx="2255760" cy="541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lang="ru-RU" sz="12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fld id="{B66DCADB-D98B-417A-945A-4B717E24820B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03040" y="676440"/>
            <a:ext cx="8475480" cy="792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Рекомендации для родителей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23560" y="1899720"/>
            <a:ext cx="9070920" cy="53182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530280" indent="0">
              <a:spcBef>
                <a:spcPts val="451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ною разработан конспект совместной деятельности для детей логопедической группы с диагнозом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0280" indent="0">
              <a:spcBef>
                <a:spcPts val="451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ТНР. Общее недоразвитие речи( 3 уровень речевого развития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0280" indent="0">
              <a:spcBef>
                <a:spcPts val="451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тертая форма дизартри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0280" indent="0">
              <a:spcBef>
                <a:spcPts val="451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0280" indent="0">
              <a:spcBef>
                <a:spcPts val="451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Я предлагаю родителям и воспитателям повторить дома рассматривание картин по теме» Стройка», поиграть в дидактические игры, составить описательный рассказ о строительстве дома, рассмотреть строительные инструменты, закрепить названия строительных профессий, потренировать умения считать и рисовать по клеточкам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Построй детский сад по схеме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3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Picture 4" descr="рис"/>
          <p:cNvPicPr/>
          <p:nvPr/>
        </p:nvPicPr>
        <p:blipFill>
          <a:blip r:embed="rId1"/>
          <a:stretch/>
        </p:blipFill>
        <p:spPr>
          <a:xfrm>
            <a:off x="949320" y="2908440"/>
            <a:ext cx="431964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Рассматривание  картины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3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6" name="Picture 4" descr="стройка4"/>
          <p:cNvPicPr/>
          <p:nvPr/>
        </p:nvPicPr>
        <p:blipFill>
          <a:blip r:embed="rId1"/>
          <a:stretch/>
        </p:blipFill>
        <p:spPr>
          <a:xfrm>
            <a:off x="1165320" y="2835360"/>
            <a:ext cx="3887640" cy="345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444600" y="2332080"/>
          <a:ext cx="8361360" cy="5243400"/>
        </p:xfrm>
        <a:graphic>
          <a:graphicData uri="http://schemas.openxmlformats.org/drawingml/2006/table">
            <a:tbl>
              <a:tblPr/>
              <a:tblGrid>
                <a:gridCol w="4824360"/>
                <a:gridCol w="3537000"/>
              </a:tblGrid>
              <a:tr h="524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2160" y="1707840"/>
            <a:ext cx="8391600" cy="1895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706480" y="4239720"/>
            <a:ext cx="6676920" cy="22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3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71520" y="460440"/>
          <a:ext cx="10012320" cy="7142040"/>
        </p:xfrm>
        <a:graphic>
          <a:graphicData uri="http://schemas.openxmlformats.org/drawingml/2006/table">
            <a:tbl>
              <a:tblPr/>
              <a:tblGrid>
                <a:gridCol w="2808360"/>
                <a:gridCol w="3817800"/>
                <a:gridCol w="3386160"/>
              </a:tblGrid>
              <a:tr h="2230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664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247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Picture 31" descr="достр"/>
          <p:cNvPicPr/>
          <p:nvPr/>
        </p:nvPicPr>
        <p:blipFill>
          <a:blip r:embed="rId1"/>
          <a:stretch/>
        </p:blipFill>
        <p:spPr>
          <a:xfrm>
            <a:off x="7284960" y="2763720"/>
            <a:ext cx="2808360" cy="252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2" descr="инстр стройка"/>
          <p:cNvPicPr/>
          <p:nvPr/>
        </p:nvPicPr>
        <p:blipFill>
          <a:blip r:embed="rId2"/>
          <a:stretch/>
        </p:blipFill>
        <p:spPr>
          <a:xfrm>
            <a:off x="3252960" y="5572080"/>
            <a:ext cx="1206360" cy="180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3" descr="камни песок"/>
          <p:cNvPicPr/>
          <p:nvPr/>
        </p:nvPicPr>
        <p:blipFill>
          <a:blip r:embed="rId3"/>
          <a:stretch/>
        </p:blipFill>
        <p:spPr>
          <a:xfrm>
            <a:off x="1812960" y="5643720"/>
            <a:ext cx="1295280" cy="172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4" descr="машины на стр"/>
          <p:cNvPicPr/>
          <p:nvPr/>
        </p:nvPicPr>
        <p:blipFill>
          <a:blip r:embed="rId4"/>
          <a:stretch/>
        </p:blipFill>
        <p:spPr>
          <a:xfrm>
            <a:off x="5845320" y="5716440"/>
            <a:ext cx="1081080" cy="172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5" descr="микрор"/>
          <p:cNvPicPr/>
          <p:nvPr/>
        </p:nvPicPr>
        <p:blipFill>
          <a:blip r:embed="rId5"/>
          <a:stretch/>
        </p:blipFill>
        <p:spPr>
          <a:xfrm>
            <a:off x="7142040" y="531720"/>
            <a:ext cx="3029040" cy="2087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6" descr="насек"/>
          <p:cNvPicPr/>
          <p:nvPr/>
        </p:nvPicPr>
        <p:blipFill>
          <a:blip r:embed="rId6"/>
          <a:stretch/>
        </p:blipFill>
        <p:spPr>
          <a:xfrm>
            <a:off x="372960" y="5643720"/>
            <a:ext cx="1295640" cy="17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7" descr="недострой"/>
          <p:cNvPicPr/>
          <p:nvPr/>
        </p:nvPicPr>
        <p:blipFill>
          <a:blip r:embed="rId7"/>
          <a:stretch/>
        </p:blipFill>
        <p:spPr>
          <a:xfrm>
            <a:off x="3325680" y="2763720"/>
            <a:ext cx="3514680" cy="2521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8" descr="поле лес"/>
          <p:cNvPicPr/>
          <p:nvPr/>
        </p:nvPicPr>
        <p:blipFill>
          <a:blip r:embed="rId8"/>
          <a:stretch/>
        </p:blipFill>
        <p:spPr>
          <a:xfrm>
            <a:off x="517680" y="531720"/>
            <a:ext cx="2590560" cy="208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9" descr="уч"/>
          <p:cNvPicPr/>
          <p:nvPr/>
        </p:nvPicPr>
        <p:blipFill>
          <a:blip r:embed="rId9"/>
          <a:stretch/>
        </p:blipFill>
        <p:spPr>
          <a:xfrm>
            <a:off x="588960" y="276372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0" descr="санкт -п"/>
          <p:cNvPicPr/>
          <p:nvPr/>
        </p:nvPicPr>
        <p:blipFill>
          <a:blip r:embed="rId10"/>
          <a:stretch/>
        </p:blipFill>
        <p:spPr>
          <a:xfrm>
            <a:off x="3397320" y="531720"/>
            <a:ext cx="3529080" cy="201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1" descr="сохрани дом"/>
          <p:cNvPicPr/>
          <p:nvPr/>
        </p:nvPicPr>
        <p:blipFill>
          <a:blip r:embed="rId11"/>
          <a:stretch/>
        </p:blipFill>
        <p:spPr>
          <a:xfrm>
            <a:off x="7142040" y="5716440"/>
            <a:ext cx="1366920" cy="165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2" descr="части дом а"/>
          <p:cNvPicPr/>
          <p:nvPr/>
        </p:nvPicPr>
        <p:blipFill>
          <a:blip r:embed="rId12"/>
          <a:stretch/>
        </p:blipFill>
        <p:spPr>
          <a:xfrm>
            <a:off x="8653320" y="5788080"/>
            <a:ext cx="165600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3" descr="проф строит"/>
          <p:cNvPicPr/>
          <p:nvPr/>
        </p:nvPicPr>
        <p:blipFill>
          <a:blip r:embed="rId13"/>
          <a:stretch/>
        </p:blipFill>
        <p:spPr>
          <a:xfrm>
            <a:off x="4549680" y="5572080"/>
            <a:ext cx="11397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36600" y="242640"/>
            <a:ext cx="8475840" cy="11523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евятиэкранная система     мышления » Строй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7320" y="-360"/>
            <a:ext cx="9070920" cy="78771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3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88960" y="2043000"/>
          <a:ext cx="7921800" cy="5761080"/>
        </p:xfrm>
        <a:graphic>
          <a:graphicData uri="http://schemas.openxmlformats.org/drawingml/2006/table">
            <a:tbl>
              <a:tblPr/>
              <a:tblGrid>
                <a:gridCol w="2879640"/>
                <a:gridCol w="3054600"/>
                <a:gridCol w="198756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Поле,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Лес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надсистема прошлого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С-Петербург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надсистема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Новый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Микрорайон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надсистема будущего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4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Участок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Земли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прошлое объекта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Недостроенный дом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 система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Достроенный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Дом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будущее системы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7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Земля</a:t>
                      </a:r>
                      <a:r>
                        <a:rPr b="0" lang="ru-RU" sz="3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песок,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амень, насекомые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подсистема прошлого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Профессии,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техника,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струменты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подсистема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Части дома,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дома, уход за домом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подсистема будущего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49320" y="487440"/>
            <a:ext cx="8352000" cy="763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3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9" name="Picture 4" descr="рассказ о домах"/>
          <p:cNvPicPr/>
          <p:nvPr/>
        </p:nvPicPr>
        <p:blipFill>
          <a:blip r:embed="rId1"/>
          <a:stretch/>
        </p:blipFill>
        <p:spPr>
          <a:xfrm>
            <a:off x="588960" y="1755720"/>
            <a:ext cx="5111640" cy="58039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6276960" y="334008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Расскажи о своем дом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Строительные инструменты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3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3" name="Picture 4" descr="инструм стройка"/>
          <p:cNvPicPr/>
          <p:nvPr/>
        </p:nvPicPr>
        <p:blipFill>
          <a:blip r:embed="rId1"/>
          <a:stretch/>
        </p:blipFill>
        <p:spPr>
          <a:xfrm>
            <a:off x="1668600" y="2619360"/>
            <a:ext cx="4897440" cy="41054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781680" y="3627360"/>
            <a:ext cx="324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азови строительные инструменты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Расскажите о технике безопасности в работе  с инструментам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Прочитай и запомни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3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Picture 4" descr="проф 1"/>
          <p:cNvPicPr/>
          <p:nvPr/>
        </p:nvPicPr>
        <p:blipFill>
          <a:blip r:embed="rId1"/>
          <a:stretch/>
        </p:blipFill>
        <p:spPr>
          <a:xfrm>
            <a:off x="1309680" y="2332080"/>
            <a:ext cx="8928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Дидактическая игр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3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Picture 4" descr="что сначало что потом"/>
          <p:cNvPicPr/>
          <p:nvPr/>
        </p:nvPicPr>
        <p:blipFill>
          <a:blip r:embed="rId1"/>
          <a:stretch/>
        </p:blipFill>
        <p:spPr>
          <a:xfrm>
            <a:off x="1236600" y="2332080"/>
            <a:ext cx="91458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Нарисуй по точкам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3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Picture 4" descr="дом по точкам"/>
          <p:cNvPicPr/>
          <p:nvPr/>
        </p:nvPicPr>
        <p:blipFill>
          <a:blip r:embed="rId1"/>
          <a:stretch/>
        </p:blipFill>
        <p:spPr>
          <a:xfrm>
            <a:off x="1165320" y="1827360"/>
            <a:ext cx="8856720" cy="5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9T18:39:52Z</dcterms:created>
  <dc:creator>Asus</dc:creator>
  <dc:description/>
  <dc:language>en-US</dc:language>
  <cp:lastModifiedBy>Гр 8</cp:lastModifiedBy>
  <dcterms:modified xsi:type="dcterms:W3CDTF">2019-11-20T10:40:37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