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9ED-E594-4DCD-AC21-19DE0FAE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23560" y="489096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526-2AF0-46F6-AE87-78864B02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7188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989-0797-4448-9DF7-E4362512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076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5760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2356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076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25760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B17-19E0-4096-BECF-8F38A68A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D2BA-364B-4879-AFB5-8A782982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984C-BE5A-4CFA-B76F-43135386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5976-9C85-46D1-ACA1-6ED9B81A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EB1F-39A4-449E-92D4-A4F479C8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4666-5F4E-4459-AE33-95D6935A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03040" y="114120"/>
            <a:ext cx="847548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2CFF-93F2-4193-8905-B64F0484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D37-E06D-4DEF-9E06-2B198BB7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E9C-161D-45AB-B1E2-1F5BE9DF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7188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FB2D-E5CF-4B10-9475-97B37A8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B2FB-74CB-4854-84A5-B741241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23560" y="489096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AE92-9C6A-484E-990C-BCC64C9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7188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466E-BC12-49B0-9634-59D2844A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076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257600" y="234612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2356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076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257600" y="4890960"/>
            <a:ext cx="292068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F87-EDF6-413A-8B9A-DECFCD51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101-470A-4832-AA30-E4302A48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48F-424E-4081-8395-771C2A5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9E7-BEF7-465E-A994-E99082A9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03040" y="114120"/>
            <a:ext cx="8475480" cy="77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AE7-5A56-4896-A769-1B89C589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0CB-2104-44AF-91CA-951999C8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1880" y="489096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880-F580-4DF1-B0FE-2F73F96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71880" y="2346120"/>
            <a:ext cx="442656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23560" y="4890960"/>
            <a:ext cx="9070920" cy="2323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17C-B089-44CE-AAD9-B3677A04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631880"/>
            <a:ext cx="2525760" cy="1206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360" rIns="10836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714680" y="1631880"/>
            <a:ext cx="8570880" cy="1206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360" rIns="10836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 fontScale="99000"/>
          </a:bodyPr>
          <a:p>
            <a:pPr marL="524880" indent="-52488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1" marL="1041840" indent="-515520">
              <a:spcBef>
                <a:spcPts val="9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2" marL="1516320" indent="-47268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3" marL="1970640" indent="-452520">
              <a:spcBef>
                <a:spcPts val="9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4" marL="2426400" indent="-45432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5" marL="2426400" indent="-454320">
              <a:spcBef>
                <a:spcPts val="9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6" marL="2426400" indent="-454320">
              <a:spcBef>
                <a:spcPts val="9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20680" y="7397640"/>
            <a:ext cx="225576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970440" y="7397640"/>
            <a:ext cx="342720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39080" y="7397640"/>
            <a:ext cx="225576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1E8100FC-84D8-4402-AA58-AAD5BFE27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992160" y="665280"/>
            <a:ext cx="181080" cy="12636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9783720" y="318960"/>
            <a:ext cx="181080" cy="12718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1082520"/>
            <a:ext cx="10285200" cy="2977920"/>
            <a:chOff x="0" y="1082520"/>
            <a:chExt cx="10285200" cy="2977920"/>
          </a:xfrm>
        </p:grpSpPr>
        <p:sp>
          <p:nvSpPr>
            <p:cNvPr id="46" name="Oval 7"/>
            <p:cNvSpPr/>
            <p:nvPr/>
          </p:nvSpPr>
          <p:spPr>
            <a:xfrm>
              <a:off x="270360" y="1082520"/>
              <a:ext cx="2977200" cy="297792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ctr">
              <a:noAutofit/>
            </a:bodyPr>
            <a:p>
              <a:pPr algn="ctr"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985040"/>
              <a:ext cx="5593680" cy="1353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691520" y="1985040"/>
              <a:ext cx="5593680" cy="13536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721440" y="1804320"/>
              <a:ext cx="270360" cy="17164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9293040" y="1432080"/>
              <a:ext cx="309600" cy="16243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 fontScale="99000"/>
          </a:bodyPr>
          <a:p>
            <a:pPr marL="524880" indent="-52488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1" marL="1041840" indent="-515520">
              <a:spcBef>
                <a:spcPts val="9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2" marL="1516320" indent="-47268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3" marL="1970640" indent="-452520">
              <a:spcBef>
                <a:spcPts val="95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4" marL="2426400" indent="-454320">
              <a:spcBef>
                <a:spcPts val="9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5" marL="2426400" indent="-454320">
              <a:spcBef>
                <a:spcPts val="9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  <a:p>
            <a:pPr lvl="6" marL="2426400" indent="-454320">
              <a:spcBef>
                <a:spcPts val="95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812880" y="7397640"/>
            <a:ext cx="225432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698640" y="7397640"/>
            <a:ext cx="342900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759800" y="7397640"/>
            <a:ext cx="2255760" cy="541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ru-RU" sz="12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39ABB09B-7F12-4DE9-8520-3F78797DA7D0}" type="slidenum">
              <a:rPr b="0" lang="ru-RU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3040" y="676440"/>
            <a:ext cx="8475480" cy="792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Рекомендации для родителе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23560" y="1899720"/>
            <a:ext cx="9070920" cy="53182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ною разработан конспект совместной деятельности для детей логопедической группы с диагнозом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НР. Общее недоразвитие речи( 3 уровень речевого развития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тертая форма дизартри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0280" indent="0">
              <a:spcBef>
                <a:spcPts val="451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Я предлагаю родителям и воспитателям повторить дома рассматривание картин по теме» Стройка», поиграть в дидактические игры, составить описательный рассказ о строительстве дома, рассмотреть строительные инструменты, закрепить названия строительных профессий, потренировать умения считать и рисовать по клеточкам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Построй детский сад по схеме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4" descr="рис"/>
          <p:cNvPicPr/>
          <p:nvPr/>
        </p:nvPicPr>
        <p:blipFill>
          <a:blip r:embed="rId1"/>
          <a:stretch/>
        </p:blipFill>
        <p:spPr>
          <a:xfrm>
            <a:off x="949320" y="2908440"/>
            <a:ext cx="43196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Рассматривание  картин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Picture 4" descr="стройка4"/>
          <p:cNvPicPr/>
          <p:nvPr/>
        </p:nvPicPr>
        <p:blipFill>
          <a:blip r:embed="rId1"/>
          <a:stretch/>
        </p:blipFill>
        <p:spPr>
          <a:xfrm>
            <a:off x="1165320" y="2835360"/>
            <a:ext cx="3887640" cy="34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44600" y="2332080"/>
          <a:ext cx="8361360" cy="5243400"/>
        </p:xfrm>
        <a:graphic>
          <a:graphicData uri="http://schemas.openxmlformats.org/drawingml/2006/table">
            <a:tbl>
              <a:tblPr/>
              <a:tblGrid>
                <a:gridCol w="4824360"/>
                <a:gridCol w="3537000"/>
              </a:tblGrid>
              <a:tr h="524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2160" y="1707840"/>
            <a:ext cx="8391600" cy="1895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06480" y="4239720"/>
            <a:ext cx="6676920" cy="22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71520" y="460440"/>
          <a:ext cx="10012320" cy="7142040"/>
        </p:xfrm>
        <a:graphic>
          <a:graphicData uri="http://schemas.openxmlformats.org/drawingml/2006/table">
            <a:tbl>
              <a:tblPr/>
              <a:tblGrid>
                <a:gridCol w="2808360"/>
                <a:gridCol w="3817800"/>
                <a:gridCol w="3386160"/>
              </a:tblGrid>
              <a:tr h="2230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Picture 31" descr="достр"/>
          <p:cNvPicPr/>
          <p:nvPr/>
        </p:nvPicPr>
        <p:blipFill>
          <a:blip r:embed="rId1"/>
          <a:stretch/>
        </p:blipFill>
        <p:spPr>
          <a:xfrm>
            <a:off x="7284960" y="276372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инстр стройка"/>
          <p:cNvPicPr/>
          <p:nvPr/>
        </p:nvPicPr>
        <p:blipFill>
          <a:blip r:embed="rId2"/>
          <a:stretch/>
        </p:blipFill>
        <p:spPr>
          <a:xfrm>
            <a:off x="3252960" y="5572080"/>
            <a:ext cx="1206360" cy="180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камни песок"/>
          <p:cNvPicPr/>
          <p:nvPr/>
        </p:nvPicPr>
        <p:blipFill>
          <a:blip r:embed="rId3"/>
          <a:stretch/>
        </p:blipFill>
        <p:spPr>
          <a:xfrm>
            <a:off x="1812960" y="5643720"/>
            <a:ext cx="129528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4" descr="машины на стр"/>
          <p:cNvPicPr/>
          <p:nvPr/>
        </p:nvPicPr>
        <p:blipFill>
          <a:blip r:embed="rId4"/>
          <a:stretch/>
        </p:blipFill>
        <p:spPr>
          <a:xfrm>
            <a:off x="5845320" y="5716440"/>
            <a:ext cx="1081080" cy="172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микрор"/>
          <p:cNvPicPr/>
          <p:nvPr/>
        </p:nvPicPr>
        <p:blipFill>
          <a:blip r:embed="rId5"/>
          <a:stretch/>
        </p:blipFill>
        <p:spPr>
          <a:xfrm>
            <a:off x="7142040" y="531720"/>
            <a:ext cx="302904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насек"/>
          <p:cNvPicPr/>
          <p:nvPr/>
        </p:nvPicPr>
        <p:blipFill>
          <a:blip r:embed="rId6"/>
          <a:stretch/>
        </p:blipFill>
        <p:spPr>
          <a:xfrm>
            <a:off x="372960" y="5643720"/>
            <a:ext cx="129564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7" descr="недострой"/>
          <p:cNvPicPr/>
          <p:nvPr/>
        </p:nvPicPr>
        <p:blipFill>
          <a:blip r:embed="rId7"/>
          <a:stretch/>
        </p:blipFill>
        <p:spPr>
          <a:xfrm>
            <a:off x="3325680" y="2763720"/>
            <a:ext cx="351468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8" descr="поле лес"/>
          <p:cNvPicPr/>
          <p:nvPr/>
        </p:nvPicPr>
        <p:blipFill>
          <a:blip r:embed="rId8"/>
          <a:stretch/>
        </p:blipFill>
        <p:spPr>
          <a:xfrm>
            <a:off x="517680" y="531720"/>
            <a:ext cx="259056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9" descr="уч"/>
          <p:cNvPicPr/>
          <p:nvPr/>
        </p:nvPicPr>
        <p:blipFill>
          <a:blip r:embed="rId9"/>
          <a:stretch/>
        </p:blipFill>
        <p:spPr>
          <a:xfrm>
            <a:off x="588960" y="27637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0" descr="санкт -п"/>
          <p:cNvPicPr/>
          <p:nvPr/>
        </p:nvPicPr>
        <p:blipFill>
          <a:blip r:embed="rId10"/>
          <a:stretch/>
        </p:blipFill>
        <p:spPr>
          <a:xfrm>
            <a:off x="3397320" y="531720"/>
            <a:ext cx="3529080" cy="20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1" descr="сохрани дом"/>
          <p:cNvPicPr/>
          <p:nvPr/>
        </p:nvPicPr>
        <p:blipFill>
          <a:blip r:embed="rId11"/>
          <a:stretch/>
        </p:blipFill>
        <p:spPr>
          <a:xfrm>
            <a:off x="7142040" y="5716440"/>
            <a:ext cx="1366920" cy="165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2" descr="части дом а"/>
          <p:cNvPicPr/>
          <p:nvPr/>
        </p:nvPicPr>
        <p:blipFill>
          <a:blip r:embed="rId12"/>
          <a:stretch/>
        </p:blipFill>
        <p:spPr>
          <a:xfrm>
            <a:off x="8653320" y="5788080"/>
            <a:ext cx="165600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3" descr="проф строит"/>
          <p:cNvPicPr/>
          <p:nvPr/>
        </p:nvPicPr>
        <p:blipFill>
          <a:blip r:embed="rId13"/>
          <a:stretch/>
        </p:blipFill>
        <p:spPr>
          <a:xfrm>
            <a:off x="4549680" y="5572080"/>
            <a:ext cx="11397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6600" y="242640"/>
            <a:ext cx="8475840" cy="11523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евятиэкранная система     мышления » Строй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7320" y="-360"/>
            <a:ext cx="9070920" cy="78771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88960" y="2043000"/>
          <a:ext cx="7921800" cy="5761080"/>
        </p:xfrm>
        <a:graphic>
          <a:graphicData uri="http://schemas.openxmlformats.org/drawingml/2006/table">
            <a:tbl>
              <a:tblPr/>
              <a:tblGrid>
                <a:gridCol w="2879640"/>
                <a:gridCol w="3054600"/>
                <a:gridCol w="198756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оле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Лес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надсистема прошлого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С-Петербург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надсистема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овый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Микрорайон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надсистема будущего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Участок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емли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прошлое объекта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едостроенный дом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 система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строенный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м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будущее системы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7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емля</a:t>
                      </a:r>
                      <a:r>
                        <a:rPr b="0" lang="ru-RU" sz="3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есок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амень, насекомые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подсистема прошлого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фессии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техника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струменты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подсистема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Части дома,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ма, уход за домом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подсистема будущего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49320" y="487440"/>
            <a:ext cx="8352000" cy="763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Picture 4" descr="рассказ о домах"/>
          <p:cNvPicPr/>
          <p:nvPr/>
        </p:nvPicPr>
        <p:blipFill>
          <a:blip r:embed="rId1"/>
          <a:stretch/>
        </p:blipFill>
        <p:spPr>
          <a:xfrm>
            <a:off x="588960" y="1755720"/>
            <a:ext cx="5111640" cy="5803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276960" y="33400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сскажи о своем дом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Строительные инструменты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3" name="Picture 4" descr="инструм стройка"/>
          <p:cNvPicPr/>
          <p:nvPr/>
        </p:nvPicPr>
        <p:blipFill>
          <a:blip r:embed="rId1"/>
          <a:stretch/>
        </p:blipFill>
        <p:spPr>
          <a:xfrm>
            <a:off x="1668600" y="2619360"/>
            <a:ext cx="4897440" cy="4105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81680" y="3627360"/>
            <a:ext cx="324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азови строительные инструменты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сскажите о технике безопасности в работе  с инструментам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Прочитай и запомни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4" descr="проф 1"/>
          <p:cNvPicPr/>
          <p:nvPr/>
        </p:nvPicPr>
        <p:blipFill>
          <a:blip r:embed="rId1"/>
          <a:stretch/>
        </p:blipFill>
        <p:spPr>
          <a:xfrm>
            <a:off x="1309680" y="2332080"/>
            <a:ext cx="8928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Дидактическая иг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4" descr="что сначало что потом"/>
          <p:cNvPicPr/>
          <p:nvPr/>
        </p:nvPicPr>
        <p:blipFill>
          <a:blip r:embed="rId1"/>
          <a:stretch/>
        </p:blipFill>
        <p:spPr>
          <a:xfrm>
            <a:off x="1236600" y="2332080"/>
            <a:ext cx="91458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3040" y="114120"/>
            <a:ext cx="8475480" cy="16729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b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Нарисуй по точкам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23560" y="2346120"/>
            <a:ext cx="9070920" cy="4871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ru-RU" sz="3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4" descr="дом по точкам"/>
          <p:cNvPicPr/>
          <p:nvPr/>
        </p:nvPicPr>
        <p:blipFill>
          <a:blip r:embed="rId1"/>
          <a:stretch/>
        </p:blipFill>
        <p:spPr>
          <a:xfrm>
            <a:off x="1165320" y="1827360"/>
            <a:ext cx="885672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9T18:39:52Z</dcterms:created>
  <dc:creator>Asus</dc:creator>
  <dc:description/>
  <dc:language>en-US</dc:language>
  <cp:lastModifiedBy>Гр 8</cp:lastModifiedBy>
  <dcterms:modified xsi:type="dcterms:W3CDTF">2019-11-20T10:40:37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