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4.png" ContentType="image/png"/>
  <Override PartName="/ppt/media/image27.png" ContentType="image/png"/>
  <Override PartName="/ppt/media/image1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6.jpeg" ContentType="image/jpeg"/>
  <Override PartName="/ppt/media/image13.gif" ContentType="image/gif"/>
  <Override PartName="/ppt/media/image8.gif" ContentType="image/gif"/>
  <Override PartName="/ppt/media/image9.png" ContentType="image/png"/>
  <Override PartName="/ppt/media/image10.gif" ContentType="image/gif"/>
  <Override PartName="/ppt/media/image12.png" ContentType="image/png"/>
  <Override PartName="/ppt/media/image30.gif" ContentType="image/gif"/>
  <Override PartName="/ppt/media/image1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6.png" ContentType="image/png"/>
  <Override PartName="/ppt/media/image20.jpeg" ContentType="image/jpeg"/>
  <Override PartName="/ppt/media/image26.gif" ContentType="image/gif"/>
  <Override PartName="/ppt/media/image29.png" ContentType="image/png"/>
  <Override PartName="/ppt/media/image25.gif" ContentType="image/gif"/>
  <Override PartName="/ppt/media/image28.png" ContentType="image/png"/>
  <Override PartName="/ppt/media/image15.jpeg" ContentType="image/jpeg"/>
  <Override PartName="/ppt/media/image2.gif" ContentType="image/gif"/>
  <Override PartName="/ppt/media/image19.jpeg" ContentType="image/jpeg"/>
  <Override PartName="/ppt/media/image21.png" ContentType="image/png"/>
  <Override PartName="/ppt/media/image18.jpeg" ContentType="image/jpe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38DD-A362-4D1C-A4DD-82E67643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A30B-C0C5-48CC-95F4-5894F6CE1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6F2F-F875-4EF6-B667-9E7885FB0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68BA-DACA-40E6-806D-3661F3F9D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F178-C248-42D5-AE55-8DDCD7293C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0393-9BF4-4313-BD99-E57B4509E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0323-C8DF-4ABA-96BE-CFBC27598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8C39-F45F-4A82-8BD3-B8EEA0420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EBF7-0C5C-4C61-8449-9FC949974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321A-2B65-4319-8C7C-A6545D14E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8AA4-BCE6-49C8-85A2-931AACAC1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BC0B-888B-4DC4-A247-B04909C05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3004-3829-4B2A-BFAA-17CE93195D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DDB1-2CF2-49FE-90DF-DA24C85BD2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E605-AE93-43B8-B623-5382E7957E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A5BA-72C0-4C57-97A7-AB70F02D72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DEF2-C71A-42D6-B687-2211C51E7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F687-E262-4A17-B0ED-B9F056429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E159-4454-4866-807C-BB710DE62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BA4A-84F7-4312-9A4E-ED89EF44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9238-0B62-40E6-9327-0BC187246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5FBF-3403-425F-B2A2-A06E2EBF8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E6A5-A9BD-450E-A863-F58C717A6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B6C2-624B-4247-90BE-7FB3FA17D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C61D18-5AFC-47B6-901E-0F652D31BB5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B2A792-55E6-48E7-9EFF-9AF8FD483A2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Arial Black"/>
              </a:rPr>
              <a:t>Guten Tag! Heute können Sie in die Zukunft einschauen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s0.tchkcdn.com/jokes/article/5/3/227335.gif"/>
          <p:cNvPicPr/>
          <p:nvPr/>
        </p:nvPicPr>
        <p:blipFill>
          <a:blip r:embed="rId1"/>
          <a:stretch/>
        </p:blipFill>
        <p:spPr>
          <a:xfrm>
            <a:off x="5786280" y="3571920"/>
            <a:ext cx="313380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67280" y="5950080"/>
            <a:ext cx="1258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63374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 u="sng">
                <a:solidFill>
                  <a:srgbClr val="8585e0"/>
                </a:solidFill>
                <a:uFillTx/>
                <a:latin typeface="Arial"/>
              </a:rPr>
              <a:t>Да так и есть!  Чип это очень интересное и необыкновенное изобретение уче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animo2.ucoz.ru/_ph/14/1/968826308.jpg"/>
          <p:cNvPicPr/>
          <p:nvPr/>
        </p:nvPicPr>
        <p:blipFill>
          <a:blip r:embed="rId1"/>
          <a:stretch/>
        </p:blipFill>
        <p:spPr>
          <a:xfrm>
            <a:off x="179280" y="388152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Арбуз - ученый"/>
          <p:cNvPicPr/>
          <p:nvPr/>
        </p:nvPicPr>
        <p:blipFill>
          <a:blip r:embed="rId2"/>
          <a:stretch/>
        </p:blipFill>
        <p:spPr>
          <a:xfrm>
            <a:off x="7308720" y="141300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smartysmile.ru/uploads/images/20100421/a45fb6426cbd53e57a48b9c7dc9955be.jpg"/>
          <p:cNvPicPr/>
          <p:nvPr/>
        </p:nvPicPr>
        <p:blipFill>
          <a:blip r:embed="rId3"/>
          <a:stretch/>
        </p:blipFill>
        <p:spPr>
          <a:xfrm>
            <a:off x="3498840" y="3584520"/>
            <a:ext cx="3243240" cy="423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7280" y="5950080"/>
            <a:ext cx="129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바탕"/>
                <a:ea typeface="바탕"/>
              </a:rPr>
              <a:t>Неверно, ПОДУМАЙ ЕЩЁ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Анимация Компьютеры"/>
          <p:cNvPicPr/>
          <p:nvPr/>
        </p:nvPicPr>
        <p:blipFill>
          <a:blip r:embed="rId1"/>
          <a:stretch/>
        </p:blipFill>
        <p:spPr>
          <a:xfrm>
            <a:off x="374760" y="3987720"/>
            <a:ext cx="2901960" cy="25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3600" spc="-1" strike="noStrike" u="sng">
                <a:solidFill>
                  <a:srgbClr val="ff0000"/>
                </a:solidFill>
                <a:uFillTx/>
                <a:latin typeface="Arial"/>
              </a:rPr>
              <a:t>Chip</a:t>
            </a:r>
            <a:r>
              <a:rPr b="1" i="1" lang="de-DE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das ins menschliche Gedächtnis eingeführt wird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8252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ьютером человек может управлять на расстоянии при помощи мозговых сигна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962520" cy="290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0" y="22096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2743200" y="3745080"/>
            <a:ext cx="3962520" cy="3112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106200"/>
            <a:ext cx="82296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через 100 лет, ученые создадут такие чипы, которые будут способны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образовывать графическую, звуковую и любую другую информацию прямо в мозговые сигн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инуя привычные нам органы чувств (зрение, слух, обоняние, осязание и т.д.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2498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28600" y="504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Computer der Zukunft- Brille in der Rolle das Wunder-Apparat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480" y="2133720"/>
            <a:ext cx="5556240" cy="4267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257800" y="187632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этого прибора человек будет иметь возможность совершать звонки, заходить в интернет-магазины, переводить надписи в меню или на вывесках, делать фотоснимки и загружать их в Интернет, передавать данные о собственном местонахождении и узнавать расположение друзей, одним словом, быть постоянно на связи со всемирной паутиной и ее сервисами. Эти очки также смогут выполнять функцию органайз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400" spc="-1" strike="noStrike" u="sng">
                <a:solidFill>
                  <a:srgbClr val="ff0000"/>
                </a:solidFill>
                <a:uFillTx/>
                <a:latin typeface="Arial"/>
              </a:rPr>
              <a:t>Welehe Funktionen haben die Brille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ff7c80"/>
                </a:solidFill>
                <a:uFillTx/>
                <a:latin typeface="Arial Black"/>
              </a:rPr>
              <a:t>1.Помогут  видеть приятные 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Arial Black"/>
              </a:rPr>
              <a:t>2. совершать звонки, заходит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Arial Black"/>
              </a:rPr>
              <a:t>Интернет-магазины , делать фотосним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ff7c80"/>
                </a:solidFill>
                <a:uFillTx/>
                <a:latin typeface="Arial Black"/>
              </a:rPr>
              <a:t>3. Смогут переносить нас на мор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Анимация Компьютеры"/>
          <p:cNvPicPr/>
          <p:nvPr/>
        </p:nvPicPr>
        <p:blipFill>
          <a:blip r:embed="rId1"/>
          <a:stretch/>
        </p:blipFill>
        <p:spPr>
          <a:xfrm>
            <a:off x="0" y="6381720"/>
            <a:ext cx="1862280" cy="763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Анимация Компьютеры"/>
          <p:cNvPicPr/>
          <p:nvPr/>
        </p:nvPicPr>
        <p:blipFill>
          <a:blip r:embed="rId2"/>
          <a:stretch/>
        </p:blipFill>
        <p:spPr>
          <a:xfrm>
            <a:off x="7093080" y="6021360"/>
            <a:ext cx="1595160" cy="663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36000" y="6165720"/>
            <a:ext cx="16905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바탕"/>
                <a:ea typeface="바탕"/>
              </a:rPr>
              <a:t>Ты наверное не внимательно читал, попробуй ещё раз. Всё получи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img10.proshkolu.ru/content/media/pic/std/4000000/3261000/3260931-56279170badd1735.jpg"/>
          <p:cNvPicPr/>
          <p:nvPr/>
        </p:nvPicPr>
        <p:blipFill>
          <a:blip r:embed="rId1"/>
          <a:stretch/>
        </p:blipFill>
        <p:spPr>
          <a:xfrm>
            <a:off x="684360" y="3645000"/>
            <a:ext cx="3166920" cy="25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32720" y="5876640"/>
            <a:ext cx="197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g3.s3.forblabla.com/u38/photo14A4/20713601088-0/huge.jpeg"/>
          <p:cNvPicPr/>
          <p:nvPr/>
        </p:nvPicPr>
        <p:blipFill>
          <a:blip r:embed="rId1"/>
          <a:stretch/>
        </p:blipFill>
        <p:spPr>
          <a:xfrm>
            <a:off x="1636560" y="0"/>
            <a:ext cx="7507440" cy="3422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content2.myyearbook.com/usercontent/fast/pimp_images/Animations/Bugs_Insects/Lady_Bugs/bugs_63.gif"/>
          <p:cNvPicPr/>
          <p:nvPr/>
        </p:nvPicPr>
        <p:blipFill>
          <a:blip r:embed="rId2"/>
          <a:stretch/>
        </p:blipFill>
        <p:spPr>
          <a:xfrm>
            <a:off x="0" y="4076640"/>
            <a:ext cx="6878520" cy="30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484200" y="533520"/>
            <a:ext cx="8197920" cy="6095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Andalus"/>
              </a:rPr>
              <a:t>Задумывались ли Вы о будующем компьюте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35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.Да задумыв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ет не задумыв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887400" y="492120"/>
            <a:ext cx="7391520" cy="6338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63640" y="657360"/>
            <a:ext cx="74390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скажите такого не может бы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кажу, что может.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ремя это докажет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303640" y="3225960"/>
            <a:ext cx="4319280" cy="303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Анимация Компьютеры"/>
          <p:cNvPicPr/>
          <p:nvPr/>
        </p:nvPicPr>
        <p:blipFill>
          <a:blip r:embed="rId2"/>
          <a:stretch/>
        </p:blipFill>
        <p:spPr>
          <a:xfrm>
            <a:off x="6881760" y="3933720"/>
            <a:ext cx="1895400" cy="2413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8800" spc="-1" strike="noStrike">
                <a:solidFill>
                  <a:srgbClr val="ff0000"/>
                </a:solidFill>
                <a:latin typeface="Arial"/>
              </a:rPr>
              <a:t>Danke für Ihre Aufmerksamkei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835280" y="47628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 Black"/>
              </a:rPr>
              <a:t>Prachtkerl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 Black"/>
              </a:rPr>
              <a:t>Ich bin sehr froh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735960" y="56610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60c99c"/>
                </a:solidFill>
                <a:uFillTx/>
                <a:latin typeface="Arial"/>
              </a:rPr>
              <a:t>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ttp://img1.liveinternet.ru/images/attach/c/4/79/625/79625635_httpi062radikalru10117b559d96ce45e3.gif"/>
          <p:cNvPicPr/>
          <p:nvPr/>
        </p:nvPicPr>
        <p:blipFill>
          <a:blip r:embed="rId1"/>
          <a:stretch/>
        </p:blipFill>
        <p:spPr>
          <a:xfrm>
            <a:off x="900000" y="2565360"/>
            <a:ext cx="3024360" cy="384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585e0"/>
                </a:solidFill>
                <a:latin typeface="Arial Black"/>
              </a:rPr>
              <a:t>Ну так давай вместе заглянем одним глазком в будущее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7313400" y="558972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60c99c"/>
                </a:solidFill>
                <a:uFillTx/>
                <a:latin typeface="Arial"/>
              </a:rPr>
              <a:t>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глаз моргает"/>
          <p:cNvPicPr/>
          <p:nvPr/>
        </p:nvPicPr>
        <p:blipFill>
          <a:blip r:embed="rId1"/>
          <a:stretch/>
        </p:blipFill>
        <p:spPr>
          <a:xfrm>
            <a:off x="901800" y="3803760"/>
            <a:ext cx="2152440" cy="5578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44360" y="431640"/>
            <a:ext cx="878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им я вижу компьютеры будущег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0" y="6129360"/>
            <a:ext cx="878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511280" y="1731960"/>
            <a:ext cx="5688000" cy="4243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647640"/>
            <a:ext cx="864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Es war immer modern, sich an die Zukunft zu träumen 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оследнее время я начал задумываться о будущем компьютера... Каким он будет через год, через пять, через десять лет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0" y="2087640"/>
            <a:ext cx="9142560" cy="4390920"/>
            <a:chOff x="0" y="2087640"/>
            <a:chExt cx="9142560" cy="4390920"/>
          </a:xfrm>
        </p:grpSpPr>
        <p:pic>
          <p:nvPicPr>
            <p:cNvPr id="1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2087640"/>
              <a:ext cx="914256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4"/>
            <p:cNvSpPr/>
            <p:nvPr/>
          </p:nvSpPr>
          <p:spPr>
            <a:xfrm>
              <a:off x="0" y="2087640"/>
              <a:ext cx="914256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3959280" y="3024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212760" y="608040"/>
            <a:ext cx="89312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mputer des Benutzers bedeutet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егк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достаточно большим и ярким экран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бладающий большой производительностью и способный выполня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множество самостоятельных задач одновремен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долго работ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800" spc="-1" strike="noStrike">
                <a:solidFill>
                  <a:srgbClr val="ff0000"/>
                </a:solidFill>
                <a:latin typeface="Arial"/>
              </a:rPr>
              <a:t>In der Vergangenheit bleiben die Leitung des Computers und der Tastatu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а на их смену придет совершенно новый способ управления компьютерами – это…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Анимация Компьютеры"/>
          <p:cNvPicPr/>
          <p:nvPr/>
        </p:nvPicPr>
        <p:blipFill>
          <a:blip r:embed="rId1"/>
          <a:stretch/>
        </p:blipFill>
        <p:spPr>
          <a:xfrm>
            <a:off x="684360" y="5445000"/>
            <a:ext cx="2392200" cy="10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Анимация Компьютеры"/>
          <p:cNvPicPr/>
          <p:nvPr/>
        </p:nvPicPr>
        <p:blipFill>
          <a:blip r:embed="rId2"/>
          <a:stretch/>
        </p:blipFill>
        <p:spPr>
          <a:xfrm>
            <a:off x="4211640" y="5084640"/>
            <a:ext cx="3419640" cy="1638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Und was denkst du, wie sieht das neue Mittel aus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2. Про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3. Ч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4.Б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aktienboard.com/forum/attachments/f7/a9893d1046451291-trader.gif"/>
          <p:cNvPicPr/>
          <p:nvPr/>
        </p:nvPicPr>
        <p:blipFill>
          <a:blip r:embed="rId1"/>
          <a:stretch/>
        </p:blipFill>
        <p:spPr>
          <a:xfrm>
            <a:off x="225360" y="2992320"/>
            <a:ext cx="1944720" cy="5962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vorogova</dc:creator>
  <dc:description/>
  <dc:language>en-US</dc:language>
  <cp:lastModifiedBy>Admin</cp:lastModifiedBy>
  <dcterms:modified xsi:type="dcterms:W3CDTF">2017-04-26T07:56:37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