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4.png" ContentType="image/png"/>
  <Override PartName="/ppt/media/image27.png" ContentType="image/png"/>
  <Override PartName="/ppt/media/image1.gif" ContentType="image/gif"/>
  <Override PartName="/ppt/media/image11.gif" ContentType="image/gif"/>
  <Override PartName="/ppt/media/image5.jpeg" ContentType="image/jpeg"/>
  <Override PartName="/ppt/media/image7.gif" ContentType="image/gif"/>
  <Override PartName="/ppt/media/image16.jpeg" ContentType="image/jpeg"/>
  <Override PartName="/ppt/media/image13.gif" ContentType="image/gif"/>
  <Override PartName="/ppt/media/image8.gif" ContentType="image/gif"/>
  <Override PartName="/ppt/media/image9.png" ContentType="image/png"/>
  <Override PartName="/ppt/media/image10.gif" ContentType="image/gif"/>
  <Override PartName="/ppt/media/image12.png" ContentType="image/png"/>
  <Override PartName="/ppt/media/image30.gif" ContentType="image/gif"/>
  <Override PartName="/ppt/media/image14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6.png" ContentType="image/png"/>
  <Override PartName="/ppt/media/image20.jpeg" ContentType="image/jpeg"/>
  <Override PartName="/ppt/media/image26.gif" ContentType="image/gif"/>
  <Override PartName="/ppt/media/image29.png" ContentType="image/png"/>
  <Override PartName="/ppt/media/image25.gif" ContentType="image/gif"/>
  <Override PartName="/ppt/media/image28.png" ContentType="image/png"/>
  <Override PartName="/ppt/media/image15.jpeg" ContentType="image/jpeg"/>
  <Override PartName="/ppt/media/image2.gif" ContentType="image/gif"/>
  <Override PartName="/ppt/media/image19.jpeg" ContentType="image/jpeg"/>
  <Override PartName="/ppt/media/image21.png" ContentType="image/png"/>
  <Override PartName="/ppt/media/image18.jpeg" ContentType="image/jpeg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618A-CFD5-4638-BB5E-8CF771335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D5C1-53B4-479E-AC9A-F22D52905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3FC9-121E-4E11-8E4A-FBA79BF69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0F55-278F-4F3C-BCCC-6C73179A5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B536-17A4-4138-AD0E-7E5EFCD114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7100-2F7E-42FE-846B-47C409EE82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AB82-4C2C-4B7A-9AD8-FB755C2D6B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9ECC1-2B18-4DD4-88B2-CCFEAA8B28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1F5C2-14BF-40F9-9071-DE40822BCB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19C1-AFF0-4F8C-866A-383AF1D3DF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1365-2560-4F67-8ACF-984B3217A6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6ADA-EE44-43DE-8DDA-B9E40C0EB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E5EC-2B34-4070-9EFD-9459BB471A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A836-B83D-4776-BA40-69FCB648D4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71702-67CF-4A42-AEE8-7443BC221A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D53D-2905-4697-984E-073A93EDA7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1425-C7B6-4699-913C-F2CB1E2FB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B68D-0C1E-4C08-970E-B98611F22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1369-9210-4464-B9D0-3E1989DF8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7D81-CE5C-473A-B7EA-47E580ED5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1DC7-DCD6-470C-ADB7-BD5844731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BDBA-2A9E-42ED-966F-0B9BCDCDC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5E5E-338F-41D8-912A-FCA93FE91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495B-B078-4915-9F9B-F97B3F922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1ABE09-F609-4501-97DD-B6603816A90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A674D6-A16A-4D5A-928C-35DBEF3BE2EE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de-DE" sz="4400" spc="-1" strike="noStrike">
                <a:solidFill>
                  <a:srgbClr val="ff0000"/>
                </a:solidFill>
                <a:latin typeface="Arial Black"/>
              </a:rPr>
              <a:t>Guten Tag! Heute können Sie in die Zukunft einschauen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s0.tchkcdn.com/jokes/article/5/3/227335.gif"/>
          <p:cNvPicPr/>
          <p:nvPr/>
        </p:nvPicPr>
        <p:blipFill>
          <a:blip r:embed="rId1"/>
          <a:stretch/>
        </p:blipFill>
        <p:spPr>
          <a:xfrm>
            <a:off x="5786280" y="3571920"/>
            <a:ext cx="3133800" cy="29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67280" y="5950080"/>
            <a:ext cx="12589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2565000"/>
            <a:ext cx="63374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000" spc="-1" strike="noStrike" u="sng">
                <a:solidFill>
                  <a:srgbClr val="8585e0"/>
                </a:solidFill>
                <a:uFillTx/>
                <a:latin typeface="Arial"/>
              </a:rPr>
              <a:t>Да так и есть!  Чип это очень интересное и необыкновенное изобретение уче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animo2.ucoz.ru/_ph/14/1/968826308.jpg"/>
          <p:cNvPicPr/>
          <p:nvPr/>
        </p:nvPicPr>
        <p:blipFill>
          <a:blip r:embed="rId1"/>
          <a:stretch/>
        </p:blipFill>
        <p:spPr>
          <a:xfrm>
            <a:off x="179280" y="3881520"/>
            <a:ext cx="2232000" cy="2976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Арбуз - ученый"/>
          <p:cNvPicPr/>
          <p:nvPr/>
        </p:nvPicPr>
        <p:blipFill>
          <a:blip r:embed="rId2"/>
          <a:stretch/>
        </p:blipFill>
        <p:spPr>
          <a:xfrm>
            <a:off x="7308720" y="1413000"/>
            <a:ext cx="136692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smartysmile.ru/uploads/images/20100421/a45fb6426cbd53e57a48b9c7dc9955be.jpg"/>
          <p:cNvPicPr/>
          <p:nvPr/>
        </p:nvPicPr>
        <p:blipFill>
          <a:blip r:embed="rId3"/>
          <a:stretch/>
        </p:blipFill>
        <p:spPr>
          <a:xfrm>
            <a:off x="3498840" y="3584520"/>
            <a:ext cx="3243240" cy="423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7280" y="5950080"/>
            <a:ext cx="129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 u="sng">
                <a:solidFill>
                  <a:srgbClr val="3333cc"/>
                </a:solidFill>
                <a:uFillTx/>
                <a:latin typeface="바탕"/>
                <a:ea typeface="바탕"/>
              </a:rPr>
              <a:t>Неверно, ПОДУМАЙ ЕЩЁ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Анимация Компьютеры"/>
          <p:cNvPicPr/>
          <p:nvPr/>
        </p:nvPicPr>
        <p:blipFill>
          <a:blip r:embed="rId1"/>
          <a:stretch/>
        </p:blipFill>
        <p:spPr>
          <a:xfrm>
            <a:off x="374760" y="3987720"/>
            <a:ext cx="2901960" cy="253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de-DE" sz="3600" spc="-1" strike="noStrike" u="sng">
                <a:solidFill>
                  <a:srgbClr val="ff0000"/>
                </a:solidFill>
                <a:uFillTx/>
                <a:latin typeface="Arial"/>
              </a:rPr>
              <a:t>Chip</a:t>
            </a:r>
            <a:r>
              <a:rPr b="1" i="1" lang="de-DE" sz="3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das ins menschliche Gedächtnis eingeführt wird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18252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ьютером человек может управлять на расстоянии при помощи мозговых сигнал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962520" cy="2901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0" y="2209680"/>
            <a:ext cx="3809880" cy="3124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2743200" y="3745080"/>
            <a:ext cx="3962520" cy="3112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57200" y="106200"/>
            <a:ext cx="82296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о через 100 лет, ученые создадут такие чипы, которые будут способны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образовывать графическую, звуковую и любую другую информацию прямо в мозговые сигна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инуя привычные нам органы чувств (зрение, слух, обоняние, осязание и т.д.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4495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3886200" y="2057400"/>
            <a:ext cx="24987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228600" y="504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Computer der Zukunft- Brille in der Rolle das Wunder-Apparat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480" y="2133720"/>
            <a:ext cx="5556240" cy="4267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5257800" y="1876320"/>
            <a:ext cx="358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этого прибора человек будет иметь возможность совершать звонки, заходить в интернет-магазины, переводить надписи в меню или на вывесках, делать фотоснимки и загружать их в Интернет, передавать данные о собственном местонахождении и узнавать расположение друзей, одним словом, быть постоянно на связи со всемирной паутиной и ее сервисами. Эти очки также смогут выполнять функцию органайз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de-DE" sz="4400" spc="-1" strike="noStrike" u="sng">
                <a:solidFill>
                  <a:srgbClr val="ff0000"/>
                </a:solidFill>
                <a:uFillTx/>
                <a:latin typeface="Arial"/>
              </a:rPr>
              <a:t>Welehe Funktionen haben die Brille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000" spc="-1" strike="noStrike" u="sng">
                <a:solidFill>
                  <a:srgbClr val="ff7c80"/>
                </a:solidFill>
                <a:uFillTx/>
                <a:latin typeface="Arial Black"/>
              </a:rPr>
              <a:t>1.Помогут  видеть приятные с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000" spc="-1" strike="noStrike" u="sng">
                <a:solidFill>
                  <a:srgbClr val="7030a0"/>
                </a:solidFill>
                <a:uFillTx/>
                <a:latin typeface="Arial Black"/>
              </a:rPr>
              <a:t>2. совершать звонки, заходит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000" spc="-1" strike="noStrike" u="sng">
                <a:solidFill>
                  <a:srgbClr val="7030a0"/>
                </a:solidFill>
                <a:uFillTx/>
                <a:latin typeface="Arial Black"/>
              </a:rPr>
              <a:t>Интернет-магазины , делать фотосним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000" spc="-1" strike="noStrike" u="sng">
                <a:solidFill>
                  <a:srgbClr val="ff7c80"/>
                </a:solidFill>
                <a:uFillTx/>
                <a:latin typeface="Arial Black"/>
              </a:rPr>
              <a:t>3. Смогут переносить нас на мор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Анимация Компьютеры"/>
          <p:cNvPicPr/>
          <p:nvPr/>
        </p:nvPicPr>
        <p:blipFill>
          <a:blip r:embed="rId1"/>
          <a:stretch/>
        </p:blipFill>
        <p:spPr>
          <a:xfrm>
            <a:off x="0" y="6381720"/>
            <a:ext cx="1862280" cy="763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Анимация Компьютеры"/>
          <p:cNvPicPr/>
          <p:nvPr/>
        </p:nvPicPr>
        <p:blipFill>
          <a:blip r:embed="rId2"/>
          <a:stretch/>
        </p:blipFill>
        <p:spPr>
          <a:xfrm>
            <a:off x="7093080" y="6021360"/>
            <a:ext cx="1595160" cy="663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36000" y="6165720"/>
            <a:ext cx="169056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바탕"/>
                <a:ea typeface="바탕"/>
              </a:rPr>
              <a:t>Ты наверное не внимательно читал, попробуй ещё раз. Всё получит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://img10.proshkolu.ru/content/media/pic/std/4000000/3261000/3260931-56279170badd1735.jpg"/>
          <p:cNvPicPr/>
          <p:nvPr/>
        </p:nvPicPr>
        <p:blipFill>
          <a:blip r:embed="rId1"/>
          <a:stretch/>
        </p:blipFill>
        <p:spPr>
          <a:xfrm>
            <a:off x="684360" y="3645000"/>
            <a:ext cx="3166920" cy="250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732720" y="5876640"/>
            <a:ext cx="1976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а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g3.s3.forblabla.com/u38/photo14A4/20713601088-0/huge.jpeg"/>
          <p:cNvPicPr/>
          <p:nvPr/>
        </p:nvPicPr>
        <p:blipFill>
          <a:blip r:embed="rId1"/>
          <a:stretch/>
        </p:blipFill>
        <p:spPr>
          <a:xfrm>
            <a:off x="1636560" y="0"/>
            <a:ext cx="7507440" cy="3422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content2.myyearbook.com/usercontent/fast/pimp_images/Animations/Bugs_Insects/Lady_Bugs/bugs_63.gif"/>
          <p:cNvPicPr/>
          <p:nvPr/>
        </p:nvPicPr>
        <p:blipFill>
          <a:blip r:embed="rId2"/>
          <a:stretch/>
        </p:blipFill>
        <p:spPr>
          <a:xfrm>
            <a:off x="0" y="4076640"/>
            <a:ext cx="6878520" cy="305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484200" y="533520"/>
            <a:ext cx="8197920" cy="60958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  <a:ea typeface="Andalus"/>
              </a:rPr>
              <a:t>Задумывались ли Вы о будующем компьюте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35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.Да задумыва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Нет не задумыва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887400" y="492120"/>
            <a:ext cx="7391520" cy="63388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863640" y="657360"/>
            <a:ext cx="74390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 скажите такого не может бы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скажу, что может..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время это докажет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303640" y="3225960"/>
            <a:ext cx="4319280" cy="303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Анимация Компьютеры"/>
          <p:cNvPicPr/>
          <p:nvPr/>
        </p:nvPicPr>
        <p:blipFill>
          <a:blip r:embed="rId2"/>
          <a:stretch/>
        </p:blipFill>
        <p:spPr>
          <a:xfrm>
            <a:off x="6881760" y="3933720"/>
            <a:ext cx="1895400" cy="2413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8800" spc="-1" strike="noStrike">
                <a:solidFill>
                  <a:srgbClr val="ff0000"/>
                </a:solidFill>
                <a:latin typeface="Arial"/>
              </a:rPr>
              <a:t>Danke für Ihre Aufmerksamkei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835280" y="476280"/>
            <a:ext cx="62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 Black"/>
              </a:rPr>
              <a:t>Prachtkerl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 Black"/>
              </a:rPr>
              <a:t>Ich bin sehr froh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6735960" y="56610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60c99c"/>
                </a:solidFill>
                <a:uFillTx/>
                <a:latin typeface="Arial"/>
              </a:rPr>
              <a:t>Да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http://img1.liveinternet.ru/images/attach/c/4/79/625/79625635_httpi062radikalru10117b559d96ce45e3.gif"/>
          <p:cNvPicPr/>
          <p:nvPr/>
        </p:nvPicPr>
        <p:blipFill>
          <a:blip r:embed="rId1"/>
          <a:stretch/>
        </p:blipFill>
        <p:spPr>
          <a:xfrm>
            <a:off x="900000" y="2565360"/>
            <a:ext cx="3024360" cy="3848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585e0"/>
                </a:solidFill>
                <a:latin typeface="Arial Black"/>
              </a:rPr>
              <a:t>Ну так давай вместе заглянем одним глазком в будущее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7313400" y="558972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60c99c"/>
                </a:solidFill>
                <a:uFillTx/>
                <a:latin typeface="Arial"/>
              </a:rPr>
              <a:t>Да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глаз моргает"/>
          <p:cNvPicPr/>
          <p:nvPr/>
        </p:nvPicPr>
        <p:blipFill>
          <a:blip r:embed="rId1"/>
          <a:stretch/>
        </p:blipFill>
        <p:spPr>
          <a:xfrm>
            <a:off x="901800" y="3803760"/>
            <a:ext cx="2152440" cy="5578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44360" y="431640"/>
            <a:ext cx="878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Каким я вижу компьютеры будущег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0" y="6129360"/>
            <a:ext cx="878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511280" y="1731960"/>
            <a:ext cx="5688000" cy="42433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503280" y="647640"/>
            <a:ext cx="8640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Es war immer modern, sich an die Zukunft zu träumen 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оследнее время я начал задумываться о будущем компьютера... Каким он будет через год, через пять, через десять лет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2"/>
          <p:cNvGrpSpPr/>
          <p:nvPr/>
        </p:nvGrpSpPr>
        <p:grpSpPr>
          <a:xfrm>
            <a:off x="0" y="2087640"/>
            <a:ext cx="9142560" cy="4390920"/>
            <a:chOff x="0" y="2087640"/>
            <a:chExt cx="9142560" cy="4390920"/>
          </a:xfrm>
        </p:grpSpPr>
        <p:pic>
          <p:nvPicPr>
            <p:cNvPr id="12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2087640"/>
              <a:ext cx="914256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4"/>
            <p:cNvSpPr/>
            <p:nvPr/>
          </p:nvSpPr>
          <p:spPr>
            <a:xfrm>
              <a:off x="0" y="2087640"/>
              <a:ext cx="914256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1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3959280" y="3024360"/>
            <a:ext cx="5040360" cy="338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212760" y="608040"/>
            <a:ext cx="893124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Computer des Benutzers bedeutet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легк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 достаточно большим и ярким экран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обладающий большой производительностью и способный выполнят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множество самостоятельных задач одновременн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долго работающ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1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4800" spc="-1" strike="noStrike">
                <a:solidFill>
                  <a:srgbClr val="ff0000"/>
                </a:solidFill>
                <a:latin typeface="Arial"/>
              </a:rPr>
              <a:t>In der Vergangenheit bleiben die Leitung des Computers und der Tastatur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а на их смену придет совершенно новый способ управления компьютерами – это……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Анимация Компьютеры"/>
          <p:cNvPicPr/>
          <p:nvPr/>
        </p:nvPicPr>
        <p:blipFill>
          <a:blip r:embed="rId1"/>
          <a:stretch/>
        </p:blipFill>
        <p:spPr>
          <a:xfrm>
            <a:off x="684360" y="5445000"/>
            <a:ext cx="2392200" cy="105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Анимация Компьютеры"/>
          <p:cNvPicPr/>
          <p:nvPr/>
        </p:nvPicPr>
        <p:blipFill>
          <a:blip r:embed="rId2"/>
          <a:stretch/>
        </p:blipFill>
        <p:spPr>
          <a:xfrm>
            <a:off x="4211640" y="5084640"/>
            <a:ext cx="3419640" cy="1638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o-RO" sz="4400" spc="-1" strike="noStrike">
                <a:solidFill>
                  <a:srgbClr val="ff0000"/>
                </a:solidFill>
                <a:latin typeface="Arial"/>
              </a:rPr>
              <a:t>Und was denkst du, wie sieht das neue Mittel aus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2. Про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3. Ч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4.Б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aktienboard.com/forum/attachments/f7/a9893d1046451291-trader.gif"/>
          <p:cNvPicPr/>
          <p:nvPr/>
        </p:nvPicPr>
        <p:blipFill>
          <a:blip r:embed="rId1"/>
          <a:stretch/>
        </p:blipFill>
        <p:spPr>
          <a:xfrm>
            <a:off x="225360" y="2992320"/>
            <a:ext cx="1944720" cy="5962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vorogova</dc:creator>
  <dc:description/>
  <dc:language>en-US</dc:language>
  <cp:lastModifiedBy>Admin</cp:lastModifiedBy>
  <dcterms:modified xsi:type="dcterms:W3CDTF">2017-04-26T07:56:37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