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293-C28C-41A2-B1AD-7F2831B8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782-DD6A-4BE7-AFA4-B514AE5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641-96A4-4647-BF47-B4941DD9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9F9-0E2D-4F2B-8D91-159FDFA9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1AA-03C1-4061-8295-06C782F9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58F-91BB-423C-BE9A-51F82A55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7FA3-CA79-4F5F-86D5-6992303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9717-92A7-43CF-A415-84BC78F5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7E1-D20E-4197-B435-74DB9A38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AF65-7CEC-4D18-AADE-77D06B9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DBBA-1DD5-4DE6-8AEE-A49D6185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77A-D3F6-4171-B99F-EC7467D5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7AA-026B-4427-9A08-0AB0710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0434-F89B-4EF3-8C9E-3AE17233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7A2-1410-4B3E-8012-6B667510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909E-4A9B-46C0-841D-48259E71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BF22-78A2-46E0-8FF3-672C97E5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2F0-9610-42C6-9622-F6BDE8B1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6E5-CD01-4B48-ADA9-AF2374E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2D1-FF7D-4FFE-953D-48E5F69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39F-2513-408D-AB35-4F7EFE31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521-CAA5-436A-AC82-04DAAF0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86A-6EC0-456F-83C4-7C86C55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CB0-9DE5-4E63-A0BD-C6A2FCA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7DC-79DC-4F33-A44F-0BACC4C80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6D57-07C4-4FA2-AE51-42CD9F5C5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wand.com/tt/&#1052;&#1241;&#1075;&#1098;&#1088;&#1080;&#1092;&#1241;&#1090;&#1095;&#1077;&#1083;&#1077;&#1082;" TargetMode="External"/><Relationship Id="rId2" Type="http://schemas.openxmlformats.org/officeDocument/2006/relationships/hyperlink" Target="http://www.wikiwand.com/tt/&#1060;&#1241;&#1083;&#1089;&#1241;&#1092;&#1241;&#1095;&#1077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Тема:  “Лев  Николаевич  Толстойның   педагогика  өлкәсендәге  эшчәнлеге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60164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450440"/>
            <a:ext cx="815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447920"/>
            <a:ext cx="754380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</a:rPr>
              <a:t>Максат:</a:t>
            </a:r>
            <a:r>
              <a:rPr b="1" lang="tt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tt-RU" sz="2400" spc="-1" strike="noStrike">
                <a:solidFill>
                  <a:srgbClr val="ccecff"/>
                </a:solidFill>
                <a:latin typeface="Times New Roman"/>
              </a:rPr>
              <a:t>Л.Н. Толстойның</a:t>
            </a: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 педагог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эшчәнлеген өйрәнү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Педагогик  карашларын һәм фикерләрен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ccecff"/>
                </a:solidFill>
                <a:latin typeface="Times New Roman"/>
              </a:rPr>
              <a:t>педагог эшчәнлеге буларак күзәтү</a:t>
            </a:r>
            <a:r>
              <a:rPr b="0" i="1" lang="ru-RU" sz="1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Бурычлар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Л. Н. Толстой мәктәб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эшчәнлегендәге метод һәм алымнарны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өйрәнү һәм анализ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Тикшеренү объекты 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Л. Н. Толстойның  халык мәктә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Башкаручы:</a:t>
            </a: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Әгерҗе шәһәре 4 урта гомуми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белем бирү мәктәбенең туган тел һәм әдәбият укытучысы Ногманова Миләүшә Сәлим кы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8954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 Толстой балалар белә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787560" cy="48765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343400" cy="293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4724280" y="518004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11430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Л.Н. Толстой  балаларны яраткан,алар дөньясын аңлаган,укучылары белән  табигатьтә ял иткән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Аларга кызыклы хәлләр сөйләгән, төрле уеннар өйрәткә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Л.Н. Толстой – публиц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Ул үз карашларын  төрле елларда чыккан “ Тәрбия һәм мәгариф “, “Халык мәгарифе”,”Тәрбия турында”, “ Ясная Поляна”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урналында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һәм башка мәкаләләрендә ачып бир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Педагогика турын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00" y="1143000"/>
            <a:ext cx="2473200" cy="30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1846080" cy="266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048120" y="3962520"/>
            <a:ext cx="1801800" cy="2638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85800" y="4114800"/>
            <a:ext cx="1752480" cy="2514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-4267080" y="41911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5486400" y="3962520"/>
            <a:ext cx="2971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 Толстой балалар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03440" y="1600200"/>
            <a:ext cx="3544560" cy="452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724280" y="53971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Балалар өчен Л.Н. Толстой  төрле  жанрда 629 әсәр иҗат итә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Times New Roman"/>
              </a:rPr>
              <a:t>Нәтиҗ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1.1859 нчы елда Л.Н. Толстой үз утарында крестьян балалары өчен мәктәп ача. Мәктәптә уку түләүсез була һәм алар физик җәзага тартылм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2.Л. Н. Толстой Ясная Поляна мәктәбендә үз методикасы буенча эксперимент үткәрә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3. Халык мәктәбендә укучы шәхесе хөрмәт ителә, аның кызыксынулары игътибарга алы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4.Ул мәктәп активлык, мөстәкыйльлек, иҗадилык принципларына нигезләнеп төзелә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5. Укучыларга билгеләр куелмый.  Өй эшләре бирел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69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ccecff"/>
                </a:solidFill>
                <a:latin typeface="Arial"/>
              </a:rPr>
              <a:t>Лев Толстой -бик кызыклы шәхес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Л. Н. Толстой – бөек рус язучысы , бөтен гомерен балаларга, педагогикага, белемгә багышлаган  фикер ияләренең иң күренекле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Мәгърифәтче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публицист,</a:t>
            </a:r>
            <a:r>
              <a:rPr b="0" lang="tt-RU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фәлсәфәче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35146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ccecff"/>
                </a:solidFill>
                <a:latin typeface="Arial"/>
              </a:rPr>
              <a:t>Л. Н. Толстойның педагогик концепцияс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5998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Халык мәгариф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мәкаләсендә : “Земство да, министерство да түгел , ә крестьяннар үзләре укытучыны сайларга, мәктәп  төзү эшләрен дә үзләре хәл итәргә  тиеш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Земство педагогик яктагы эшчәнлекне  тикшереп торырга тиеш “,- дигән фикерне әйтә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t-RU" sz="3200" spc="-1" strike="noStrike">
                <a:solidFill>
                  <a:srgbClr val="ff0000"/>
                </a:solidFill>
                <a:latin typeface="Times New Roman"/>
              </a:rPr>
              <a:t>Ясная  Поляна мәктәбе бинас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2752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V="1">
            <a:off x="457200" y="5187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4076280"/>
            <a:ext cx="858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19 нчы гасыр уртасында Россиядә мәктәпләр бик аз була.Авыл халкы  укый- яза белми. 1859 нчы елда Л.Н. Толстой крестьян балалары өчен  үз утарында мәктәп ача.Мәктәптә уку түләүсез  була һәм  физик җәзалау ты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962520" cy="2773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5048280"/>
            <a:ext cx="2428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Л. Н. Толстой мәктәб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81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533520" y="5332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029200"/>
            <a:ext cx="403884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Times New Roman"/>
              </a:rPr>
              <a:t>Толстой мәктәпләре үрнәгендә  крестьяннар,  балаларны физик яктан кыерсытмый торган мәктәп булу мөмкинлегенә ышаналар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Толстой мәктәбенең  бурычы булып, балаларны мөстәкыйль һәм   иҗади яктан үстерү торган. Толстой баланың эчке дөньясын, аның кызыксынуларын  һәм теләкләрен өйрәнү мәҗбүри булырга тиеш дип саны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724280" y="3613320"/>
            <a:ext cx="4267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Халык  мәктәб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Ирекле- көчләүсез үзара мөнәсәбәтләр, балаларның мөстәкыйльлеге һәм иҗадилыгы, Толстой методикасы буенча грамотага  2 айда ирешү дә - мәктәпнең данын үстерә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335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Л.Н.Толстой дәреслеклә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 нчы гасырда  балалар өчен китаплар бик аз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өтен дөньяга танылган рус язучысы Л.Н. Толстой 1872 нче ел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 Азбука» дәреслеген басты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а ул иң яхшы әкиятләрне, мәкальләрне, әйтемнәрне тупл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724280" y="3871800"/>
            <a:ext cx="39625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Arial"/>
              </a:rPr>
              <a:t>Л. Н. Толстойның педагогик карашла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Л. Н. Толстой үз вакытында төрле методлар кулланган. Аларның кайберләренә тукталыйк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1.Укытуда күрсәтмәлелек мет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2.Сөйләү мет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3.Кыенлык тудыру алы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4.Укучыга шәхси якын килү алы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5. Эмоциональ тәэсир  итү мет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6.Сочинение белән эш алы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Үз доктринасының үзәгенә бала шәхесен куеп,түбәндәге принципларны күрсәтә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1. Аңлылык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2. Укытуның активлыгы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3. Үтемлелек принци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4. Укытуны тормыш белән бәйләү принцибы һ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Толстой методика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3163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484236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Толстой баланың эчке дөньясын, аның кызыксынуларын  һәм теләкләрен өйрәнү мәҗбүри булырга тиеш дип саны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Мәктәптә укучылар 3 класска бүленгән: кечкенә,урта, өлкән.Өй эшләре бирелмәгән. Бар эш тә дәрестә эшләнгән,төп укыту методы булып - укытучының тере сүз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(  аңлату- сөйләү) булга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Балаларны уку белән куркытмаганнар. Укытучы аларны  хөрмәт иткән. Шуңа күрә мәктәптә  балаларга күңелле һәм рәхәт булг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2:16:27Z</dcterms:created>
  <dc:creator>HOME</dc:creator>
  <dc:description/>
  <dc:language>en-US</dc:language>
  <cp:lastModifiedBy>Microsoft Office</cp:lastModifiedBy>
  <dcterms:modified xsi:type="dcterms:W3CDTF">2018-12-03T21:46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