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6.png" ContentType="image/pn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0ECA6-9205-4B1A-A8DF-0F4EC1F21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311BF-9FAC-490D-89AA-4630CE3D3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31BCC-9E48-4FA0-8B45-2F9EFF29F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5C631-6436-427D-9184-538D48BC1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551E3-F6D7-47DB-80E6-A04A22FD3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8B879-A2CA-4637-B44D-83D6D8FEB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B0AF4-94A6-4AF1-9E0C-EC3E02CFE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435FE-C304-4A8C-9B12-638EEF64A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E5C03-6FA8-4B73-BD1E-0FA0ABEE5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EB75D-C12A-44B6-BEB6-87AD8F8AA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CEC04-8BA2-4C5C-A57D-8A1D9AE49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7DAD5-C205-4339-86A8-E2EB23E26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2E8BB-A39E-4FBB-869D-4FFF097EB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CDB07-6C7F-495C-B178-2E0A1E827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3C88D-9FE4-4F4F-B955-7FFD5886F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80E80-8234-4539-B9FA-05224BC13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C5D4B-ECBE-4FD2-A328-9B962A3D8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852FC-F3FC-4417-8FD8-2AEE39A34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F2BB3-F7F9-4826-8759-8F16919F0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B1769-A1C0-434D-B2AF-BDA2ADE9B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A3549-536E-4F7D-94EE-665ED08EF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14E2C-5905-4D7A-BF55-392C373DF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5ABBC-5FB3-47DB-B921-3E65BCF2A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FC49A-CD38-4C17-9881-398A7D783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DFD7C-C699-481A-AB7C-5DF4F4C5D23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F0162-CD32-4478-869B-885AC344DCB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png"/><Relationship Id="rId7" Type="http://schemas.openxmlformats.org/officeDocument/2006/relationships/image" Target="../media/image22.jpeg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wikiwand.com/tt/&#1052;&#1241;&#1075;&#1098;&#1088;&#1080;&#1092;&#1241;&#1090;&#1095;&#1077;&#1083;&#1077;&#1082;" TargetMode="External"/><Relationship Id="rId2" Type="http://schemas.openxmlformats.org/officeDocument/2006/relationships/hyperlink" Target="http://www.wikiwand.com/tt/&#1060;&#1241;&#1083;&#1089;&#1241;&#1092;&#1241;&#1095;&#1077;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848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tt-RU" sz="3200" spc="-1" strike="noStrike">
                <a:solidFill>
                  <a:srgbClr val="ff0000"/>
                </a:solidFill>
                <a:latin typeface="Times New Roman"/>
              </a:rPr>
              <a:t>Тема:  “Лев  Николаевич  Толстойның   педагогика  өлкәсендәге  эшчәнлеге”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086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tt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80880" y="1601640"/>
            <a:ext cx="7848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tt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57200" y="1450440"/>
            <a:ext cx="815328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800" spc="-1" strike="noStrike">
                <a:solidFill>
                  <a:srgbClr val="ffffff"/>
                </a:solidFill>
                <a:latin typeface="Arial"/>
              </a:rPr>
              <a:t>   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85800" y="1447920"/>
            <a:ext cx="7543800" cy="416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400" spc="-1" strike="noStrike">
                <a:solidFill>
                  <a:srgbClr val="ff0000"/>
                </a:solidFill>
                <a:latin typeface="Times New Roman"/>
              </a:rPr>
              <a:t>Максат:</a:t>
            </a:r>
            <a:r>
              <a:rPr b="1" lang="tt-RU" sz="24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1" i="1" lang="tt-RU" sz="2400" spc="-1" strike="noStrike">
                <a:solidFill>
                  <a:srgbClr val="ccecff"/>
                </a:solidFill>
                <a:latin typeface="Times New Roman"/>
              </a:rPr>
              <a:t>Л.Н. Толстойның</a:t>
            </a:r>
            <a:r>
              <a:rPr b="1" i="1" lang="tt-RU" sz="1800" spc="-1" strike="noStrike">
                <a:solidFill>
                  <a:srgbClr val="ccecff"/>
                </a:solidFill>
                <a:latin typeface="Times New Roman"/>
              </a:rPr>
              <a:t> педагогик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1800" spc="-1" strike="noStrike">
                <a:solidFill>
                  <a:srgbClr val="ccecff"/>
                </a:solidFill>
                <a:latin typeface="Times New Roman"/>
              </a:rPr>
              <a:t>эшчәнлеген өйрәнү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1800" spc="-1" strike="noStrike">
                <a:solidFill>
                  <a:srgbClr val="ccecff"/>
                </a:solidFill>
                <a:latin typeface="Times New Roman"/>
              </a:rPr>
              <a:t>Педагогик  карашларын һәм фикерләрен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1800" spc="-1" strike="noStrike">
                <a:solidFill>
                  <a:srgbClr val="ccecff"/>
                </a:solidFill>
                <a:latin typeface="Times New Roman"/>
              </a:rPr>
              <a:t>педагог эшчәнлеге буларак күзәтү</a:t>
            </a:r>
            <a:r>
              <a:rPr b="0" i="1" lang="ru-RU" sz="1800" spc="-1" strike="noStrike">
                <a:solidFill>
                  <a:srgbClr val="ccecff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tt-RU" sz="1800" spc="-1" strike="noStrike">
                <a:solidFill>
                  <a:srgbClr val="ff0000"/>
                </a:solidFill>
                <a:latin typeface="Arial"/>
              </a:rPr>
              <a:t>Бурычлар:</a:t>
            </a:r>
            <a:r>
              <a:rPr b="1" i="1" lang="tt-RU" sz="1800" spc="-1" strike="noStrike">
                <a:solidFill>
                  <a:srgbClr val="ffffff"/>
                </a:solidFill>
                <a:latin typeface="Arial"/>
              </a:rPr>
              <a:t> Л. Н. Толстой мәктәб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1800" spc="-1" strike="noStrike">
                <a:solidFill>
                  <a:srgbClr val="ffffff"/>
                </a:solidFill>
                <a:latin typeface="Arial"/>
              </a:rPr>
              <a:t>эшчәнлегендәге метод һәм алымнарны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1800" spc="-1" strike="noStrike">
                <a:solidFill>
                  <a:srgbClr val="ffffff"/>
                </a:solidFill>
                <a:latin typeface="Arial"/>
              </a:rPr>
              <a:t>өйрәнү һәм анализла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1800" spc="-1" strike="noStrike">
                <a:solidFill>
                  <a:srgbClr val="ff0000"/>
                </a:solidFill>
                <a:latin typeface="Arial"/>
              </a:rPr>
              <a:t>Тикшеренү объекты :</a:t>
            </a:r>
            <a:r>
              <a:rPr b="1" i="1" lang="tt-RU" sz="1800" spc="-1" strike="noStrike">
                <a:solidFill>
                  <a:srgbClr val="ffffff"/>
                </a:solidFill>
                <a:latin typeface="Arial"/>
              </a:rPr>
              <a:t> Л. Н. Толстойның  халык мәктәб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1800" spc="-1" strike="noStrike">
                <a:solidFill>
                  <a:srgbClr val="ff0000"/>
                </a:solidFill>
                <a:latin typeface="Arial"/>
              </a:rPr>
              <a:t>Башкаручы:</a:t>
            </a:r>
            <a:r>
              <a:rPr b="1" i="1" lang="tt-RU" sz="1800" spc="-1" strike="noStrike">
                <a:solidFill>
                  <a:srgbClr val="ffffff"/>
                </a:solidFill>
                <a:latin typeface="Arial"/>
              </a:rPr>
              <a:t> Әгерҗе шәһәре 4 урта гомуми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1800" spc="-1" strike="noStrike">
                <a:solidFill>
                  <a:srgbClr val="ffffff"/>
                </a:solidFill>
                <a:latin typeface="Arial"/>
              </a:rPr>
              <a:t>белем бирү мәктәбенең туган тел һәм әдәбият укытучысы Ногманова Миләүшә Сәлим кыз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6019920" y="1219320"/>
            <a:ext cx="2895480" cy="2133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400" spc="-1" strike="noStrike">
                <a:solidFill>
                  <a:srgbClr val="ff0000"/>
                </a:solidFill>
                <a:latin typeface="Times New Roman"/>
              </a:rPr>
              <a:t>Л.Н. Толстой балалар белән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3520" y="1219320"/>
            <a:ext cx="3787560" cy="487656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4419720" y="3124080"/>
            <a:ext cx="4343400" cy="293220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4724280" y="5180040"/>
            <a:ext cx="419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019920" y="32464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495680" y="1143000"/>
            <a:ext cx="4343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tt-RU" sz="1800" spc="-1" strike="noStrike">
                <a:solidFill>
                  <a:srgbClr val="ffffff"/>
                </a:solidFill>
                <a:latin typeface="Arial"/>
              </a:rPr>
              <a:t>Л.Н. Толстой  балаларны яраткан,алар дөньясын аңлаган,укучылары белән  табигатьтә ял иткән 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t-RU" sz="1800" spc="-1" strike="noStrike">
                <a:solidFill>
                  <a:srgbClr val="ffffff"/>
                </a:solidFill>
                <a:latin typeface="Arial"/>
              </a:rPr>
              <a:t>Аларга кызыклы хәлләр сөйләгән, төрле уеннар өйрәткән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Л.Н. Толстой – публицист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ffffff"/>
                </a:solidFill>
                <a:latin typeface="Arial"/>
              </a:rPr>
              <a:t>Ул үз карашларын  төрле елларда чыккан “ Тәрбия һәм мәгариф “, “Халык мәгарифе”,”Тәрбия турында”, “ Ясная Поляна”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журналында</a:t>
            </a:r>
            <a:r>
              <a:rPr b="0" lang="tt-RU" sz="2800" spc="-1" strike="noStrike">
                <a:solidFill>
                  <a:srgbClr val="ffffff"/>
                </a:solidFill>
                <a:latin typeface="Arial"/>
              </a:rPr>
              <a:t> һәм башка мәкаләләрендә ачып бирә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777960" y="1600200"/>
            <a:ext cx="33973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400" spc="-1" strike="noStrike">
                <a:solidFill>
                  <a:srgbClr val="ff0000"/>
                </a:solidFill>
                <a:latin typeface="Times New Roman"/>
              </a:rPr>
              <a:t>Педагогика турынд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270000" y="1143000"/>
            <a:ext cx="2473200" cy="301932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2"/>
          <a:stretch/>
        </p:blipFill>
        <p:spPr>
          <a:xfrm>
            <a:off x="3352680" y="1295280"/>
            <a:ext cx="1905120" cy="259092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3"/>
          <a:stretch/>
        </p:blipFill>
        <p:spPr>
          <a:xfrm>
            <a:off x="6019920" y="1219320"/>
            <a:ext cx="1846080" cy="266688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4"/>
          <a:stretch/>
        </p:blipFill>
        <p:spPr>
          <a:xfrm>
            <a:off x="3048120" y="3962520"/>
            <a:ext cx="1801800" cy="263844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5"/>
          <a:stretch/>
        </p:blipFill>
        <p:spPr>
          <a:xfrm>
            <a:off x="685800" y="4114800"/>
            <a:ext cx="1752480" cy="251460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6"/>
          <a:stretch/>
        </p:blipFill>
        <p:spPr>
          <a:xfrm>
            <a:off x="-4267080" y="419112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7"/>
          <a:stretch/>
        </p:blipFill>
        <p:spPr>
          <a:xfrm>
            <a:off x="5486400" y="3962520"/>
            <a:ext cx="2971800" cy="26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400" spc="-1" strike="noStrike">
                <a:solidFill>
                  <a:srgbClr val="ff0000"/>
                </a:solidFill>
                <a:latin typeface="Times New Roman"/>
              </a:rPr>
              <a:t>Л.Н. Толстой балаларг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703440" y="1600200"/>
            <a:ext cx="3544560" cy="452592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2"/>
          <a:stretch/>
        </p:blipFill>
        <p:spPr>
          <a:xfrm>
            <a:off x="4952880" y="1600200"/>
            <a:ext cx="3505320" cy="358128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/>
          <p:nvPr/>
        </p:nvSpPr>
        <p:spPr>
          <a:xfrm>
            <a:off x="4724280" y="5397120"/>
            <a:ext cx="3810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800" spc="-1" strike="noStrike">
                <a:solidFill>
                  <a:srgbClr val="ffffff"/>
                </a:solidFill>
                <a:latin typeface="Times New Roman"/>
              </a:rPr>
              <a:t>Балалар өчен Л.Н. Толстой  төрле  жанрда 629 әсәр иҗат итә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400" spc="-1" strike="noStrike">
                <a:solidFill>
                  <a:srgbClr val="ff0000"/>
                </a:solidFill>
                <a:latin typeface="Times New Roman"/>
              </a:rPr>
              <a:t>Нәтиҗә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600" spc="-1" strike="noStrike">
                <a:solidFill>
                  <a:srgbClr val="ffffff"/>
                </a:solidFill>
                <a:latin typeface="Times New Roman"/>
              </a:rPr>
              <a:t>1.1859 нчы елда Л.Н. Толстой үз утарында крестьян балалары өчен мәктәп ача. Мәктәптә уку түләүсез була һәм алар физик җәзага тартылмый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tt-RU" sz="1600" spc="-1" strike="noStrike">
                <a:solidFill>
                  <a:srgbClr val="ffffff"/>
                </a:solidFill>
                <a:latin typeface="Times New Roman"/>
              </a:rPr>
              <a:t>2.Л. Н. Толстой Ясная Поляна мәктәбендә үз методикасы буенча эксперимент үткәрә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600" spc="-1" strike="noStrike">
                <a:solidFill>
                  <a:srgbClr val="ffffff"/>
                </a:solidFill>
                <a:latin typeface="Times New Roman"/>
              </a:rPr>
              <a:t>3. Халык мәктәбендә укучы шәхесе хөрмәт ителә, аның кызыксынулары игътибарга алына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600" spc="-1" strike="noStrike">
                <a:solidFill>
                  <a:srgbClr val="ffffff"/>
                </a:solidFill>
                <a:latin typeface="Times New Roman"/>
              </a:rPr>
              <a:t>4.Ул мәктәп активлык, мөстәкыйльлек, иҗадилык принципларына нигезләнеп төзелә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tt-RU" sz="1600" spc="-1" strike="noStrike">
                <a:solidFill>
                  <a:srgbClr val="ffffff"/>
                </a:solidFill>
                <a:latin typeface="Times New Roman"/>
              </a:rPr>
              <a:t>5. Укучыларга билгеләр куелмый.  Өй эшләре бирелм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1"/>
          <a:stretch/>
        </p:blipFill>
        <p:spPr>
          <a:xfrm>
            <a:off x="762120" y="1447920"/>
            <a:ext cx="36986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000" spc="-1" strike="noStrike">
                <a:solidFill>
                  <a:srgbClr val="ccecff"/>
                </a:solidFill>
                <a:latin typeface="Arial"/>
              </a:rPr>
              <a:t>Лев Толстой -бик кызыклы шәхес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400" spc="-1" strike="noStrike">
                <a:solidFill>
                  <a:srgbClr val="ffffff"/>
                </a:solidFill>
                <a:latin typeface="Arial"/>
              </a:rPr>
              <a:t>Л. Н. Толстой – бөек рус язучысы , бөтен гомерен балаларга, педагогикага, белемгә багышлаган  фикер ияләренең иң күренеклес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 u="sng">
                <a:solidFill>
                  <a:srgbClr val="99ff99"/>
                </a:solidFill>
                <a:uFillTx/>
                <a:latin typeface="Arial"/>
                <a:hlinkClick r:id="rId1"/>
              </a:rPr>
              <a:t>Мәгърифәтче</a:t>
            </a:r>
            <a:r>
              <a:rPr b="1" lang="tt-RU" sz="2400" spc="-1" strike="noStrike">
                <a:solidFill>
                  <a:srgbClr val="ffffff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400" spc="-1" strike="noStrike">
                <a:solidFill>
                  <a:srgbClr val="ffffff"/>
                </a:solidFill>
                <a:latin typeface="Arial"/>
              </a:rPr>
              <a:t>публицист,</a:t>
            </a:r>
            <a:r>
              <a:rPr b="0" lang="tt-RU" sz="2400" spc="-1" strike="noStrike" u="sng">
                <a:solidFill>
                  <a:srgbClr val="99ff99"/>
                </a:solidFill>
                <a:uFillTx/>
                <a:latin typeface="Arial"/>
                <a:hlinkClick r:id="rId2"/>
              </a:rPr>
              <a:t>фәлсәфәче</a:t>
            </a:r>
            <a:r>
              <a:rPr b="1" lang="tt-RU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914400" y="1752480"/>
            <a:ext cx="3514680" cy="387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0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tt-RU" sz="4000" spc="-1" strike="noStrike">
                <a:solidFill>
                  <a:srgbClr val="ccecff"/>
                </a:solidFill>
                <a:latin typeface="Arial"/>
              </a:rPr>
              <a:t>Л. Н. Толстойның педагогик концепциясе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648320" y="1599840"/>
            <a:ext cx="4038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400" spc="-1" strike="noStrike">
                <a:solidFill>
                  <a:srgbClr val="ffffff"/>
                </a:solidFill>
                <a:latin typeface="Times New Roman"/>
              </a:rPr>
              <a:t>“ </a:t>
            </a:r>
            <a:r>
              <a:rPr b="1" lang="tt-RU" sz="2400" spc="-1" strike="noStrike">
                <a:solidFill>
                  <a:srgbClr val="ffffff"/>
                </a:solidFill>
                <a:latin typeface="Times New Roman"/>
              </a:rPr>
              <a:t>Халык мәгарифе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400" spc="-1" strike="noStrike">
                <a:solidFill>
                  <a:srgbClr val="ffffff"/>
                </a:solidFill>
                <a:latin typeface="Times New Roman"/>
              </a:rPr>
              <a:t>мәкаләсендә : “Земство да, министерство да түгел , ә крестьяннар үзләре укытучыны сайларга, мәктәп  төзү эшләрен дә үзләре хәл итәргә  тиешләр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400" spc="-1" strike="noStrike">
                <a:solidFill>
                  <a:srgbClr val="ffffff"/>
                </a:solidFill>
                <a:latin typeface="Times New Roman"/>
              </a:rPr>
              <a:t>Земство педагогик яктагы эшчәнлекне  тикшереп торырга тиеш “,- дигән фикерне әйтә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52320" y="1600200"/>
            <a:ext cx="36482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tt-RU" sz="3200" spc="-1" strike="noStrike">
                <a:solidFill>
                  <a:srgbClr val="ff0000"/>
                </a:solidFill>
                <a:latin typeface="Times New Roman"/>
              </a:rPr>
              <a:t>Ясная  Поляна мәктәбе бинасы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228600" y="1143000"/>
            <a:ext cx="4572000" cy="275256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 flipV="1">
            <a:off x="457200" y="5187600"/>
            <a:ext cx="80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28600" y="4076280"/>
            <a:ext cx="8583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t-RU" sz="1800" spc="-1" strike="noStrike">
                <a:solidFill>
                  <a:srgbClr val="ffffff"/>
                </a:solidFill>
                <a:latin typeface="Times New Roman"/>
              </a:rPr>
              <a:t>19 нчы гасыр уртасында Россиядә мәктәпләр бик аз була.Авыл халкы  укый- яза белми. 1859 нчы елда Л.Н. Толстой крестьян балалары өчен  үз утарында мәктәп ача.Мәктәптә уку түләүсез  була һәм  физик җәзалау тыел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4952880" y="1143000"/>
            <a:ext cx="3962520" cy="277344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3"/>
          <a:stretch/>
        </p:blipFill>
        <p:spPr>
          <a:xfrm>
            <a:off x="3276720" y="5048280"/>
            <a:ext cx="2428920" cy="18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000" spc="-1" strike="noStrike">
                <a:solidFill>
                  <a:srgbClr val="ff0000"/>
                </a:solidFill>
                <a:latin typeface="Arial"/>
              </a:rPr>
              <a:t>Л. Н. Толстой мәктәбе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380880" y="1581120"/>
            <a:ext cx="3962520" cy="29718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 flipV="1">
            <a:off x="533520" y="533268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80880" y="5029200"/>
            <a:ext cx="4038840" cy="139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600" spc="-1" strike="noStrike">
                <a:solidFill>
                  <a:srgbClr val="ffffff"/>
                </a:solidFill>
                <a:latin typeface="Times New Roman"/>
              </a:rPr>
              <a:t>Толстой мәктәпләре үрнәгендә  крестьяннар,  балаларны физик яктан кыерсытмый торган мәктәп булу мөмкинлегенә ышаналар.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648320" y="1600200"/>
            <a:ext cx="39621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800" spc="-1" strike="noStrike">
                <a:solidFill>
                  <a:srgbClr val="ffffff"/>
                </a:solidFill>
                <a:latin typeface="Arial"/>
              </a:rPr>
              <a:t>Толстой мәктәбенең  бурычы булып, балаларны мөстәкыйль һәм   иҗади яктан үстерү торган. Толстой баланың эчке дөньясын, аның кызыксынуларын  һәм теләкләрен өйрәнү мәҗбүри булырга тиеш дип саный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4724280" y="3613320"/>
            <a:ext cx="4267440" cy="24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400" spc="-1" strike="noStrike">
                <a:solidFill>
                  <a:srgbClr val="ff0000"/>
                </a:solidFill>
                <a:latin typeface="Times New Roman"/>
              </a:rPr>
              <a:t>Халык  мәктәбе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tt-RU" sz="2400" spc="-1" strike="noStrike">
                <a:solidFill>
                  <a:srgbClr val="ffffff"/>
                </a:solidFill>
                <a:latin typeface="Times New Roman"/>
              </a:rPr>
              <a:t>Ирекле- көчләүсез үзара мөнәсәбәтләр, балаларның мөстәкыйльлеге һәм иҗадилыгы, Толстой методикасы буенча грамотага  2 айда ирешү дә - мәктәпнең данын үстерә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457200" y="1447920"/>
            <a:ext cx="433548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400" spc="-1" strike="noStrike">
                <a:solidFill>
                  <a:srgbClr val="ff0000"/>
                </a:solidFill>
                <a:latin typeface="Times New Roman"/>
              </a:rPr>
              <a:t>Л.Н.Толстой дәреслекләре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9 нчы гасырда  балалар өчен китаплар бик аз бул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Бөтен дөньяга танылган рус язучысы Л.Н. Толстой 1872 нче елд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« Азбука» дәреслеген бастыр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Анда ул иң яхшы әкиятләрне, мәкальләрне, әйтемнәрне туплы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4800600" y="1600200"/>
            <a:ext cx="3886200" cy="218592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4724280" y="3871800"/>
            <a:ext cx="3962520" cy="22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000" spc="-1" strike="noStrike">
                <a:solidFill>
                  <a:srgbClr val="ff0000"/>
                </a:solidFill>
                <a:latin typeface="Arial"/>
              </a:rPr>
              <a:t>Л. Н. Толстойның педагогик карашлары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800" spc="-1" strike="noStrike">
                <a:solidFill>
                  <a:srgbClr val="ffffff"/>
                </a:solidFill>
                <a:latin typeface="Arial"/>
              </a:rPr>
              <a:t>Л. Н. Толстой үз вакытында төрле методлар кулланган. Аларның кайберләренә тукталыйк: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800" spc="-1" strike="noStrike">
                <a:solidFill>
                  <a:srgbClr val="ffffff"/>
                </a:solidFill>
                <a:latin typeface="Arial"/>
              </a:rPr>
              <a:t>1.Укытуда күрсәтмәлелек методы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800" spc="-1" strike="noStrike">
                <a:solidFill>
                  <a:srgbClr val="ffffff"/>
                </a:solidFill>
                <a:latin typeface="Arial"/>
              </a:rPr>
              <a:t>2.Сөйләү методы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800" spc="-1" strike="noStrike">
                <a:solidFill>
                  <a:srgbClr val="ffffff"/>
                </a:solidFill>
                <a:latin typeface="Arial"/>
              </a:rPr>
              <a:t>3.Кыенлык тудыру алымы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t-RU" sz="1800" spc="-1" strike="noStrike">
                <a:solidFill>
                  <a:srgbClr val="ffffff"/>
                </a:solidFill>
                <a:latin typeface="Arial"/>
              </a:rPr>
              <a:t>4.Укучыга шәхси якын килү алымы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t-RU" sz="1800" spc="-1" strike="noStrike">
                <a:solidFill>
                  <a:srgbClr val="ffffff"/>
                </a:solidFill>
                <a:latin typeface="Arial"/>
              </a:rPr>
              <a:t>5. Эмоциональ тәэсир  итү методы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800" spc="-1" strike="noStrike">
                <a:solidFill>
                  <a:srgbClr val="ffffff"/>
                </a:solidFill>
                <a:latin typeface="Arial"/>
              </a:rPr>
              <a:t>6.Сочинение белән эш алым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ffffff"/>
                </a:solidFill>
                <a:latin typeface="Arial"/>
              </a:rPr>
              <a:t>Үз доктринасының үзәгенә бала шәхесен куеп,түбәндәге принципларны күрсәтә 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t-RU" sz="2000" spc="-1" strike="noStrike">
                <a:solidFill>
                  <a:srgbClr val="ffffff"/>
                </a:solidFill>
                <a:latin typeface="Arial"/>
              </a:rPr>
              <a:t>1. Аңлылык принциб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t-RU" sz="2000" spc="-1" strike="noStrike">
                <a:solidFill>
                  <a:srgbClr val="ffffff"/>
                </a:solidFill>
                <a:latin typeface="Arial"/>
              </a:rPr>
              <a:t>2. Укытуның активлыгы принциб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ffffff"/>
                </a:solidFill>
                <a:latin typeface="Arial"/>
              </a:rPr>
              <a:t>3. Үтемлелек принциб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t-RU" sz="2000" spc="-1" strike="noStrike">
                <a:solidFill>
                  <a:srgbClr val="ffffff"/>
                </a:solidFill>
                <a:latin typeface="Arial"/>
              </a:rPr>
              <a:t>4. Укытуны тормыш белән бәйләү принцибы һ.б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400" spc="-1" strike="noStrike">
                <a:solidFill>
                  <a:srgbClr val="ff0000"/>
                </a:solidFill>
                <a:latin typeface="Times New Roman"/>
              </a:rPr>
              <a:t>Толстой методикасы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457200" y="1447920"/>
            <a:ext cx="4038480" cy="316368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>
            <a:off x="457200" y="484236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ffffff"/>
                </a:solidFill>
                <a:latin typeface="Times New Roman"/>
              </a:rPr>
              <a:t>Толстой баланың эчке дөньясын, аның кызыксынуларын  һәм теләкләрен өйрәнү мәҗбүри булырга тиеш дип саный.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ffffff"/>
                </a:solidFill>
                <a:latin typeface="Arial"/>
              </a:rPr>
              <a:t>Мәктәптә укучылар 3 класска бүленгән: кечкенә,урта, өлкән.Өй эшләре бирелмәгән. Бар эш тә дәрестә эшләнгән,төп укыту методы булып - укытучының тере сүз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t-RU" sz="2000" spc="-1" strike="noStrike">
                <a:solidFill>
                  <a:srgbClr val="ffffff"/>
                </a:solidFill>
                <a:latin typeface="Arial"/>
              </a:rPr>
              <a:t>(  аңлату- сөйләү) булган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ffffff"/>
                </a:solidFill>
                <a:latin typeface="Arial"/>
              </a:rPr>
              <a:t>Балаларны уку белән куркытмаганнар. Укытучы аларны  хөрмәт иткән. Шуңа күрә мәктәптә  балаларга күңелле һәм рәхәт булган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2-02T12:16:27Z</dcterms:created>
  <dc:creator>HOME</dc:creator>
  <dc:description/>
  <dc:language>en-US</dc:language>
  <cp:lastModifiedBy>Microsoft Office</cp:lastModifiedBy>
  <dcterms:modified xsi:type="dcterms:W3CDTF">2018-12-03T21:46:4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