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201-59D3-422C-B6CC-964E8B34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9BC-E7F3-4810-B501-1429D043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588-5421-48E2-B0C7-D74A8FF5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F81-6F4C-4937-98E5-BADB7BFF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E30C-2330-41E8-8305-5B4CD2C0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88FA-5510-4A46-8509-CA97FC97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F5D2-B6C0-44A1-8B49-C943AB7A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10FC-4290-471C-880C-13FB155E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22CF-DA4F-4FCE-A059-68EECFE0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E2B9-7702-417D-97BA-D49B743C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93F2-0B7F-43E2-B3FE-88047DE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C56-4B22-42C0-9253-B4DCE206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8478-8D9A-4D60-8497-F1807D6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BADC-6635-4246-8001-D2CEA798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1E02-8476-41B6-8A93-C464DAB7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E454-276D-4FAB-8485-F752485C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3588-D769-4E33-B99B-EF1F127A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942-523D-4FE1-8F71-C8CDA3DD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EF9-6538-44A5-9228-0BC00823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6B3-3594-467B-9EF8-30AF64A8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FE5-6BF0-4A78-9B60-811BF8C0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CB6-E2DF-4B04-AE9C-7E9AC10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3BA-7306-4A8F-AAFD-91880A23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A15-D14E-462A-BA1D-5653D364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968B-341B-4C83-BEB9-354A84C26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AE92-CF94-4FE2-8889-44B665BE1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7724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МБДОУ №10 детский сад «Звездочка»</a:t>
            </a:r>
            <a:br>
              <a:rPr sz="16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Проект 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«Я-маленький пешеход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                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Группа раннего возраста      «Полянка»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      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85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900c"/>
                </a:solidFill>
                <a:latin typeface="Arial"/>
                <a:ea typeface="Arial"/>
              </a:rPr>
              <a:t>Игровая деятельность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85920" y="142848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User\Desktop\детский сад\IMG_9062.JPG"/>
          <p:cNvPicPr/>
          <p:nvPr/>
        </p:nvPicPr>
        <p:blipFill>
          <a:blip r:embed="rId2"/>
          <a:stretch/>
        </p:blipFill>
        <p:spPr>
          <a:xfrm>
            <a:off x="428760" y="981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Users\User\Desktop\детский сад\IMG_9023.JPG"/>
          <p:cNvPicPr/>
          <p:nvPr/>
        </p:nvPicPr>
        <p:blipFill>
          <a:blip r:embed="rId3"/>
          <a:stretch/>
        </p:blipFill>
        <p:spPr>
          <a:xfrm>
            <a:off x="5003640" y="981000"/>
            <a:ext cx="3640320" cy="272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Users\User\Desktop\детский сад\IMG_9028.JPG"/>
          <p:cNvPicPr/>
          <p:nvPr/>
        </p:nvPicPr>
        <p:blipFill>
          <a:blip r:embed="rId4"/>
          <a:stretch/>
        </p:blipFill>
        <p:spPr>
          <a:xfrm>
            <a:off x="428760" y="39337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Users\User\Desktop\детский сад\IMG_9040.JPG"/>
          <p:cNvPicPr/>
          <p:nvPr/>
        </p:nvPicPr>
        <p:blipFill>
          <a:blip r:embed="rId5"/>
          <a:stretch/>
        </p:blipFill>
        <p:spPr>
          <a:xfrm>
            <a:off x="5003640" y="3968640"/>
            <a:ext cx="364032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15640" y="-360"/>
            <a:ext cx="781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жидаемые результаты по проект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хема 4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42560" y="928440"/>
            <a:ext cx="81010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42680" y="356760"/>
            <a:ext cx="70722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                 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Тип проек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         </a:t>
            </a: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информационно-позна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Участники проек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дети раннего возраста , воспитатели, родители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  <a:ea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Продолжительнос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долгосроч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16000" y="714240"/>
            <a:ext cx="7742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Все мы живем в обществе, где надо соблюдать определенные нормы и правила поведения в дорожно-транспортной обстановке. Зачастую виновниками дорожно-транспортных происшествий являются сами дети. Приводят к этому элементарное незнание основ правил дорожного движения и безучастное отношение взрослых к поведению детей на проезжей части. Вот почему с самого раннего возраста необходимо учить детей безопасному поведению на улицах, дорогах. В этом должны принимать участие и родители, и дошкольные учреждения. Проект раскрывает  актуальную проблему – формирование у детей дошкольного возраста основ безопасного поведения на улицах гор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00120" y="214200"/>
            <a:ext cx="7500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Цель проекта:</a:t>
            </a:r>
            <a:r>
              <a:rPr b="0" lang="ru-RU" sz="2800" spc="-1" strike="noStrike">
                <a:solidFill>
                  <a:srgbClr val="25900c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дать первичные знания о правилах поведения на дороге; познакомить с цветами светофора и пешеходным перехо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Arial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-для детей: познакомить со светофором и пешеходным переходом; формировать представления об улице; дать представление о  наземном транспор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-для педагогов:  создать условия в группе для знакомства детей с правилами дорожного движения; создать информационную базу для родителей по данной те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25900c"/>
                </a:solidFill>
                <a:latin typeface="Arial"/>
                <a:ea typeface="Arial"/>
              </a:rPr>
              <a:t>-для родителей: повышение компетентности родителей в вопросах касающихся ПД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857240" y="214200"/>
            <a:ext cx="70725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Основные направления реализации проект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Arial"/>
              </a:rPr>
              <a:t>   </a:t>
            </a: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Arial"/>
              </a:rPr>
              <a:t>- Работа с детьми         </a:t>
            </a:r>
            <a:r>
              <a:rPr b="0" lang="ru-RU" sz="3600" spc="-1" strike="noStrike">
                <a:solidFill>
                  <a:srgbClr val="25900c"/>
                </a:solidFill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Arial"/>
              </a:rPr>
              <a:t>                                                                          </a:t>
            </a: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Arial"/>
              </a:rPr>
              <a:t>- Работа с родител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57200" y="-360"/>
            <a:ext cx="77868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900c"/>
                </a:solidFill>
                <a:latin typeface="Arial"/>
                <a:ea typeface="Arial"/>
              </a:rPr>
              <a:t>Работа с деть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900c"/>
                </a:solidFill>
                <a:latin typeface="Arial"/>
                <a:ea typeface="SimSun"/>
              </a:rPr>
              <a:t>Познавательная деятель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900c"/>
                </a:solidFill>
                <a:latin typeface="Arial"/>
                <a:ea typeface="SimSun"/>
              </a:rPr>
              <a:t>по обучению детей ПД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Тематические занятия (НО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46c0a"/>
              </a:buClr>
              <a:buSzPct val="4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46c0a"/>
              </a:buClr>
              <a:buSzPct val="4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Знакомство с наземным транспор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Чте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по 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Рассматривание картин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Наблюдение за транспор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SimSun"/>
              </a:rPr>
              <a:t>- Бесе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58560" y="189000"/>
            <a:ext cx="75992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SimSun"/>
              </a:rPr>
              <a:t>Игровая деятельн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900c"/>
                </a:solidFill>
                <a:latin typeface="Arial"/>
                <a:ea typeface="SimSun"/>
              </a:rPr>
              <a:t>по обучению детей ПД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46c0a"/>
                </a:solidFill>
                <a:latin typeface="Arial"/>
                <a:ea typeface="SimSun"/>
              </a:rPr>
              <a:t>Сюжетно-ролевые игр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SimSun"/>
              </a:rPr>
              <a:t>«Автобус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Мы - водители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Пешеходы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46c0a"/>
                </a:solidFill>
                <a:latin typeface="Arial"/>
                <a:ea typeface="SimSun"/>
              </a:rPr>
              <a:t>Дидактические игр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Собери машину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Разрезные машины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Светофор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Парные картинк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46c0a"/>
                </a:solidFill>
                <a:latin typeface="Arial"/>
                <a:ea typeface="SimSun"/>
              </a:rPr>
              <a:t>Подвижная игр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Путешествуем на машине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Воробышки и автомобиль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Цветные автомобили»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Водители»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  <a:ea typeface="Arial"/>
              </a:rPr>
              <a:t>«Красный, зеленый, желтый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2784600" cy="208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User\Desktop\детский сад\IMG_9038.JPG"/>
          <p:cNvPicPr/>
          <p:nvPr/>
        </p:nvPicPr>
        <p:blipFill>
          <a:blip r:embed="rId3"/>
          <a:stretch/>
        </p:blipFill>
        <p:spPr>
          <a:xfrm>
            <a:off x="5219640" y="364500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594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900c"/>
                </a:solidFill>
                <a:latin typeface="Arial"/>
                <a:ea typeface="Arial"/>
              </a:rPr>
              <a:t>Работа с родителям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85920" y="142848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- Проведение консульта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- Оформление папок – передвиж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- Бесе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- Памя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85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900c"/>
                </a:solidFill>
                <a:latin typeface="Arial"/>
                <a:ea typeface="Arial"/>
              </a:rPr>
              <a:t>Предметно-развивающая сре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85920" y="142848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C:\Users\User\Desktop\детский сад\IMG_9095.JPG"/>
          <p:cNvPicPr/>
          <p:nvPr/>
        </p:nvPicPr>
        <p:blipFill>
          <a:blip r:embed="rId2"/>
          <a:stretch/>
        </p:blipFill>
        <p:spPr>
          <a:xfrm>
            <a:off x="684360" y="134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User\Desktop\детский сад\DqoKS9ioBuQ.jpg"/>
          <p:cNvPicPr/>
          <p:nvPr/>
        </p:nvPicPr>
        <p:blipFill>
          <a:blip r:embed="rId3"/>
          <a:stretch/>
        </p:blipFill>
        <p:spPr>
          <a:xfrm>
            <a:off x="5219640" y="1335240"/>
            <a:ext cx="3641760" cy="259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Users\User\Desktop\детский сад\IMG_9008.JPG"/>
          <p:cNvPicPr/>
          <p:nvPr/>
        </p:nvPicPr>
        <p:blipFill>
          <a:blip r:embed="rId4"/>
          <a:stretch/>
        </p:blipFill>
        <p:spPr>
          <a:xfrm>
            <a:off x="752400" y="4221000"/>
            <a:ext cx="3387960" cy="248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Users\User\Desktop\детский сад\IMG_9030.JPG"/>
          <p:cNvPicPr/>
          <p:nvPr/>
        </p:nvPicPr>
        <p:blipFill>
          <a:blip r:embed="rId5"/>
          <a:stretch/>
        </p:blipFill>
        <p:spPr>
          <a:xfrm>
            <a:off x="5202360" y="4221000"/>
            <a:ext cx="3659040" cy="248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C:\Users\User\Desktop\детский сад\IMG_9056.JPG"/>
          <p:cNvPicPr/>
          <p:nvPr/>
        </p:nvPicPr>
        <p:blipFill>
          <a:blip r:embed="rId6"/>
          <a:stretch/>
        </p:blipFill>
        <p:spPr>
          <a:xfrm>
            <a:off x="3708360" y="120168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7"/>
          <a:stretch/>
        </p:blipFill>
        <p:spPr>
          <a:xfrm>
            <a:off x="1886040" y="3962520"/>
            <a:ext cx="364320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Пользователь</cp:lastModifiedBy>
  <dcterms:modified xsi:type="dcterms:W3CDTF">2017-01-10T06:48:23Z</dcterms:modified>
  <cp:revision>55</cp:revision>
  <dc:subject/>
  <dc:title>Слайд 1</dc:title>
</cp:coreProperties>
</file>