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D4F4-4B8C-46C5-8283-DCD08722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7A3C-F743-4923-A825-59B96E29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427-ECE5-4151-A2EC-05502E76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D37-3FEF-4CAB-916F-5127FB58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1284-70D1-4549-8D15-6BBF1590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92F0-BFDA-4DDD-B399-1E42A25B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3FBF-FF88-4597-80A3-CBA3E58E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8C8F-4BBE-4E31-B003-6DF2BCCA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FD41-D63C-4F10-9459-91931CBF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5247-DB79-40FC-9BE7-C09D2B48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2615-2828-4D43-850A-0F1965C2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2C03-0A22-47E2-BAE1-9429D420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AD3D-81F3-4F84-8E66-AD043FFA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13AF-2B81-4DF8-B193-D262D627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C5FD-5468-425A-9F4C-14C4B2C6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F0AF-4DAC-407C-9B80-B5C96FD1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31E0-F220-45A1-99B0-75ECE940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05CE-CAE4-4B55-96F9-7CC0DD33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61C2-FE70-4D06-8A4B-AD032EBE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D1AB-CE7A-43F3-AF3A-C6511547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30B-D4EB-45AB-BDC6-AD6CDD4C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0B94-9B63-4CA5-893A-72F37947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7C76-75CD-4B29-9B55-964009FD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F9E-04D8-4E6D-965D-5835637B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74C3-CEA8-440F-8EC9-CA8978ABF3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2CFE-5B1E-40AE-900E-9F3271BDF0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0080" y="571320"/>
            <a:ext cx="7772400" cy="578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МБДОУ №10 детский сад «Звездочка»</a:t>
            </a:r>
            <a:br>
              <a:rPr sz="16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Проект 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«Я-маленький пешеход»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                </a:t>
            </a: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Группа раннего возраста      «Полянка»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          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485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900c"/>
                </a:solidFill>
                <a:latin typeface="Arial"/>
                <a:ea typeface="Arial"/>
              </a:rPr>
              <a:t>Игровая деятельность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85920" y="1428480"/>
            <a:ext cx="7858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C:\Users\User\Desktop\детский сад\IMG_9062.JPG"/>
          <p:cNvPicPr/>
          <p:nvPr/>
        </p:nvPicPr>
        <p:blipFill>
          <a:blip r:embed="rId2"/>
          <a:stretch/>
        </p:blipFill>
        <p:spPr>
          <a:xfrm>
            <a:off x="428760" y="98100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:\Users\User\Desktop\детский сад\IMG_9023.JPG"/>
          <p:cNvPicPr/>
          <p:nvPr/>
        </p:nvPicPr>
        <p:blipFill>
          <a:blip r:embed="rId3"/>
          <a:stretch/>
        </p:blipFill>
        <p:spPr>
          <a:xfrm>
            <a:off x="5003640" y="981000"/>
            <a:ext cx="3640320" cy="2729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C:\Users\User\Desktop\детский сад\IMG_9028.JPG"/>
          <p:cNvPicPr/>
          <p:nvPr/>
        </p:nvPicPr>
        <p:blipFill>
          <a:blip r:embed="rId4"/>
          <a:stretch/>
        </p:blipFill>
        <p:spPr>
          <a:xfrm>
            <a:off x="428760" y="393372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C:\Users\User\Desktop\детский сад\IMG_9040.JPG"/>
          <p:cNvPicPr/>
          <p:nvPr/>
        </p:nvPicPr>
        <p:blipFill>
          <a:blip r:embed="rId5"/>
          <a:stretch/>
        </p:blipFill>
        <p:spPr>
          <a:xfrm>
            <a:off x="5003640" y="3968640"/>
            <a:ext cx="364032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115640" y="-360"/>
            <a:ext cx="7813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жидаемые результаты по проект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хема 4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042560" y="928440"/>
            <a:ext cx="81010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642680" y="356760"/>
            <a:ext cx="70722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Arial"/>
              </a:rPr>
              <a:t>                 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Arial"/>
              </a:rPr>
              <a:t>Тип проект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900c"/>
                </a:solidFill>
                <a:latin typeface="Arial"/>
                <a:ea typeface="Arial"/>
              </a:rPr>
              <a:t>         </a:t>
            </a:r>
            <a:r>
              <a:rPr b="0" lang="ru-RU" sz="2800" spc="-1" strike="noStrike">
                <a:solidFill>
                  <a:srgbClr val="25900c"/>
                </a:solidFill>
                <a:latin typeface="Arial"/>
                <a:ea typeface="Arial"/>
              </a:rPr>
              <a:t>информационно-познав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Arial"/>
              </a:rPr>
              <a:t>Участники проект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900c"/>
                </a:solidFill>
                <a:latin typeface="Arial"/>
                <a:ea typeface="Arial"/>
              </a:rPr>
              <a:t>дети раннего возраста , воспитатели, родители воспитан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  <a:ea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Arial"/>
              </a:rPr>
              <a:t>Продолжительнос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900c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25900c"/>
                </a:solidFill>
                <a:latin typeface="Arial"/>
                <a:ea typeface="Arial"/>
              </a:rPr>
              <a:t>долгосроч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16000" y="714240"/>
            <a:ext cx="7742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ru-RU" sz="1800" spc="-1" strike="noStrike">
                <a:solidFill>
                  <a:srgbClr val="e46c0a"/>
                </a:solidFill>
                <a:latin typeface="Arial"/>
                <a:ea typeface="Arial"/>
              </a:rPr>
              <a:t>Все мы живем в обществе, где надо соблюдать определенные нормы и правила поведения в дорожно-транспортной обстановке. Зачастую виновниками дорожно-транспортных происшествий являются сами дети. Приводят к этому элементарное незнание основ правил дорожного движения и безучастное отношение взрослых к поведению детей на проезжей части. Вот почему с самого раннего возраста необходимо учить детей безопасному поведению на улицах, дорогах. В этом должны принимать участие и родители, и дошкольные учреждения. Проект раскрывает  актуальную проблему – формирование у детей дошкольного возраста основ безопасного поведения на улицах гор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500120" y="214200"/>
            <a:ext cx="75009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Arial"/>
              </a:rPr>
              <a:t>Цель проекта:</a:t>
            </a:r>
            <a:r>
              <a:rPr b="0" lang="ru-RU" sz="2800" spc="-1" strike="noStrike">
                <a:solidFill>
                  <a:srgbClr val="25900c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25900c"/>
                </a:solidFill>
                <a:latin typeface="Arial"/>
                <a:ea typeface="Arial"/>
              </a:rPr>
              <a:t>дать первичные знания о правилах поведения на дороге; познакомить с цветами светофора и пешеходным переход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Arial"/>
              </a:rPr>
              <a:t>Задачи проек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900c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25900c"/>
                </a:solidFill>
                <a:latin typeface="Arial"/>
                <a:ea typeface="Arial"/>
              </a:rPr>
              <a:t>-для детей: познакомить со светофором и пешеходным переходом; формировать представления об улице; дать представление о  наземном транспор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900c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25900c"/>
                </a:solidFill>
                <a:latin typeface="Arial"/>
                <a:ea typeface="Arial"/>
              </a:rPr>
              <a:t>-для педагогов:  создать условия в группе для знакомства детей с правилами дорожного движения; создать информационную базу для родителей по данной те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900c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25900c"/>
                </a:solidFill>
                <a:latin typeface="Arial"/>
                <a:ea typeface="Arial"/>
              </a:rPr>
              <a:t>-для родителей: повышение компетентности родителей в вопросах касающихся ПД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857240" y="214200"/>
            <a:ext cx="70725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Arial"/>
                <a:ea typeface="Arial"/>
              </a:rPr>
              <a:t>Основные направления реализации проект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900c"/>
                </a:solidFill>
                <a:latin typeface="Arial"/>
                <a:ea typeface="Arial"/>
              </a:rPr>
              <a:t>   </a:t>
            </a:r>
            <a:r>
              <a:rPr b="1" lang="ru-RU" sz="3600" spc="-1" strike="noStrike">
                <a:solidFill>
                  <a:srgbClr val="25900c"/>
                </a:solidFill>
                <a:latin typeface="Arial"/>
                <a:ea typeface="Arial"/>
              </a:rPr>
              <a:t>- Работа с детьми         </a:t>
            </a:r>
            <a:r>
              <a:rPr b="0" lang="ru-RU" sz="3600" spc="-1" strike="noStrike">
                <a:solidFill>
                  <a:srgbClr val="25900c"/>
                </a:solidFill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e46c0a"/>
                </a:solidFill>
                <a:latin typeface="Arial"/>
                <a:ea typeface="Arial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900c"/>
                </a:solidFill>
                <a:latin typeface="Arial"/>
                <a:ea typeface="Arial"/>
              </a:rPr>
              <a:t>                                                                          </a:t>
            </a:r>
            <a:r>
              <a:rPr b="1" lang="ru-RU" sz="3600" spc="-1" strike="noStrike">
                <a:solidFill>
                  <a:srgbClr val="25900c"/>
                </a:solidFill>
                <a:latin typeface="Arial"/>
                <a:ea typeface="Arial"/>
              </a:rPr>
              <a:t>- Работа с родител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357200" y="-360"/>
            <a:ext cx="77868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900c"/>
                </a:solidFill>
                <a:latin typeface="Arial"/>
                <a:ea typeface="Arial"/>
              </a:rPr>
              <a:t>Работа с детьм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900c"/>
                </a:solidFill>
                <a:latin typeface="Arial"/>
                <a:ea typeface="SimSun"/>
              </a:rPr>
              <a:t>Познавательная деятельнос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900c"/>
                </a:solidFill>
                <a:latin typeface="Arial"/>
                <a:ea typeface="SimSun"/>
              </a:rPr>
              <a:t>по обучению детей ПД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 </a:t>
            </a: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- Тематические занятия (НОД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46c0a"/>
              </a:buClr>
              <a:buSzPct val="4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46c0a"/>
              </a:buClr>
              <a:buSzPct val="4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 </a:t>
            </a: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- Знакомство с наземным транспор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 </a:t>
            </a: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- Чтение художественной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 </a:t>
            </a: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по т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 </a:t>
            </a: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- Рассматривание картин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 </a:t>
            </a: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- Наблюдение за транспор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 </a:t>
            </a: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- Бесе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58560" y="189000"/>
            <a:ext cx="75992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900c"/>
                </a:solidFill>
                <a:latin typeface="Arial"/>
                <a:ea typeface="SimSun"/>
              </a:rPr>
              <a:t>Игровая деятельност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900c"/>
                </a:solidFill>
                <a:latin typeface="Arial"/>
                <a:ea typeface="SimSun"/>
              </a:rPr>
              <a:t>по обучению детей ПД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46c0a"/>
                </a:solidFill>
                <a:latin typeface="Arial"/>
                <a:ea typeface="SimSun"/>
              </a:rPr>
              <a:t>Сюжетно-ролевые игр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SimSun"/>
              </a:rPr>
              <a:t>«Автобус»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«Мы - водители»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«Пешеходы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46c0a"/>
                </a:solidFill>
                <a:latin typeface="Arial"/>
                <a:ea typeface="SimSun"/>
              </a:rPr>
              <a:t>Дидактические игр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«Собери машину»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«Разрезные машины»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«Светофор»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«Парные картинки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46c0a"/>
                </a:solidFill>
                <a:latin typeface="Arial"/>
                <a:ea typeface="SimSun"/>
              </a:rPr>
              <a:t>Подвижная игр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«Путешествуем на машине»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«Воробышки и автомобиль»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«Цветные автомобили»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«Водители»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«Красный, зеленый, желтый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4356000" y="1268280"/>
            <a:ext cx="2784600" cy="208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Users\User\Desktop\детский сад\IMG_9038.JPG"/>
          <p:cNvPicPr/>
          <p:nvPr/>
        </p:nvPicPr>
        <p:blipFill>
          <a:blip r:embed="rId3"/>
          <a:stretch/>
        </p:blipFill>
        <p:spPr>
          <a:xfrm>
            <a:off x="5219640" y="364500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594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5900c"/>
                </a:solidFill>
                <a:latin typeface="Arial"/>
                <a:ea typeface="Arial"/>
              </a:rPr>
              <a:t>Работа с родителям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85920" y="1428480"/>
            <a:ext cx="7858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e46c0a"/>
                </a:solidFill>
                <a:latin typeface="Arial"/>
                <a:ea typeface="Arial"/>
              </a:rPr>
              <a:t>- Проведение консультац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e46c0a"/>
                </a:solidFill>
                <a:latin typeface="Arial"/>
                <a:ea typeface="Arial"/>
              </a:rPr>
              <a:t>- Оформление папок – передвиж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e46c0a"/>
                </a:solidFill>
                <a:latin typeface="Arial"/>
                <a:ea typeface="Arial"/>
              </a:rPr>
              <a:t>- Бесе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e46c0a"/>
                </a:solidFill>
                <a:latin typeface="Arial"/>
                <a:ea typeface="Arial"/>
              </a:rPr>
              <a:t>- Памят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485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900c"/>
                </a:solidFill>
                <a:latin typeface="Arial"/>
                <a:ea typeface="Arial"/>
              </a:rPr>
              <a:t>Предметно-развивающая сре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85920" y="1428480"/>
            <a:ext cx="7858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C:\Users\User\Desktop\детский сад\IMG_9095.JPG"/>
          <p:cNvPicPr/>
          <p:nvPr/>
        </p:nvPicPr>
        <p:blipFill>
          <a:blip r:embed="rId2"/>
          <a:stretch/>
        </p:blipFill>
        <p:spPr>
          <a:xfrm>
            <a:off x="684360" y="1341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Users\User\Desktop\детский сад\DqoKS9ioBuQ.jpg"/>
          <p:cNvPicPr/>
          <p:nvPr/>
        </p:nvPicPr>
        <p:blipFill>
          <a:blip r:embed="rId3"/>
          <a:stretch/>
        </p:blipFill>
        <p:spPr>
          <a:xfrm>
            <a:off x="5219640" y="1335240"/>
            <a:ext cx="3641760" cy="2598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Users\User\Desktop\детский сад\IMG_9008.JPG"/>
          <p:cNvPicPr/>
          <p:nvPr/>
        </p:nvPicPr>
        <p:blipFill>
          <a:blip r:embed="rId4"/>
          <a:stretch/>
        </p:blipFill>
        <p:spPr>
          <a:xfrm>
            <a:off x="752400" y="4221000"/>
            <a:ext cx="3387960" cy="2489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C:\Users\User\Desktop\детский сад\IMG_9030.JPG"/>
          <p:cNvPicPr/>
          <p:nvPr/>
        </p:nvPicPr>
        <p:blipFill>
          <a:blip r:embed="rId5"/>
          <a:stretch/>
        </p:blipFill>
        <p:spPr>
          <a:xfrm>
            <a:off x="5202360" y="4221000"/>
            <a:ext cx="3659040" cy="2484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C:\Users\User\Desktop\детский сад\IMG_9056.JPG"/>
          <p:cNvPicPr/>
          <p:nvPr/>
        </p:nvPicPr>
        <p:blipFill>
          <a:blip r:embed="rId6"/>
          <a:stretch/>
        </p:blipFill>
        <p:spPr>
          <a:xfrm>
            <a:off x="3708360" y="120168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7"/>
          <a:stretch/>
        </p:blipFill>
        <p:spPr>
          <a:xfrm>
            <a:off x="1886040" y="3962520"/>
            <a:ext cx="364320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Пользователь</cp:lastModifiedBy>
  <dcterms:modified xsi:type="dcterms:W3CDTF">2017-01-10T06:48:23Z</dcterms:modified>
  <cp:revision>55</cp:revision>
  <dc:subject/>
  <dc:title>Слайд 1</dc:title>
</cp:coreProperties>
</file>