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459-D0EB-4BE0-A5FA-5ADA4342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2BB-50E2-43C1-90E6-21908B6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B75-A45E-44B9-8799-169A5873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87D-5C4F-4403-AA74-C8AA9B92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F8FE-D485-4060-BB17-2F2247EC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09DC-0384-4B03-B6D1-94C93035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ED1-42CD-445B-AA2F-FED8D3C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E73-06CE-4CC3-9704-72B5783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10D-5F30-412E-BF0C-4A0336C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CD1-B580-4749-9B42-1C95FBA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F49C-2C59-4F8A-8CA4-D1DFB05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B3C-90DC-47CD-8221-D75E53CE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466-BF7D-43D4-8C9B-EB03C86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714C-D3EF-4001-A6C2-5F3FBE8A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2D92-5462-40D5-848C-17198F2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88DB-6BBE-4F37-8055-A73CF7C5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245-72C7-47EB-806C-27430E64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268-B526-40DB-B753-5E3D793E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109-2432-4367-A37A-393B04B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50E-2C22-45AE-BFB0-2431ECCD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795-4B1A-464C-95A2-416BDD27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EC8-6CBE-4D9C-8AD0-DFFBD92C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CF1-8C88-4CF5-801E-6A0829D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81E-1400-4A53-8C45-7E396C8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9F0-E146-4169-842B-7E4AC0F15E8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42A6-EB55-4213-95E1-254379CEDF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43800" y="1548360"/>
            <a:ext cx="7113600" cy="26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Тест для школьников 4 класса по правилам дорожного движения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5562720"/>
            <a:ext cx="401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стави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Чагина Соф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440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9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4400" y="5638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Бегов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0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186080" cy="3191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914400" y="5181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Стоянка автотранспор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есто стоянки легковых так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Место остановки трамва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Место остановки автобуса и (или) троллейб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1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Где нужно ожидать общественный транспорт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3200" cy="351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91440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Транспорт нужно ждать на остановке, при этом ни в коем случае нельзя выходить на проезжую час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 любом мес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 проезжей ч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2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90720" y="5486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Движение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ъезд запрещён, движение только для пешех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643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693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43400" y="286560"/>
            <a:ext cx="78850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3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502632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914400" y="54100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На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9160" y="3056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4 вопрос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52880" cy="3047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914400" y="5334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сторожно пеш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 дороги запрещё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5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105520" cy="3733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838080" y="5562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бозначает место для детских и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Разрешает пешеходам ходить по проезжей части, жилая з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казывает место для стоянки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вет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2438280"/>
          <a:ext cx="7693200" cy="2133720"/>
        </p:xfrm>
        <a:graphic>
          <a:graphicData uri="http://schemas.openxmlformats.org/drawingml/2006/table">
            <a:tbl>
              <a:tblPr/>
              <a:tblGrid>
                <a:gridCol w="513000"/>
                <a:gridCol w="512640"/>
                <a:gridCol w="512640"/>
                <a:gridCol w="513000"/>
                <a:gridCol w="512640"/>
                <a:gridCol w="512640"/>
                <a:gridCol w="513000"/>
                <a:gridCol w="514080"/>
                <a:gridCol w="513000"/>
                <a:gridCol w="512640"/>
                <a:gridCol w="512640"/>
                <a:gridCol w="513000"/>
                <a:gridCol w="512640"/>
                <a:gridCol w="513000"/>
                <a:gridCol w="51264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71760" y="595800"/>
            <a:ext cx="7952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должен поступить пешеход в этой ситуаци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1532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38080" y="5105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ойти перед автомобилем, убедившись, что он остановился и уступает Вам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ройти перв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ступить автомобил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6520" y="305640"/>
            <a:ext cx="792252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перейти проезжую часть дороги, если рядом нет пешеходного перехода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153640" cy="350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38080" y="49528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опустить транспорт, движущийся слева, дойти до середины; затем закончить переход, при отсутствии транспорта спра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реход запрещен, нужно дойти до ближайшего пешеходного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ить можно только при отсутствии транспорта или достаточного удаления его от места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22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этот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838080" y="5029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Езда на велосипеде запреще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Стоянка для велосипе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76680" y="291240"/>
            <a:ext cx="77994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4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ожно ли переходить дорог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92504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Можно перейти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ожно, убедившись, что транспорт остановил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ельзя, нужно пропустить транспортное средств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1920" y="96120"/>
            <a:ext cx="780804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Как вести себя при переходе проезжей части в ненастную погод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9320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9144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Воздержаться от перехода до окончания дождя или снегопа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Дождаться зелёного сигнала светофора и, не обращая внимание на погоду, перейти проезжую ча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Быть особенно внимательным, при переходе на зелёный сигнал светофора, если на улице сыро или скользко, машина не может резко остановиться, даже если водитель сразу нажмёт на тормо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6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ак правильно обходить автобус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320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914400" y="5562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Машины, автобусы или троллейбусы нужно обходить сзад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ождать, когда транспорт отъедет от остановки, тогда дорога будет хорошо видна в обе стороны, после этого переходить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19720" y="2865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7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832120" y="1447920"/>
            <a:ext cx="4940280" cy="35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838080" y="5410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Движение велосипе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44280" y="-427680"/>
            <a:ext cx="7712640" cy="14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8 вопрос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34340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шехо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1-27T19:52:2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