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5D65-024D-4A22-8F7B-3DFC07C6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97C3-4BCA-4543-A6AF-AB4C59B8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A4E0-41F7-4401-BF05-309CE063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9098-824E-4FEF-8CE7-F765181C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D4BD-DB36-4495-B4F8-D3CEC40B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BA24-44F8-433A-BEAA-A1A7248E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71B6-3DAC-4E50-80A0-E18BDD1D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1175-E39D-46D6-8A9F-E3A443EB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BA65-9534-4301-AE41-1B718954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0CE3-078C-4EAA-83E4-27B1BF0B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59F2-F2D0-45BE-A0B6-F94A7385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B662-BDBB-4E60-AAF5-2288E39E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245F-2EDC-4E24-80F3-ABC009E6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206D-9145-4334-A2DB-DD313C71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A342-B6AA-42F9-8D35-CC9801A6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43F2-EA16-45B7-8688-BE04F977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36F9-1012-4DD2-B990-DE352749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5D1D-B0EA-4342-9107-53737906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904E-4A27-4120-B74A-554AB7D6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6960-22F8-42DE-876F-31FE3028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B65C-6054-4147-B3F3-6C0E0931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5578-7497-4BA7-A4C5-9A890F85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2F8B-4FDF-41F4-B0E1-E7516E76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C34D-D9EB-4DFF-B29A-A1E54794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072C-8C74-4B91-8B03-AAEB67B13AC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08E5-2C14-4472-AF76-38DC84A9056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243800" y="1548360"/>
            <a:ext cx="7113600" cy="26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Тест для школьников 4 класса по правилам дорожного движения.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5562720"/>
            <a:ext cx="40132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Составил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Чагина София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24400" y="2912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9 вопрос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Что обозначает данный знак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914400" y="563868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ешеходный переход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Осторожно дет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Беговая дорож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10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29440" y="29592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0 вопрос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Что обозначает данный знак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4186080" cy="31910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914400" y="51814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Стоянка автотранспорт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Место стоянки легковых такс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Место остановки трамва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Место остановки автобуса и (или) троллейбус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1 вопрос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Где нужно ожидать общественный транспорт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693200" cy="35118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914400" y="53341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Транспорт нужно ждать на остановке, при этом ни в коем случае нельзя выходить на проезжую часть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В любом мест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На проезжей част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24400" y="367200"/>
            <a:ext cx="77994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2 вопрос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Что обозначает данный знак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990720" y="54864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Движение запрещен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Въезд запрещён, движение только для пешеход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Велосипедная дорож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3048120" y="1371600"/>
            <a:ext cx="3643200" cy="3429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1371240"/>
            <a:ext cx="76932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743400" y="286560"/>
            <a:ext cx="788508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3 вопрос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Что обозначает данный знак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5026320" cy="35812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914400" y="54100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Надземный переход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Подземный переход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Движение пешеходов запрещен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9160" y="305640"/>
            <a:ext cx="7769880" cy="106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14 вопрос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Что обозначает данный знак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952880" cy="3047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914400" y="5334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Осторожно пешеход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Осторожно дет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Переход дороги запрещён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29440" y="29592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5 вопрос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Что обозначает данный знак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5105520" cy="37335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"/>
          <p:cNvSpPr/>
          <p:nvPr/>
        </p:nvSpPr>
        <p:spPr>
          <a:xfrm>
            <a:off x="838080" y="55627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Обозначает место для детских игр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Разрешает пешеходам ходить по проезжей части, жилая зон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Указывает место для стоянки машин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тветы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38080" y="2438280"/>
          <a:ext cx="7693200" cy="2133720"/>
        </p:xfrm>
        <a:graphic>
          <a:graphicData uri="http://schemas.openxmlformats.org/drawingml/2006/table">
            <a:tbl>
              <a:tblPr/>
              <a:tblGrid>
                <a:gridCol w="513000"/>
                <a:gridCol w="512640"/>
                <a:gridCol w="512640"/>
                <a:gridCol w="513000"/>
                <a:gridCol w="512640"/>
                <a:gridCol w="512640"/>
                <a:gridCol w="513000"/>
                <a:gridCol w="514080"/>
                <a:gridCol w="513000"/>
                <a:gridCol w="512640"/>
                <a:gridCol w="512640"/>
                <a:gridCol w="513000"/>
                <a:gridCol w="512640"/>
                <a:gridCol w="513000"/>
                <a:gridCol w="512640"/>
              </a:tblGrid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71760" y="595800"/>
            <a:ext cx="79520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вопрос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Как должен поступить пешеход в этой ситуации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8153280" cy="35049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838080" y="51055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ройти перед автомобилем, убедившись, что он остановился и уступает Вам дорог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Пройти первы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Уступить автомобилю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86520" y="305640"/>
            <a:ext cx="7922520" cy="106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2 вопрос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Как перейти проезжую часть дороги, если рядом нет пешеходного перехода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8153640" cy="35053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838080" y="4952880"/>
            <a:ext cx="815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ропустить транспорт, движущийся слева, дойти до середины; затем закончить переход, при отсутствии транспорта справ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Переход запрещен, нужно дойти до ближайшего пешеходного переход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Переходить можно только при отсутствии транспорта или достаточного удаления его от места переход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22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3 вопрос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Что обозначает этот знак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4419720" cy="32763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838080" y="50292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Велосипедная дорож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Езда на велосипеде запрещен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Стоянка для велосипед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976680" y="2912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4 вопрос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Можно ли переходить дорогу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925040" cy="38098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838080" y="51814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Можно перейти дорог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Можно, убедившись, что транспорт остановил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Нельзя, нужно пропустить транспортное средств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81920" y="96120"/>
            <a:ext cx="7808040" cy="133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5 вопрос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Как вести себя при переходе проезжей части в ненастную погоду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693200" cy="32004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914400" y="48006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Воздержаться от перехода до окончания дождя или снегопад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Дождаться зелёного сигнала светофора и, не обращая внимание на погоду, перейти проезжую часть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Быть особенно внимательным, при переходе на зелёный сигнал светофора, если на улице сыро или скользко, машина не может резко остановиться, даже если водитель сразу нажмёт на тормоз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29440" y="29592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6 вопрос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Как правильно обходить автобус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693200" cy="42670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914400" y="55627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Машины, автобусы или троллейбусы нужно обходить сзад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Подождать, когда транспорт отъедет от остановки, тогда дорога будет хорошо видна в обе стороны, после этого переходить дорог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19720" y="2865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7 вопрос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Что обозначает данный знак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2832120" y="1447920"/>
            <a:ext cx="4940280" cy="35478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838080" y="541008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Движение велосипедов запрещен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Велосипедная дорож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944280" y="-427680"/>
            <a:ext cx="7712640" cy="146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8 вопрос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Что обозначает данный знак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4343400" cy="37335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838080" y="51814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ешеходный переход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Пешеходная дорож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Движение пешеходов запрещен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8-11-27T19:52:29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