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27C-9EA1-4C58-85FE-36F526DD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32D-543D-4B53-AD75-C6157AAE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0EF-A843-4771-B07C-D6309569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09F-FB00-436E-8C70-79712EDF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749-EABA-4600-AAA3-8B98583E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B42-F1E7-4919-BF68-C88784FA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2D0-B97B-4583-9B58-247CA3C1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1F4-93F4-45A4-9FDC-3CE51DA1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815-1F8C-4262-A125-C9141F95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C6B-0756-4182-87BC-2E10B36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CF8-11E1-41CF-B14E-0AFE20E5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580-FA55-4A17-8997-BBD1346C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CC85-C2E4-4C76-814F-29E05E3CF03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2C25-52FC-460C-A885-B1A5E5CE8B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multiurok.ru/files/priezientatsiia-po-matiematikie-dlia-3-klassa-na-tiemu-poriadok-vypolnieniia-dieistviia-skobki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079640" y="2090880"/>
            <a:ext cx="69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РОКУ геометрии 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ЕРВЫЙ ПРИЗНАК РАВЕНСТВА ТРЕУГ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ижний колонтитул 1"/>
          <p:cNvSpPr/>
          <p:nvPr/>
        </p:nvSpPr>
        <p:spPr>
          <a:xfrm>
            <a:off x="3124080" y="5950080"/>
            <a:ext cx="28958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755640" y="765000"/>
            <a:ext cx="823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 первый признак равенства треуг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вных элементов нужно найти в треугольниках, что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, что они рав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755640" y="24922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ец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ты хорошо постарался: познакомился с первым призна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ства треугольников и научился решать задачи, используя данный призн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ижний колонтитул 1"/>
          <p:cNvSpPr/>
          <p:nvPr/>
        </p:nvSpPr>
        <p:spPr>
          <a:xfrm>
            <a:off x="3124080" y="6093000"/>
            <a:ext cx="28958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539640" y="836640"/>
            <a:ext cx="82090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 презентации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multiurok.ru/files/priezientatsiia-po-matiematikie-dlia-3-klassa-na-tiemu-poriadok-vypolnieniia-dieistviia-skobk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ижний колонтитул 1"/>
          <p:cNvSpPr/>
          <p:nvPr/>
        </p:nvSpPr>
        <p:spPr>
          <a:xfrm>
            <a:off x="3124080" y="6021360"/>
            <a:ext cx="2895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11280" y="476280"/>
            <a:ext cx="76816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ты сегодня должен научиться на 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74640" y="1197000"/>
            <a:ext cx="78264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☻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ь смысл слов «теорема» и «доказательство теорем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овать и доказать первый признак равенства треуг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решать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ижний колонтитул 1"/>
          <p:cNvSpPr/>
          <p:nvPr/>
        </p:nvSpPr>
        <p:spPr>
          <a:xfrm>
            <a:off x="3124080" y="6021360"/>
            <a:ext cx="2895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20760" y="382680"/>
            <a:ext cx="86439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ы думаешь, какие два треугольника называются равны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предел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треугольника называются равными, 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три угла одного треугольника равны трем углам другого треугольника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ри стороны одного треугольника равны тр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ым сторонам другого треугольника.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предел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ороны, которые заключены между равны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ми, называются соответств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3"/>
          <p:cNvSpPr/>
          <p:nvPr/>
        </p:nvSpPr>
        <p:spPr>
          <a:xfrm>
            <a:off x="1908000" y="3500280"/>
            <a:ext cx="2519640" cy="865440"/>
          </a:xfrm>
          <a:prstGeom prst="triangle">
            <a:avLst>
              <a:gd name="adj" fmla="val 65495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4"/>
          <p:cNvSpPr/>
          <p:nvPr/>
        </p:nvSpPr>
        <p:spPr>
          <a:xfrm>
            <a:off x="5003640" y="3500280"/>
            <a:ext cx="2502000" cy="865440"/>
          </a:xfrm>
          <a:prstGeom prst="triangle">
            <a:avLst>
              <a:gd name="adj" fmla="val 6523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763640" y="4365720"/>
            <a:ext cx="4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419640" y="32130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284720" y="4292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859280" y="42926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644364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7524720" y="4292640"/>
            <a:ext cx="3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1"/>
          <p:cNvSpPr/>
          <p:nvPr/>
        </p:nvSpPr>
        <p:spPr>
          <a:xfrm>
            <a:off x="2050920" y="4076640"/>
            <a:ext cx="505080" cy="504720"/>
          </a:xfrm>
          <a:custGeom>
            <a:avLst/>
            <a:gdLst/>
            <a:ahLst/>
            <a:rect l="l" t="t" r="r" b="b"/>
            <a:pathLst>
              <a:path stroke="0" w="504825" h="504825">
                <a:moveTo>
                  <a:pt x="359571" y="23876"/>
                </a:moveTo>
                <a:cubicBezTo>
                  <a:pt x="459873" y="70907"/>
                  <a:pt x="517787" y="177842"/>
                  <a:pt x="502368" y="287545"/>
                </a:cubicBezTo>
                <a:lnTo>
                  <a:pt x="252413" y="252413"/>
                </a:lnTo>
                <a:lnTo>
                  <a:pt x="359571" y="23876"/>
                </a:lnTo>
                <a:close/>
              </a:path>
              <a:path fill="none" w="504825" h="504825">
                <a:moveTo>
                  <a:pt x="359571" y="23876"/>
                </a:moveTo>
                <a:cubicBezTo>
                  <a:pt x="459873" y="70907"/>
                  <a:pt x="517787" y="177842"/>
                  <a:pt x="502368" y="287545"/>
                </a:cubicBezTo>
              </a:path>
            </a:pathLst>
          </a:cu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Дуга 12"/>
          <p:cNvSpPr/>
          <p:nvPr/>
        </p:nvSpPr>
        <p:spPr>
          <a:xfrm>
            <a:off x="4859280" y="4076640"/>
            <a:ext cx="792360" cy="576360"/>
          </a:xfrm>
          <a:custGeom>
            <a:avLst/>
            <a:gdLst/>
            <a:ahLst/>
            <a:rect l="l" t="t" r="r" b="b"/>
            <a:pathLst>
              <a:path stroke="0" w="792162" h="576263">
                <a:moveTo>
                  <a:pt x="607897" y="44663"/>
                </a:moveTo>
                <a:cubicBezTo>
                  <a:pt x="745620" y="108070"/>
                  <a:pt x="815888" y="226377"/>
                  <a:pt x="784970" y="342790"/>
                </a:cubicBezTo>
                <a:lnTo>
                  <a:pt x="396081" y="288132"/>
                </a:lnTo>
                <a:lnTo>
                  <a:pt x="607897" y="44663"/>
                </a:lnTo>
                <a:close/>
              </a:path>
              <a:path fill="none" w="792162" h="576263">
                <a:moveTo>
                  <a:pt x="607897" y="44663"/>
                </a:moveTo>
                <a:cubicBezTo>
                  <a:pt x="745620" y="108070"/>
                  <a:pt x="815888" y="226377"/>
                  <a:pt x="784970" y="342790"/>
                </a:cubicBezTo>
              </a:path>
            </a:pathLst>
          </a:cu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Дуга 13"/>
          <p:cNvSpPr/>
          <p:nvPr/>
        </p:nvSpPr>
        <p:spPr>
          <a:xfrm>
            <a:off x="3708360" y="393372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1494" y="420274"/>
                </a:moveTo>
                <a:cubicBezTo>
                  <a:pt x="16132" y="239618"/>
                  <a:pt x="136107" y="84665"/>
                  <a:pt x="307343" y="25257"/>
                </a:cubicBezTo>
                <a:lnTo>
                  <a:pt x="457200" y="457200"/>
                </a:lnTo>
                <a:lnTo>
                  <a:pt x="1494" y="420274"/>
                </a:lnTo>
                <a:close/>
              </a:path>
              <a:path fill="none" w="914400" h="914400">
                <a:moveTo>
                  <a:pt x="1494" y="420274"/>
                </a:moveTo>
                <a:cubicBezTo>
                  <a:pt x="16132" y="239618"/>
                  <a:pt x="136107" y="84665"/>
                  <a:pt x="307343" y="25257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Дуга 14"/>
          <p:cNvSpPr/>
          <p:nvPr/>
        </p:nvSpPr>
        <p:spPr>
          <a:xfrm>
            <a:off x="6732720" y="3933720"/>
            <a:ext cx="1800000" cy="1067040"/>
          </a:xfrm>
          <a:custGeom>
            <a:avLst/>
            <a:gdLst/>
            <a:ahLst/>
            <a:rect l="l" t="t" r="r" b="b"/>
            <a:pathLst>
              <a:path stroke="0" w="1800225" h="1066800">
                <a:moveTo>
                  <a:pt x="26436" y="405076"/>
                </a:moveTo>
                <a:cubicBezTo>
                  <a:pt x="83127" y="269537"/>
                  <a:pt x="227250" y="152576"/>
                  <a:pt x="427855" y="79312"/>
                </a:cubicBezTo>
                <a:lnTo>
                  <a:pt x="900113" y="533400"/>
                </a:lnTo>
                <a:lnTo>
                  <a:pt x="26436" y="405076"/>
                </a:lnTo>
                <a:close/>
              </a:path>
              <a:path fill="none" w="1800225" h="1066800">
                <a:moveTo>
                  <a:pt x="26436" y="405076"/>
                </a:moveTo>
                <a:cubicBezTo>
                  <a:pt x="83127" y="269537"/>
                  <a:pt x="227250" y="152576"/>
                  <a:pt x="427855" y="79312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Дуга 15"/>
          <p:cNvSpPr/>
          <p:nvPr/>
        </p:nvSpPr>
        <p:spPr>
          <a:xfrm rot="1098600">
            <a:off x="3333600" y="3540240"/>
            <a:ext cx="570240" cy="237960"/>
          </a:xfrm>
          <a:custGeom>
            <a:avLst/>
            <a:gdLst/>
            <a:ahLst/>
            <a:rect l="l" t="t" r="r" b="b"/>
            <a:pathLst>
              <a:path stroke="0" w="569913" h="238125">
                <a:moveTo>
                  <a:pt x="545821" y="166976"/>
                </a:moveTo>
                <a:cubicBezTo>
                  <a:pt x="499861" y="210661"/>
                  <a:pt x="395917" y="238660"/>
                  <a:pt x="281716" y="238117"/>
                </a:cubicBezTo>
                <a:cubicBezTo>
                  <a:pt x="157675" y="237528"/>
                  <a:pt x="48797" y="203477"/>
                  <a:pt x="12483" y="153916"/>
                </a:cubicBezTo>
                <a:lnTo>
                  <a:pt x="284957" y="119063"/>
                </a:lnTo>
                <a:lnTo>
                  <a:pt x="545821" y="166976"/>
                </a:lnTo>
                <a:close/>
              </a:path>
              <a:path fill="none" w="569913" h="238125">
                <a:moveTo>
                  <a:pt x="545821" y="166976"/>
                </a:moveTo>
                <a:cubicBezTo>
                  <a:pt x="499861" y="210661"/>
                  <a:pt x="395917" y="238660"/>
                  <a:pt x="281716" y="238117"/>
                </a:cubicBezTo>
                <a:cubicBezTo>
                  <a:pt x="157675" y="237528"/>
                  <a:pt x="48797" y="203477"/>
                  <a:pt x="12483" y="15391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Дуга 16"/>
          <p:cNvSpPr/>
          <p:nvPr/>
        </p:nvSpPr>
        <p:spPr>
          <a:xfrm rot="1098600">
            <a:off x="6246360" y="2940120"/>
            <a:ext cx="933480" cy="868320"/>
          </a:xfrm>
          <a:custGeom>
            <a:avLst/>
            <a:gdLst/>
            <a:ahLst/>
            <a:rect l="l" t="t" r="r" b="b"/>
            <a:pathLst>
              <a:path stroke="0" w="933450" h="868363">
                <a:moveTo>
                  <a:pt x="776337" y="759076"/>
                </a:moveTo>
                <a:cubicBezTo>
                  <a:pt x="623777" y="884893"/>
                  <a:pt x="401085" y="904030"/>
                  <a:pt x="226331" y="806341"/>
                </a:cubicBezTo>
                <a:lnTo>
                  <a:pt x="466725" y="434182"/>
                </a:lnTo>
                <a:lnTo>
                  <a:pt x="776337" y="759076"/>
                </a:lnTo>
                <a:close/>
              </a:path>
              <a:path fill="none" w="933450" h="868363">
                <a:moveTo>
                  <a:pt x="776337" y="759076"/>
                </a:moveTo>
                <a:cubicBezTo>
                  <a:pt x="623777" y="884893"/>
                  <a:pt x="401085" y="904030"/>
                  <a:pt x="226331" y="80634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2050920" y="47242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= ∆МКР,   так как ( по определе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МК; ВС = КР;  АС = М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9"/>
          <p:cNvSpPr/>
          <p:nvPr/>
        </p:nvSpPr>
        <p:spPr>
          <a:xfrm>
            <a:off x="2700360" y="3789360"/>
            <a:ext cx="358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1"/>
          <p:cNvSpPr/>
          <p:nvPr/>
        </p:nvSpPr>
        <p:spPr>
          <a:xfrm>
            <a:off x="5867280" y="3716280"/>
            <a:ext cx="28908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3"/>
          <p:cNvSpPr/>
          <p:nvPr/>
        </p:nvSpPr>
        <p:spPr>
          <a:xfrm flipV="1">
            <a:off x="3780000" y="3789360"/>
            <a:ext cx="28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5"/>
          <p:cNvSpPr/>
          <p:nvPr/>
        </p:nvSpPr>
        <p:spPr>
          <a:xfrm flipV="1">
            <a:off x="3851280" y="3860280"/>
            <a:ext cx="360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0"/>
          <p:cNvSpPr/>
          <p:nvPr/>
        </p:nvSpPr>
        <p:spPr>
          <a:xfrm flipV="1">
            <a:off x="6804000" y="3789360"/>
            <a:ext cx="2890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2"/>
          <p:cNvSpPr/>
          <p:nvPr/>
        </p:nvSpPr>
        <p:spPr>
          <a:xfrm flipV="1">
            <a:off x="6875640" y="3860280"/>
            <a:ext cx="28872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5"/>
          <p:cNvSpPr/>
          <p:nvPr/>
        </p:nvSpPr>
        <p:spPr>
          <a:xfrm flipH="1">
            <a:off x="2842920" y="422100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7"/>
          <p:cNvSpPr/>
          <p:nvPr/>
        </p:nvSpPr>
        <p:spPr>
          <a:xfrm flipH="1">
            <a:off x="2987280" y="422100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9"/>
          <p:cNvSpPr/>
          <p:nvPr/>
        </p:nvSpPr>
        <p:spPr>
          <a:xfrm flipH="1">
            <a:off x="3132000" y="4221000"/>
            <a:ext cx="1447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43"/>
          <p:cNvSpPr/>
          <p:nvPr/>
        </p:nvSpPr>
        <p:spPr>
          <a:xfrm flipH="1">
            <a:off x="5867280" y="4149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45"/>
          <p:cNvSpPr/>
          <p:nvPr/>
        </p:nvSpPr>
        <p:spPr>
          <a:xfrm flipH="1">
            <a:off x="6011640" y="4149720"/>
            <a:ext cx="144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47"/>
          <p:cNvSpPr/>
          <p:nvPr/>
        </p:nvSpPr>
        <p:spPr>
          <a:xfrm flipH="1">
            <a:off x="6156000" y="4149720"/>
            <a:ext cx="14436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1"/>
          <p:cNvSpPr/>
          <p:nvPr/>
        </p:nvSpPr>
        <p:spPr>
          <a:xfrm>
            <a:off x="3124080" y="6067440"/>
            <a:ext cx="28958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Равнобедренный треугольник 2"/>
          <p:cNvSpPr/>
          <p:nvPr/>
        </p:nvSpPr>
        <p:spPr>
          <a:xfrm>
            <a:off x="1403280" y="620640"/>
            <a:ext cx="3384720" cy="2303640"/>
          </a:xfrm>
          <a:prstGeom prst="triangle">
            <a:avLst>
              <a:gd name="adj" fmla="val 32231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04652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2340000" y="33336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4643280" y="28526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794760" y="517680"/>
            <a:ext cx="48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лежит сторона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отив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лежат стороны АВ и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ороны, исходящие из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633680" y="293688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 назвать стороны, лежащие против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, прилежащие к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∠В лежит сторона АС, против ∠С лежит сторона 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илежат стороны АВ и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рилежат стороны ВС и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1"/>
          <p:cNvSpPr/>
          <p:nvPr/>
        </p:nvSpPr>
        <p:spPr>
          <a:xfrm>
            <a:off x="3124080" y="6159600"/>
            <a:ext cx="2895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684360" y="907920"/>
            <a:ext cx="7848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орем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еч . theorema, от theoreo - рассматриваю) , в математике - предложение (утверждение) , устанавливаемое при помощи цепочки рассуждений. Теорема обычно состоит из условия и заклю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если" - это условие (что дано), а после "то" – заключение (что нужно доказа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714240" y="3500280"/>
            <a:ext cx="785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казательство теорем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ассу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которых устанавливается верность данной теор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1"/>
          <p:cNvSpPr/>
          <p:nvPr/>
        </p:nvSpPr>
        <p:spPr>
          <a:xfrm>
            <a:off x="3124080" y="6093000"/>
            <a:ext cx="28958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500040" y="47628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3600" indent="-993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орем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ервый признак равенства                   треуг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3600" indent="-993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стороны и угол между ними одного треугольника соответственно равны двум сторонам и углу между ними другого треугольника, то такие треугольники рав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3600" indent="-993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3600" indent="-99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 дано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жно до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1"/>
          <p:cNvSpPr/>
          <p:nvPr/>
        </p:nvSpPr>
        <p:spPr>
          <a:xfrm>
            <a:off x="3124080" y="6021360"/>
            <a:ext cx="2895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Равнобедренный треугольник 2"/>
          <p:cNvSpPr/>
          <p:nvPr/>
        </p:nvSpPr>
        <p:spPr>
          <a:xfrm>
            <a:off x="826920" y="907920"/>
            <a:ext cx="1657440" cy="1441440"/>
          </a:xfrm>
          <a:prstGeom prst="triangle">
            <a:avLst>
              <a:gd name="adj" fmla="val 6438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Равнобедренный треугольник 3"/>
          <p:cNvSpPr/>
          <p:nvPr/>
        </p:nvSpPr>
        <p:spPr>
          <a:xfrm rot="5400000">
            <a:off x="2878560" y="1087920"/>
            <a:ext cx="1729080" cy="1368360"/>
          </a:xfrm>
          <a:prstGeom prst="triangle">
            <a:avLst>
              <a:gd name="adj" fmla="val 63778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68436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692360" y="62064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268360" y="22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3003480" y="6206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2843280" y="263700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442764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5254200" y="69228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но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АВС и ∆А₁В₁С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5786280" y="928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=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Дуга 12"/>
          <p:cNvSpPr/>
          <p:nvPr/>
        </p:nvSpPr>
        <p:spPr>
          <a:xfrm>
            <a:off x="108000" y="2133720"/>
            <a:ext cx="1295280" cy="431640"/>
          </a:xfrm>
          <a:custGeom>
            <a:avLst/>
            <a:gdLst/>
            <a:ahLst/>
            <a:rect l="l" t="t" r="r" b="b"/>
            <a:pathLst>
              <a:path stroke="0" w="1295400" h="431800">
                <a:moveTo>
                  <a:pt x="854602" y="11312"/>
                </a:moveTo>
                <a:cubicBezTo>
                  <a:pt x="1118019" y="40912"/>
                  <a:pt x="1295400" y="123239"/>
                  <a:pt x="1295400" y="215900"/>
                </a:cubicBezTo>
                <a:lnTo>
                  <a:pt x="647700" y="215900"/>
                </a:lnTo>
                <a:lnTo>
                  <a:pt x="854602" y="11312"/>
                </a:lnTo>
                <a:close/>
              </a:path>
              <a:path fill="none" w="1295400" h="431800">
                <a:moveTo>
                  <a:pt x="854602" y="11312"/>
                </a:moveTo>
                <a:cubicBezTo>
                  <a:pt x="1118019" y="40912"/>
                  <a:pt x="1295400" y="123239"/>
                  <a:pt x="1295400" y="215900"/>
                </a:cubicBezTo>
              </a:path>
            </a:pathLst>
          </a:custGeom>
          <a:noFill/>
          <a:ln w="572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Дуга 13"/>
          <p:cNvSpPr/>
          <p:nvPr/>
        </p:nvSpPr>
        <p:spPr>
          <a:xfrm rot="2127000">
            <a:off x="2722320" y="725400"/>
            <a:ext cx="819000" cy="654120"/>
          </a:xfrm>
          <a:custGeom>
            <a:avLst/>
            <a:gdLst/>
            <a:ahLst/>
            <a:rect l="l" t="t" r="r" b="b"/>
            <a:pathLst>
              <a:path stroke="0" w="819150" h="654050">
                <a:moveTo>
                  <a:pt x="816843" y="292364"/>
                </a:moveTo>
                <a:cubicBezTo>
                  <a:pt x="837081" y="443963"/>
                  <a:pt x="723437" y="586615"/>
                  <a:pt x="542893" y="636241"/>
                </a:cubicBezTo>
                <a:lnTo>
                  <a:pt x="409575" y="327025"/>
                </a:lnTo>
                <a:lnTo>
                  <a:pt x="816843" y="292364"/>
                </a:lnTo>
                <a:close/>
              </a:path>
              <a:path fill="none" w="819150" h="654050">
                <a:moveTo>
                  <a:pt x="816843" y="292364"/>
                </a:moveTo>
                <a:cubicBezTo>
                  <a:pt x="837081" y="443963"/>
                  <a:pt x="723437" y="586615"/>
                  <a:pt x="542893" y="636241"/>
                </a:cubicBezTo>
              </a:path>
            </a:pathLst>
          </a:custGeom>
          <a:noFill/>
          <a:ln w="572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5786280" y="12859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А₁В₁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 = А₁С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6"/>
          <p:cNvSpPr/>
          <p:nvPr/>
        </p:nvSpPr>
        <p:spPr>
          <a:xfrm>
            <a:off x="1332000" y="1413000"/>
            <a:ext cx="144360" cy="2156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 flipH="1">
            <a:off x="3634920" y="1268280"/>
            <a:ext cx="73080" cy="2890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0"/>
          <p:cNvSpPr/>
          <p:nvPr/>
        </p:nvSpPr>
        <p:spPr>
          <a:xfrm flipH="1">
            <a:off x="1547640" y="2205000"/>
            <a:ext cx="144720" cy="216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2"/>
          <p:cNvSpPr/>
          <p:nvPr/>
        </p:nvSpPr>
        <p:spPr>
          <a:xfrm flipH="1">
            <a:off x="1692000" y="2205000"/>
            <a:ext cx="142920" cy="216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4"/>
          <p:cNvSpPr/>
          <p:nvPr/>
        </p:nvSpPr>
        <p:spPr>
          <a:xfrm flipH="1">
            <a:off x="2916360" y="1773360"/>
            <a:ext cx="287280" cy="712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6"/>
          <p:cNvSpPr/>
          <p:nvPr/>
        </p:nvSpPr>
        <p:spPr>
          <a:xfrm flipH="1">
            <a:off x="2987280" y="1916280"/>
            <a:ext cx="289080" cy="72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5214960" y="1928880"/>
            <a:ext cx="31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казать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АВС = ∆А₁В₁С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8"/>
          <p:cNvSpPr/>
          <p:nvPr/>
        </p:nvSpPr>
        <p:spPr>
          <a:xfrm>
            <a:off x="3714840" y="22860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00120" y="385776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кольку АВ = А₁В₁, АС = А₁С₁, то сторона АВ совместится со стороной А₁В₁, а сторона АС  - со стороной А₁С₁, в точности совместятся точки В и В₁, С и С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5"/>
          <p:cNvSpPr/>
          <p:nvPr/>
        </p:nvSpPr>
        <p:spPr>
          <a:xfrm>
            <a:off x="571680" y="285768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ак как  ∠А = ∠А₁, то треугольник АВС можно наложить на треугольник А₁В₁С₁ так, что вершина А совместится с вершиной А₁, а сторона АВ и АС наложатся соответственно на лучи А₁В₁ и А₁С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0"/>
          <p:cNvSpPr/>
          <p:nvPr/>
        </p:nvSpPr>
        <p:spPr>
          <a:xfrm>
            <a:off x="2071800" y="4857840"/>
            <a:ext cx="6572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ледовательно, совместятся стороны ВС и В₁С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треугольники АВС и А₁В₁С₁ полностью совместятся, значит ∆АВС = ∆А₁В₁С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1"/>
          <p:cNvSpPr/>
          <p:nvPr/>
        </p:nvSpPr>
        <p:spPr>
          <a:xfrm>
            <a:off x="3124080" y="6072120"/>
            <a:ext cx="28958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116000" y="549360"/>
            <a:ext cx="63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перь попробуй решить задачи, используя первый    признак равенства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900000" y="134136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403280" y="1700280"/>
            <a:ext cx="208908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11888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258920" y="13413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348000" y="134136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419640" y="2924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4211640" y="1341360"/>
            <a:ext cx="364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ВС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: ∆АВС = ∆А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1"/>
          <p:cNvSpPr/>
          <p:nvPr/>
        </p:nvSpPr>
        <p:spPr>
          <a:xfrm flipV="1">
            <a:off x="1403280" y="1709640"/>
            <a:ext cx="2121120" cy="12146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1619280" y="263700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2987640" y="162864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4150080" y="2276640"/>
            <a:ext cx="40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им на чертеже равные элемент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Дуга 17"/>
          <p:cNvSpPr/>
          <p:nvPr/>
        </p:nvSpPr>
        <p:spPr>
          <a:xfrm>
            <a:off x="900000" y="2637000"/>
            <a:ext cx="1368360" cy="792000"/>
          </a:xfrm>
          <a:custGeom>
            <a:avLst/>
            <a:gdLst/>
            <a:ahLst/>
            <a:rect l="l" t="t" r="r" b="b"/>
            <a:pathLst>
              <a:path stroke="0" w="1368425" h="792162">
                <a:moveTo>
                  <a:pt x="985568" y="40487"/>
                </a:moveTo>
                <a:cubicBezTo>
                  <a:pt x="1154335" y="88416"/>
                  <a:pt x="1281604" y="174429"/>
                  <a:pt x="1337490" y="278329"/>
                </a:cubicBezTo>
                <a:lnTo>
                  <a:pt x="684213" y="396081"/>
                </a:lnTo>
                <a:lnTo>
                  <a:pt x="985568" y="40487"/>
                </a:lnTo>
                <a:close/>
              </a:path>
              <a:path fill="none" w="1368425" h="792162">
                <a:moveTo>
                  <a:pt x="985568" y="40487"/>
                </a:moveTo>
                <a:cubicBezTo>
                  <a:pt x="1154335" y="88416"/>
                  <a:pt x="1281604" y="174429"/>
                  <a:pt x="1337490" y="278329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Дуга 18"/>
          <p:cNvSpPr/>
          <p:nvPr/>
        </p:nvSpPr>
        <p:spPr>
          <a:xfrm>
            <a:off x="2843280" y="162864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413" y="437762"/>
                </a:moveTo>
                <a:cubicBezTo>
                  <a:pt x="6444" y="296041"/>
                  <a:pt x="77914" y="165146"/>
                  <a:pt x="193874" y="83447"/>
                </a:cubicBezTo>
                <a:lnTo>
                  <a:pt x="457200" y="457200"/>
                </a:lnTo>
                <a:lnTo>
                  <a:pt x="413" y="437762"/>
                </a:lnTo>
                <a:close/>
              </a:path>
              <a:path fill="none" w="914400" h="914400">
                <a:moveTo>
                  <a:pt x="413" y="437762"/>
                </a:moveTo>
                <a:cubicBezTo>
                  <a:pt x="6444" y="296041"/>
                  <a:pt x="77914" y="165146"/>
                  <a:pt x="193874" y="83447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0"/>
          <p:cNvSpPr/>
          <p:nvPr/>
        </p:nvSpPr>
        <p:spPr>
          <a:xfrm flipH="1">
            <a:off x="2124000" y="1557360"/>
            <a:ext cx="216000" cy="216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2"/>
          <p:cNvSpPr/>
          <p:nvPr/>
        </p:nvSpPr>
        <p:spPr>
          <a:xfrm flipH="1">
            <a:off x="2771640" y="2781360"/>
            <a:ext cx="216000" cy="2160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3059280" y="321300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2340000" y="364500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∆АВС и ∆А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5"/>
          <p:cNvSpPr/>
          <p:nvPr/>
        </p:nvSpPr>
        <p:spPr>
          <a:xfrm>
            <a:off x="755640" y="4005360"/>
            <a:ext cx="755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пишем пары равных элементов, которые нам известны из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по услов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( по услов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6"/>
          <p:cNvSpPr/>
          <p:nvPr/>
        </p:nvSpPr>
        <p:spPr>
          <a:xfrm>
            <a:off x="2455560" y="5084640"/>
            <a:ext cx="470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ает еще одного равного эле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 к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рилежит сторона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общая для этих двух треуг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1979640" y="486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С - об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9"/>
          <p:cNvSpPr/>
          <p:nvPr/>
        </p:nvSpPr>
        <p:spPr>
          <a:xfrm>
            <a:off x="493236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5148360" y="443700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⇒∆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= ∆А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 перв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Скругленная соединительная линия 36"/>
          <p:cNvCxnSpPr/>
          <p:nvPr/>
        </p:nvCxnSpPr>
        <p:spPr>
          <a:xfrm flipH="1" flipV="1" rot="5400000">
            <a:off x="2338560" y="2131560"/>
            <a:ext cx="432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28440">
            <a:solidFill>
              <a:srgbClr val="f79646"/>
            </a:solidFill>
            <a:miter/>
          </a:ln>
        </p:spPr>
      </p:cxnSp>
      <p:sp>
        <p:nvSpPr>
          <p:cNvPr id="144" name="Нижний колонтитул 1"/>
          <p:cNvSpPr/>
          <p:nvPr/>
        </p:nvSpPr>
        <p:spPr>
          <a:xfrm>
            <a:off x="3124080" y="617688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Фон презентация - Электронные учебники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902520" y="7650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араллелограмм 3"/>
          <p:cNvSpPr/>
          <p:nvPr/>
        </p:nvSpPr>
        <p:spPr>
          <a:xfrm>
            <a:off x="1332000" y="1341360"/>
            <a:ext cx="2008080" cy="1224000"/>
          </a:xfrm>
          <a:prstGeom prst="parallelogram">
            <a:avLst>
              <a:gd name="adj" fmla="val 46005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5"/>
          <p:cNvSpPr/>
          <p:nvPr/>
        </p:nvSpPr>
        <p:spPr>
          <a:xfrm flipV="1">
            <a:off x="1332000" y="1341360"/>
            <a:ext cx="2016000" cy="122400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900000" y="234936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1763640" y="105264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3203640" y="1052640"/>
            <a:ext cx="4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77164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1476360" y="20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1619280" y="22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102200" y="86040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∆МРО и ∆М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; МР = М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: ∆МРО = ∆М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684360" y="365040"/>
            <a:ext cx="54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пробуй выполнить эти задачи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971640" y="299736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∆АОВ и ∆Р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= ОК; ВО = 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: ∆АОВ = ∆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4" descr=""/>
          <p:cNvPicPr/>
          <p:nvPr/>
        </p:nvPicPr>
        <p:blipFill>
          <a:blip r:embed="rId2"/>
          <a:srcRect l="12597" t="8398" r="55909" b="51711"/>
          <a:stretch/>
        </p:blipFill>
        <p:spPr>
          <a:xfrm>
            <a:off x="5008680" y="2852640"/>
            <a:ext cx="2301840" cy="21859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050920" y="4775040"/>
            <a:ext cx="62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тебе правильно решить задачу. вспомни,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ываются углы </a:t>
            </a: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В и </a:t>
            </a: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К и каким свойством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лад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1"/>
          <p:cNvSpPr/>
          <p:nvPr/>
        </p:nvSpPr>
        <p:spPr>
          <a:xfrm>
            <a:off x="3124080" y="5975280"/>
            <a:ext cx="2895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очкова Ири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6:05:40Z</dcterms:created>
  <dc:creator>pc</dc:creator>
  <dc:description/>
  <dc:language>en-US</dc:language>
  <cp:lastModifiedBy>Ольга Владимировна</cp:lastModifiedBy>
  <dcterms:modified xsi:type="dcterms:W3CDTF">2019-11-20T12:43:45Z</dcterms:modified>
  <cp:revision>37</cp:revision>
  <dc:subject/>
  <dc:title>Слайд 1</dc:title>
</cp:coreProperties>
</file>