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CCA6-13BD-45D5-9FCC-287BA6DCF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654F-54D8-4301-9953-722CCAFC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8BED-F11C-4D96-B85A-0E3E996B9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9478-F709-4891-84A0-77B7CDF07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D9E5-4B88-4F84-BF65-B5323BED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F3B7-41A8-4C88-9885-C2D62689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920D-3235-438E-953C-FBFAF28A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B80E-E3DC-460A-8E25-1519F5F0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1EFE-CB33-4B0D-9999-B05F0C4F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4158-68F6-4690-8275-9180C949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0CD8-D3BE-49FE-86B9-C454F7FE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1942-0B49-4A9B-8C53-0A6FB6BE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C0F7-392E-491B-B43C-A931716188C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трочкова Ирина Владими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FF43-C117-4E0E-B2B6-156A1321FD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s://multiurok.ru/files/priezientatsiia-po-matiematikie-dlia-3-klassa-na-tiemu-poriadok-vypolnieniia-dieistviia-skobki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Фон презентация - Электронные учебн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079640" y="2090880"/>
            <a:ext cx="69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К УРОКУ геометрии ПО ТЕ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ЕРВЫЙ ПРИЗНАК РАВЕНСТВА ТРЕУГОЛЬНИК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Нижний колонтитул 1"/>
          <p:cNvSpPr/>
          <p:nvPr/>
        </p:nvSpPr>
        <p:spPr>
          <a:xfrm>
            <a:off x="3124080" y="5950080"/>
            <a:ext cx="289584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трочкова Ирина Владими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1" descr="Фон презентация - Электронные учебн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2"/>
          <p:cNvSpPr/>
          <p:nvPr/>
        </p:nvSpPr>
        <p:spPr>
          <a:xfrm>
            <a:off x="755640" y="765000"/>
            <a:ext cx="8231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улируй первый признак равенства треуголь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равных элементов нужно найти в треугольниках, что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ь, что они равн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755640" y="249228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лодец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ты хорошо постарался: познакомился с первым призна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енства треугольников и научился решать задачи, используя данный призна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Нижний колонтитул 1"/>
          <p:cNvSpPr/>
          <p:nvPr/>
        </p:nvSpPr>
        <p:spPr>
          <a:xfrm>
            <a:off x="3124080" y="6093000"/>
            <a:ext cx="28958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трочкова Ирина Владими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2"/>
          <p:cNvSpPr/>
          <p:nvPr/>
        </p:nvSpPr>
        <p:spPr>
          <a:xfrm>
            <a:off x="539640" y="836640"/>
            <a:ext cx="820908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люстр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 презентации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s://multiurok.ru/files/priezientatsiia-po-matiematikie-dlia-3-klassa-na-tiemu-poriadok-vypolnieniia-dieistviia-skobki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Нижний колонтитул 1"/>
          <p:cNvSpPr/>
          <p:nvPr/>
        </p:nvSpPr>
        <p:spPr>
          <a:xfrm>
            <a:off x="3124080" y="6021360"/>
            <a:ext cx="28958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трочкова Ирина Владими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Фон презентация - Электронные учебн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611280" y="476280"/>
            <a:ext cx="768168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 ты сегодня должен научиться на уро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674640" y="1197000"/>
            <a:ext cx="7826400" cy="47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Lucida Sans Unicode"/>
                <a:ea typeface="Lucida Sans Unicode"/>
              </a:rPr>
              <a:t>☻</a:t>
            </a:r>
            <a:r>
              <a:rPr b="0" lang="ru-RU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ь смысл слов «теорема» и «доказательство теорем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улировать и доказать первый признак равенства треуголь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ся решать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Нижний колонтитул 1"/>
          <p:cNvSpPr/>
          <p:nvPr/>
        </p:nvSpPr>
        <p:spPr>
          <a:xfrm>
            <a:off x="3124080" y="6021360"/>
            <a:ext cx="28958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трочкова Ирина Владими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Фон презентация - Электронные учебн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320760" y="382680"/>
            <a:ext cx="864396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ты думаешь, какие два треугольника называются равны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пределени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треугольника называются равными,  ес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три угла одного треугольника равны трем углам другого треугольника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три стороны одного треугольника равны тр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енным сторонам другого треугольника.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пределе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тороны, которые заключены между равным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ами, называются соответствен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Равнобедренный треугольник 3"/>
          <p:cNvSpPr/>
          <p:nvPr/>
        </p:nvSpPr>
        <p:spPr>
          <a:xfrm>
            <a:off x="1908000" y="3500280"/>
            <a:ext cx="2519640" cy="865440"/>
          </a:xfrm>
          <a:prstGeom prst="triangle">
            <a:avLst>
              <a:gd name="adj" fmla="val 65495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Равнобедренный треугольник 4"/>
          <p:cNvSpPr/>
          <p:nvPr/>
        </p:nvSpPr>
        <p:spPr>
          <a:xfrm>
            <a:off x="5003640" y="3500280"/>
            <a:ext cx="2502000" cy="865440"/>
          </a:xfrm>
          <a:prstGeom prst="triangle">
            <a:avLst>
              <a:gd name="adj" fmla="val 65236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1763640" y="4365720"/>
            <a:ext cx="4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3419640" y="3213000"/>
            <a:ext cx="4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4284720" y="429264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4859280" y="429264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6443640" y="321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7524720" y="4292640"/>
            <a:ext cx="3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Дуга 11"/>
          <p:cNvSpPr/>
          <p:nvPr/>
        </p:nvSpPr>
        <p:spPr>
          <a:xfrm>
            <a:off x="2050920" y="4076640"/>
            <a:ext cx="505080" cy="504720"/>
          </a:xfrm>
          <a:custGeom>
            <a:avLst/>
            <a:gdLst/>
            <a:ahLst/>
            <a:rect l="l" t="t" r="r" b="b"/>
            <a:pathLst>
              <a:path stroke="0" w="504825" h="504825">
                <a:moveTo>
                  <a:pt x="359571" y="23876"/>
                </a:moveTo>
                <a:cubicBezTo>
                  <a:pt x="459873" y="70907"/>
                  <a:pt x="517787" y="177842"/>
                  <a:pt x="502368" y="287545"/>
                </a:cubicBezTo>
                <a:lnTo>
                  <a:pt x="252413" y="252413"/>
                </a:lnTo>
                <a:lnTo>
                  <a:pt x="359571" y="23876"/>
                </a:lnTo>
                <a:close/>
              </a:path>
              <a:path fill="none" w="504825" h="504825">
                <a:moveTo>
                  <a:pt x="359571" y="23876"/>
                </a:moveTo>
                <a:cubicBezTo>
                  <a:pt x="459873" y="70907"/>
                  <a:pt x="517787" y="177842"/>
                  <a:pt x="502368" y="287545"/>
                </a:cubicBezTo>
              </a:path>
            </a:pathLst>
          </a:custGeom>
          <a:noFill/>
          <a:ln w="7632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Дуга 12"/>
          <p:cNvSpPr/>
          <p:nvPr/>
        </p:nvSpPr>
        <p:spPr>
          <a:xfrm>
            <a:off x="4859280" y="4076640"/>
            <a:ext cx="792360" cy="576360"/>
          </a:xfrm>
          <a:custGeom>
            <a:avLst/>
            <a:gdLst/>
            <a:ahLst/>
            <a:rect l="l" t="t" r="r" b="b"/>
            <a:pathLst>
              <a:path stroke="0" w="792162" h="576263">
                <a:moveTo>
                  <a:pt x="607897" y="44663"/>
                </a:moveTo>
                <a:cubicBezTo>
                  <a:pt x="745620" y="108070"/>
                  <a:pt x="815888" y="226377"/>
                  <a:pt x="784970" y="342790"/>
                </a:cubicBezTo>
                <a:lnTo>
                  <a:pt x="396081" y="288132"/>
                </a:lnTo>
                <a:lnTo>
                  <a:pt x="607897" y="44663"/>
                </a:lnTo>
                <a:close/>
              </a:path>
              <a:path fill="none" w="792162" h="576263">
                <a:moveTo>
                  <a:pt x="607897" y="44663"/>
                </a:moveTo>
                <a:cubicBezTo>
                  <a:pt x="745620" y="108070"/>
                  <a:pt x="815888" y="226377"/>
                  <a:pt x="784970" y="342790"/>
                </a:cubicBezTo>
              </a:path>
            </a:pathLst>
          </a:custGeom>
          <a:noFill/>
          <a:ln w="7632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Дуга 13"/>
          <p:cNvSpPr/>
          <p:nvPr/>
        </p:nvSpPr>
        <p:spPr>
          <a:xfrm>
            <a:off x="3708360" y="3933720"/>
            <a:ext cx="914400" cy="914400"/>
          </a:xfrm>
          <a:custGeom>
            <a:avLst/>
            <a:gdLst/>
            <a:ahLst/>
            <a:rect l="l" t="t" r="r" b="b"/>
            <a:pathLst>
              <a:path stroke="0" w="914400" h="914400">
                <a:moveTo>
                  <a:pt x="1494" y="420274"/>
                </a:moveTo>
                <a:cubicBezTo>
                  <a:pt x="16132" y="239618"/>
                  <a:pt x="136107" y="84665"/>
                  <a:pt x="307343" y="25257"/>
                </a:cubicBezTo>
                <a:lnTo>
                  <a:pt x="457200" y="457200"/>
                </a:lnTo>
                <a:lnTo>
                  <a:pt x="1494" y="420274"/>
                </a:lnTo>
                <a:close/>
              </a:path>
              <a:path fill="none" w="914400" h="914400">
                <a:moveTo>
                  <a:pt x="1494" y="420274"/>
                </a:moveTo>
                <a:cubicBezTo>
                  <a:pt x="16132" y="239618"/>
                  <a:pt x="136107" y="84665"/>
                  <a:pt x="307343" y="25257"/>
                </a:cubicBez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Дуга 14"/>
          <p:cNvSpPr/>
          <p:nvPr/>
        </p:nvSpPr>
        <p:spPr>
          <a:xfrm>
            <a:off x="6732720" y="3933720"/>
            <a:ext cx="1800000" cy="1067040"/>
          </a:xfrm>
          <a:custGeom>
            <a:avLst/>
            <a:gdLst/>
            <a:ahLst/>
            <a:rect l="l" t="t" r="r" b="b"/>
            <a:pathLst>
              <a:path stroke="0" w="1800225" h="1066800">
                <a:moveTo>
                  <a:pt x="26436" y="405076"/>
                </a:moveTo>
                <a:cubicBezTo>
                  <a:pt x="83127" y="269537"/>
                  <a:pt x="227250" y="152576"/>
                  <a:pt x="427855" y="79312"/>
                </a:cubicBezTo>
                <a:lnTo>
                  <a:pt x="900113" y="533400"/>
                </a:lnTo>
                <a:lnTo>
                  <a:pt x="26436" y="405076"/>
                </a:lnTo>
                <a:close/>
              </a:path>
              <a:path fill="none" w="1800225" h="1066800">
                <a:moveTo>
                  <a:pt x="26436" y="405076"/>
                </a:moveTo>
                <a:cubicBezTo>
                  <a:pt x="83127" y="269537"/>
                  <a:pt x="227250" y="152576"/>
                  <a:pt x="427855" y="79312"/>
                </a:cubicBez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Дуга 15"/>
          <p:cNvSpPr/>
          <p:nvPr/>
        </p:nvSpPr>
        <p:spPr>
          <a:xfrm rot="1098600">
            <a:off x="3333600" y="3540240"/>
            <a:ext cx="570240" cy="237960"/>
          </a:xfrm>
          <a:custGeom>
            <a:avLst/>
            <a:gdLst/>
            <a:ahLst/>
            <a:rect l="l" t="t" r="r" b="b"/>
            <a:pathLst>
              <a:path stroke="0" w="569913" h="238125">
                <a:moveTo>
                  <a:pt x="545821" y="166976"/>
                </a:moveTo>
                <a:cubicBezTo>
                  <a:pt x="499861" y="210661"/>
                  <a:pt x="395917" y="238660"/>
                  <a:pt x="281716" y="238117"/>
                </a:cubicBezTo>
                <a:cubicBezTo>
                  <a:pt x="157675" y="237528"/>
                  <a:pt x="48797" y="203477"/>
                  <a:pt x="12483" y="153916"/>
                </a:cubicBezTo>
                <a:lnTo>
                  <a:pt x="284957" y="119063"/>
                </a:lnTo>
                <a:lnTo>
                  <a:pt x="545821" y="166976"/>
                </a:lnTo>
                <a:close/>
              </a:path>
              <a:path fill="none" w="569913" h="238125">
                <a:moveTo>
                  <a:pt x="545821" y="166976"/>
                </a:moveTo>
                <a:cubicBezTo>
                  <a:pt x="499861" y="210661"/>
                  <a:pt x="395917" y="238660"/>
                  <a:pt x="281716" y="238117"/>
                </a:cubicBezTo>
                <a:cubicBezTo>
                  <a:pt x="157675" y="237528"/>
                  <a:pt x="48797" y="203477"/>
                  <a:pt x="12483" y="15391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Дуга 16"/>
          <p:cNvSpPr/>
          <p:nvPr/>
        </p:nvSpPr>
        <p:spPr>
          <a:xfrm rot="1098600">
            <a:off x="6246360" y="2940120"/>
            <a:ext cx="933480" cy="868320"/>
          </a:xfrm>
          <a:custGeom>
            <a:avLst/>
            <a:gdLst/>
            <a:ahLst/>
            <a:rect l="l" t="t" r="r" b="b"/>
            <a:pathLst>
              <a:path stroke="0" w="933450" h="868363">
                <a:moveTo>
                  <a:pt x="776337" y="759076"/>
                </a:moveTo>
                <a:cubicBezTo>
                  <a:pt x="623777" y="884893"/>
                  <a:pt x="401085" y="904030"/>
                  <a:pt x="226331" y="806341"/>
                </a:cubicBezTo>
                <a:lnTo>
                  <a:pt x="466725" y="434182"/>
                </a:lnTo>
                <a:lnTo>
                  <a:pt x="776337" y="759076"/>
                </a:lnTo>
                <a:close/>
              </a:path>
              <a:path fill="none" w="933450" h="868363">
                <a:moveTo>
                  <a:pt x="776337" y="759076"/>
                </a:moveTo>
                <a:cubicBezTo>
                  <a:pt x="623777" y="884893"/>
                  <a:pt x="401085" y="904030"/>
                  <a:pt x="226331" y="806341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7"/>
          <p:cNvSpPr/>
          <p:nvPr/>
        </p:nvSpPr>
        <p:spPr>
          <a:xfrm>
            <a:off x="2050920" y="4724280"/>
            <a:ext cx="64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 = ∆МКР,   так как ( по определени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=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=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=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 = МК; ВС = КР;  АС = М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19"/>
          <p:cNvSpPr/>
          <p:nvPr/>
        </p:nvSpPr>
        <p:spPr>
          <a:xfrm>
            <a:off x="2700360" y="3789360"/>
            <a:ext cx="3589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21"/>
          <p:cNvSpPr/>
          <p:nvPr/>
        </p:nvSpPr>
        <p:spPr>
          <a:xfrm>
            <a:off x="5867280" y="3716280"/>
            <a:ext cx="289080" cy="21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23"/>
          <p:cNvSpPr/>
          <p:nvPr/>
        </p:nvSpPr>
        <p:spPr>
          <a:xfrm flipV="1">
            <a:off x="3780000" y="3789360"/>
            <a:ext cx="28728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25"/>
          <p:cNvSpPr/>
          <p:nvPr/>
        </p:nvSpPr>
        <p:spPr>
          <a:xfrm flipV="1">
            <a:off x="3851280" y="3860280"/>
            <a:ext cx="36036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30"/>
          <p:cNvSpPr/>
          <p:nvPr/>
        </p:nvSpPr>
        <p:spPr>
          <a:xfrm flipV="1">
            <a:off x="6804000" y="3789360"/>
            <a:ext cx="28908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32"/>
          <p:cNvSpPr/>
          <p:nvPr/>
        </p:nvSpPr>
        <p:spPr>
          <a:xfrm flipV="1">
            <a:off x="6875640" y="3860280"/>
            <a:ext cx="28872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35"/>
          <p:cNvSpPr/>
          <p:nvPr/>
        </p:nvSpPr>
        <p:spPr>
          <a:xfrm flipH="1">
            <a:off x="2842920" y="4221000"/>
            <a:ext cx="144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37"/>
          <p:cNvSpPr/>
          <p:nvPr/>
        </p:nvSpPr>
        <p:spPr>
          <a:xfrm flipH="1">
            <a:off x="2987280" y="4221000"/>
            <a:ext cx="144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39"/>
          <p:cNvSpPr/>
          <p:nvPr/>
        </p:nvSpPr>
        <p:spPr>
          <a:xfrm flipH="1">
            <a:off x="3132000" y="4221000"/>
            <a:ext cx="14472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43"/>
          <p:cNvSpPr/>
          <p:nvPr/>
        </p:nvSpPr>
        <p:spPr>
          <a:xfrm flipH="1">
            <a:off x="5867280" y="4149720"/>
            <a:ext cx="14472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45"/>
          <p:cNvSpPr/>
          <p:nvPr/>
        </p:nvSpPr>
        <p:spPr>
          <a:xfrm flipH="1">
            <a:off x="6011640" y="4149720"/>
            <a:ext cx="14436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47"/>
          <p:cNvSpPr/>
          <p:nvPr/>
        </p:nvSpPr>
        <p:spPr>
          <a:xfrm flipH="1">
            <a:off x="6156000" y="4149720"/>
            <a:ext cx="144360" cy="3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ижний колонтитул 1"/>
          <p:cNvSpPr/>
          <p:nvPr/>
        </p:nvSpPr>
        <p:spPr>
          <a:xfrm>
            <a:off x="3124080" y="6067440"/>
            <a:ext cx="289584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трочкова Ирина Владими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Фон презентация - Электронные учебн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Равнобедренный треугольник 2"/>
          <p:cNvSpPr/>
          <p:nvPr/>
        </p:nvSpPr>
        <p:spPr>
          <a:xfrm>
            <a:off x="1403280" y="620640"/>
            <a:ext cx="3384720" cy="2303640"/>
          </a:xfrm>
          <a:prstGeom prst="triangle">
            <a:avLst>
              <a:gd name="adj" fmla="val 32231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1046520" y="29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2340000" y="333360"/>
            <a:ext cx="33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4643280" y="2852640"/>
            <a:ext cx="3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3794760" y="517680"/>
            <a:ext cx="48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лежит сторона 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против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рилежат стороны АВ и 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ороны, исходящие из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1633680" y="2936880"/>
            <a:ext cx="727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буй назвать стороны, лежащие против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роны, прилежащие к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ь себ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 ∠В лежит сторона АС, против ∠С лежит сторона 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прилежат стороны АВ и В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рилежат стороны ВС и 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ижний колонтитул 1"/>
          <p:cNvSpPr/>
          <p:nvPr/>
        </p:nvSpPr>
        <p:spPr>
          <a:xfrm>
            <a:off x="3124080" y="6159600"/>
            <a:ext cx="28958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трочкова Ирина Владими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Фон презентация - Электронные учебн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684360" y="907920"/>
            <a:ext cx="7848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Теорем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реч . theorema, от theoreo - рассматриваю) , в математике - предложение (утверждение) , устанавливаемое при помощи цепочки рассуждений. Теорема обычно состоит из условия и заключ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если" - это условие (что дано), а после "то" – заключение (что нужно доказат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714240" y="3500280"/>
            <a:ext cx="785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оказательство теоремы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ассужд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ю которых устанавливается верность данной теор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ижний колонтитул 1"/>
          <p:cNvSpPr/>
          <p:nvPr/>
        </p:nvSpPr>
        <p:spPr>
          <a:xfrm>
            <a:off x="3124080" y="6093000"/>
            <a:ext cx="28958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трочкова Ирина Владими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Фон презентация - Электронные учебн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500040" y="476280"/>
            <a:ext cx="800100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93600" indent="-993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Теорема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: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ервый признак равенства                   треугольник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93600" indent="-993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две стороны и угол между ними одного треугольника соответственно равны двум сторонам и углу между ними другого треугольника, то такие треугольники рав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3600" indent="-993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3600" indent="-99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умай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т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м дано 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т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ужно док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ижний колонтитул 1"/>
          <p:cNvSpPr/>
          <p:nvPr/>
        </p:nvSpPr>
        <p:spPr>
          <a:xfrm>
            <a:off x="3124080" y="6021360"/>
            <a:ext cx="28958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трочкова Ирина Владими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1" descr="Фон презентация - Электронные учебн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Равнобедренный треугольник 2"/>
          <p:cNvSpPr/>
          <p:nvPr/>
        </p:nvSpPr>
        <p:spPr>
          <a:xfrm>
            <a:off x="826920" y="907920"/>
            <a:ext cx="1657440" cy="1441440"/>
          </a:xfrm>
          <a:prstGeom prst="triangle">
            <a:avLst>
              <a:gd name="adj" fmla="val 6438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Равнобедренный треугольник 3"/>
          <p:cNvSpPr/>
          <p:nvPr/>
        </p:nvSpPr>
        <p:spPr>
          <a:xfrm rot="5400000">
            <a:off x="2878560" y="1087920"/>
            <a:ext cx="1729080" cy="1368360"/>
          </a:xfrm>
          <a:prstGeom prst="triangle">
            <a:avLst>
              <a:gd name="adj" fmla="val 63778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684360" y="234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1692360" y="62064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2268360" y="2276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3003480" y="62064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2843280" y="2637000"/>
            <a:ext cx="4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4427640" y="184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5254200" y="69228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ано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АВС и ∆А₁В₁С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5786280" y="9288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=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Дуга 12"/>
          <p:cNvSpPr/>
          <p:nvPr/>
        </p:nvSpPr>
        <p:spPr>
          <a:xfrm>
            <a:off x="108000" y="2133720"/>
            <a:ext cx="1295280" cy="431640"/>
          </a:xfrm>
          <a:custGeom>
            <a:avLst/>
            <a:gdLst/>
            <a:ahLst/>
            <a:rect l="l" t="t" r="r" b="b"/>
            <a:pathLst>
              <a:path stroke="0" w="1295400" h="431800">
                <a:moveTo>
                  <a:pt x="854602" y="11312"/>
                </a:moveTo>
                <a:cubicBezTo>
                  <a:pt x="1118019" y="40912"/>
                  <a:pt x="1295400" y="123239"/>
                  <a:pt x="1295400" y="215900"/>
                </a:cubicBezTo>
                <a:lnTo>
                  <a:pt x="647700" y="215900"/>
                </a:lnTo>
                <a:lnTo>
                  <a:pt x="854602" y="11312"/>
                </a:lnTo>
                <a:close/>
              </a:path>
              <a:path fill="none" w="1295400" h="431800">
                <a:moveTo>
                  <a:pt x="854602" y="11312"/>
                </a:moveTo>
                <a:cubicBezTo>
                  <a:pt x="1118019" y="40912"/>
                  <a:pt x="1295400" y="123239"/>
                  <a:pt x="1295400" y="215900"/>
                </a:cubicBezTo>
              </a:path>
            </a:pathLst>
          </a:custGeom>
          <a:noFill/>
          <a:ln w="572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Дуга 13"/>
          <p:cNvSpPr/>
          <p:nvPr/>
        </p:nvSpPr>
        <p:spPr>
          <a:xfrm rot="2127000">
            <a:off x="2722320" y="725400"/>
            <a:ext cx="819000" cy="654120"/>
          </a:xfrm>
          <a:custGeom>
            <a:avLst/>
            <a:gdLst/>
            <a:ahLst/>
            <a:rect l="l" t="t" r="r" b="b"/>
            <a:pathLst>
              <a:path stroke="0" w="819150" h="654050">
                <a:moveTo>
                  <a:pt x="816843" y="292364"/>
                </a:moveTo>
                <a:cubicBezTo>
                  <a:pt x="837081" y="443963"/>
                  <a:pt x="723437" y="586615"/>
                  <a:pt x="542893" y="636241"/>
                </a:cubicBezTo>
                <a:lnTo>
                  <a:pt x="409575" y="327025"/>
                </a:lnTo>
                <a:lnTo>
                  <a:pt x="816843" y="292364"/>
                </a:lnTo>
                <a:close/>
              </a:path>
              <a:path fill="none" w="819150" h="654050">
                <a:moveTo>
                  <a:pt x="816843" y="292364"/>
                </a:moveTo>
                <a:cubicBezTo>
                  <a:pt x="837081" y="443963"/>
                  <a:pt x="723437" y="586615"/>
                  <a:pt x="542893" y="636241"/>
                </a:cubicBezTo>
              </a:path>
            </a:pathLst>
          </a:custGeom>
          <a:noFill/>
          <a:ln w="572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5786280" y="128592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 = А₁В₁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 = А₁С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16"/>
          <p:cNvSpPr/>
          <p:nvPr/>
        </p:nvSpPr>
        <p:spPr>
          <a:xfrm>
            <a:off x="1332000" y="1413000"/>
            <a:ext cx="144360" cy="2156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8"/>
          <p:cNvSpPr/>
          <p:nvPr/>
        </p:nvSpPr>
        <p:spPr>
          <a:xfrm flipH="1">
            <a:off x="3634920" y="1268280"/>
            <a:ext cx="73080" cy="28908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20"/>
          <p:cNvSpPr/>
          <p:nvPr/>
        </p:nvSpPr>
        <p:spPr>
          <a:xfrm flipH="1">
            <a:off x="1547640" y="2205000"/>
            <a:ext cx="144720" cy="2160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22"/>
          <p:cNvSpPr/>
          <p:nvPr/>
        </p:nvSpPr>
        <p:spPr>
          <a:xfrm flipH="1">
            <a:off x="1692000" y="2205000"/>
            <a:ext cx="142920" cy="2160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24"/>
          <p:cNvSpPr/>
          <p:nvPr/>
        </p:nvSpPr>
        <p:spPr>
          <a:xfrm flipH="1">
            <a:off x="2916360" y="1773360"/>
            <a:ext cx="287280" cy="7128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26"/>
          <p:cNvSpPr/>
          <p:nvPr/>
        </p:nvSpPr>
        <p:spPr>
          <a:xfrm flipH="1">
            <a:off x="2987280" y="1916280"/>
            <a:ext cx="289080" cy="727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7"/>
          <p:cNvSpPr/>
          <p:nvPr/>
        </p:nvSpPr>
        <p:spPr>
          <a:xfrm>
            <a:off x="5214960" y="1928880"/>
            <a:ext cx="31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казать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АВС = ∆А₁В₁С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8"/>
          <p:cNvSpPr/>
          <p:nvPr/>
        </p:nvSpPr>
        <p:spPr>
          <a:xfrm>
            <a:off x="3714840" y="228600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ельств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500120" y="3857760"/>
            <a:ext cx="721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скольку АВ = А₁В₁, АС = А₁С₁, то сторона АВ совместится со стороной А₁В₁, а сторона АС  - со стороной А₁С₁, в точности совместятся точки В и В₁, С и С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5"/>
          <p:cNvSpPr/>
          <p:nvPr/>
        </p:nvSpPr>
        <p:spPr>
          <a:xfrm>
            <a:off x="571680" y="285768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Так как  ∠А = ∠А₁, то треугольник АВС можно наложить на треугольник А₁В₁С₁ так, что вершина А совместится с вершиной А₁, а сторона АВ и АС наложатся соответственно на лучи А₁В₁ и А₁С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0"/>
          <p:cNvSpPr/>
          <p:nvPr/>
        </p:nvSpPr>
        <p:spPr>
          <a:xfrm>
            <a:off x="2071800" y="4857840"/>
            <a:ext cx="6572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ледовательно, совместятся стороны ВС и В₁С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к, треугольники АВС и А₁В₁С₁ полностью совместятся, значит ∆АВС = ∆А₁В₁С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ма доказ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ижний колонтитул 1"/>
          <p:cNvSpPr/>
          <p:nvPr/>
        </p:nvSpPr>
        <p:spPr>
          <a:xfrm>
            <a:off x="3124080" y="6072120"/>
            <a:ext cx="28958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трочкова Ирина Владими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1" descr="Фон презентация - Электронные учебн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2"/>
          <p:cNvSpPr/>
          <p:nvPr/>
        </p:nvSpPr>
        <p:spPr>
          <a:xfrm>
            <a:off x="1116000" y="549360"/>
            <a:ext cx="634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перь попробуй решить задачи, используя первый    признак равенства треуг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900000" y="1341360"/>
            <a:ext cx="4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4"/>
          <p:cNvSpPr/>
          <p:nvPr/>
        </p:nvSpPr>
        <p:spPr>
          <a:xfrm>
            <a:off x="1403280" y="1700280"/>
            <a:ext cx="2089080" cy="12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1118880" y="29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1258920" y="134136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3348000" y="1341360"/>
            <a:ext cx="3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419640" y="292428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4211640" y="1341360"/>
            <a:ext cx="364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 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ВС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=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ь: ∆АВС = ∆А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11"/>
          <p:cNvSpPr/>
          <p:nvPr/>
        </p:nvSpPr>
        <p:spPr>
          <a:xfrm flipV="1">
            <a:off x="1403280" y="1709640"/>
            <a:ext cx="2121120" cy="121464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4"/>
          <p:cNvSpPr/>
          <p:nvPr/>
        </p:nvSpPr>
        <p:spPr>
          <a:xfrm>
            <a:off x="1619280" y="2637000"/>
            <a:ext cx="10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5"/>
          <p:cNvSpPr/>
          <p:nvPr/>
        </p:nvSpPr>
        <p:spPr>
          <a:xfrm>
            <a:off x="2987640" y="162864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6"/>
          <p:cNvSpPr/>
          <p:nvPr/>
        </p:nvSpPr>
        <p:spPr>
          <a:xfrm>
            <a:off x="4150080" y="2276640"/>
            <a:ext cx="400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тим на чертеже равные элемент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Дуга 17"/>
          <p:cNvSpPr/>
          <p:nvPr/>
        </p:nvSpPr>
        <p:spPr>
          <a:xfrm>
            <a:off x="900000" y="2637000"/>
            <a:ext cx="1368360" cy="792000"/>
          </a:xfrm>
          <a:custGeom>
            <a:avLst/>
            <a:gdLst/>
            <a:ahLst/>
            <a:rect l="l" t="t" r="r" b="b"/>
            <a:pathLst>
              <a:path stroke="0" w="1368425" h="792162">
                <a:moveTo>
                  <a:pt x="985568" y="40487"/>
                </a:moveTo>
                <a:cubicBezTo>
                  <a:pt x="1154335" y="88416"/>
                  <a:pt x="1281604" y="174429"/>
                  <a:pt x="1337490" y="278329"/>
                </a:cubicBezTo>
                <a:lnTo>
                  <a:pt x="684213" y="396081"/>
                </a:lnTo>
                <a:lnTo>
                  <a:pt x="985568" y="40487"/>
                </a:lnTo>
                <a:close/>
              </a:path>
              <a:path fill="none" w="1368425" h="792162">
                <a:moveTo>
                  <a:pt x="985568" y="40487"/>
                </a:moveTo>
                <a:cubicBezTo>
                  <a:pt x="1154335" y="88416"/>
                  <a:pt x="1281604" y="174429"/>
                  <a:pt x="1337490" y="278329"/>
                </a:cubicBezTo>
              </a:path>
            </a:pathLst>
          </a:custGeom>
          <a:noFill/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Дуга 18"/>
          <p:cNvSpPr/>
          <p:nvPr/>
        </p:nvSpPr>
        <p:spPr>
          <a:xfrm>
            <a:off x="2843280" y="1628640"/>
            <a:ext cx="914400" cy="914400"/>
          </a:xfrm>
          <a:custGeom>
            <a:avLst/>
            <a:gdLst/>
            <a:ahLst/>
            <a:rect l="l" t="t" r="r" b="b"/>
            <a:pathLst>
              <a:path stroke="0" w="914400" h="914400">
                <a:moveTo>
                  <a:pt x="413" y="437762"/>
                </a:moveTo>
                <a:cubicBezTo>
                  <a:pt x="6444" y="296041"/>
                  <a:pt x="77914" y="165146"/>
                  <a:pt x="193874" y="83447"/>
                </a:cubicBezTo>
                <a:lnTo>
                  <a:pt x="457200" y="457200"/>
                </a:lnTo>
                <a:lnTo>
                  <a:pt x="413" y="437762"/>
                </a:lnTo>
                <a:close/>
              </a:path>
              <a:path fill="none" w="914400" h="914400">
                <a:moveTo>
                  <a:pt x="413" y="437762"/>
                </a:moveTo>
                <a:cubicBezTo>
                  <a:pt x="6444" y="296041"/>
                  <a:pt x="77914" y="165146"/>
                  <a:pt x="193874" y="83447"/>
                </a:cubicBezTo>
              </a:path>
            </a:pathLst>
          </a:custGeom>
          <a:noFill/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20"/>
          <p:cNvSpPr/>
          <p:nvPr/>
        </p:nvSpPr>
        <p:spPr>
          <a:xfrm flipH="1">
            <a:off x="2124000" y="1557360"/>
            <a:ext cx="216000" cy="2160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22"/>
          <p:cNvSpPr/>
          <p:nvPr/>
        </p:nvSpPr>
        <p:spPr>
          <a:xfrm flipH="1">
            <a:off x="2771640" y="2781360"/>
            <a:ext cx="216000" cy="2160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3"/>
          <p:cNvSpPr/>
          <p:nvPr/>
        </p:nvSpPr>
        <p:spPr>
          <a:xfrm>
            <a:off x="3059280" y="321300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ельств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4"/>
          <p:cNvSpPr/>
          <p:nvPr/>
        </p:nvSpPr>
        <p:spPr>
          <a:xfrm>
            <a:off x="2340000" y="3645000"/>
            <a:ext cx="30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м ∆АВС и ∆А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5"/>
          <p:cNvSpPr/>
          <p:nvPr/>
        </p:nvSpPr>
        <p:spPr>
          <a:xfrm>
            <a:off x="755640" y="4005360"/>
            <a:ext cx="755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ыпишем пары равных элементов, которые нам известны из усло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=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( по услови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( по услови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6"/>
          <p:cNvSpPr/>
          <p:nvPr/>
        </p:nvSpPr>
        <p:spPr>
          <a:xfrm>
            <a:off x="2455560" y="5084640"/>
            <a:ext cx="470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хватает еще одного равного элеме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 к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и к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прилежит сторона 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общая для этих двух треугольни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7"/>
          <p:cNvSpPr/>
          <p:nvPr/>
        </p:nvSpPr>
        <p:spPr>
          <a:xfrm>
            <a:off x="1979640" y="4869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АС - об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29"/>
          <p:cNvSpPr/>
          <p:nvPr/>
        </p:nvSpPr>
        <p:spPr>
          <a:xfrm>
            <a:off x="4932360" y="436572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0"/>
          <p:cNvSpPr/>
          <p:nvPr/>
        </p:nvSpPr>
        <p:spPr>
          <a:xfrm>
            <a:off x="5148360" y="4437000"/>
            <a:ext cx="363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⇒∆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 = ∆АС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по перв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Скругленная соединительная линия 36"/>
          <p:cNvCxnSpPr/>
          <p:nvPr/>
        </p:nvCxnSpPr>
        <p:spPr>
          <a:xfrm flipH="1" flipV="1" rot="5400000">
            <a:off x="2338560" y="2131560"/>
            <a:ext cx="432360" cy="289440"/>
          </a:xfrm>
          <a:prstGeom prst="curvedConnector5">
            <a:avLst>
              <a:gd name="adj1" fmla="val 50000"/>
              <a:gd name="adj2" fmla="val 49937"/>
              <a:gd name="adj3" fmla="val 50000"/>
            </a:avLst>
          </a:prstGeom>
          <a:ln w="28440">
            <a:solidFill>
              <a:srgbClr val="f79646"/>
            </a:solidFill>
            <a:miter/>
          </a:ln>
        </p:spPr>
      </p:cxnSp>
      <p:sp>
        <p:nvSpPr>
          <p:cNvPr id="144" name="Нижний колонтитул 1"/>
          <p:cNvSpPr/>
          <p:nvPr/>
        </p:nvSpPr>
        <p:spPr>
          <a:xfrm>
            <a:off x="3124080" y="6176880"/>
            <a:ext cx="2895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трочкова Ирина Владими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1" descr="Фон презентация - Электронные учебники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"/>
          <p:cNvSpPr/>
          <p:nvPr/>
        </p:nvSpPr>
        <p:spPr>
          <a:xfrm>
            <a:off x="902520" y="7650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араллелограмм 3"/>
          <p:cNvSpPr/>
          <p:nvPr/>
        </p:nvSpPr>
        <p:spPr>
          <a:xfrm>
            <a:off x="1332000" y="1341360"/>
            <a:ext cx="2008080" cy="1224000"/>
          </a:xfrm>
          <a:prstGeom prst="parallelogram">
            <a:avLst>
              <a:gd name="adj" fmla="val 46005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5"/>
          <p:cNvSpPr/>
          <p:nvPr/>
        </p:nvSpPr>
        <p:spPr>
          <a:xfrm flipV="1">
            <a:off x="1332000" y="1341360"/>
            <a:ext cx="2016000" cy="122400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900000" y="2349360"/>
            <a:ext cx="4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7"/>
          <p:cNvSpPr/>
          <p:nvPr/>
        </p:nvSpPr>
        <p:spPr>
          <a:xfrm>
            <a:off x="1763640" y="105264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3203640" y="1052640"/>
            <a:ext cx="43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9"/>
          <p:cNvSpPr/>
          <p:nvPr/>
        </p:nvSpPr>
        <p:spPr>
          <a:xfrm>
            <a:off x="2771640" y="234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1"/>
          <p:cNvSpPr/>
          <p:nvPr/>
        </p:nvSpPr>
        <p:spPr>
          <a:xfrm>
            <a:off x="1476360" y="2060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2"/>
          <p:cNvSpPr/>
          <p:nvPr/>
        </p:nvSpPr>
        <p:spPr>
          <a:xfrm>
            <a:off x="1619280" y="227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3"/>
          <p:cNvSpPr/>
          <p:nvPr/>
        </p:nvSpPr>
        <p:spPr>
          <a:xfrm>
            <a:off x="4102200" y="860400"/>
            <a:ext cx="43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 ∆МРО и ∆МК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=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; МР = М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ь: ∆МРО = ∆М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4"/>
          <p:cNvSpPr/>
          <p:nvPr/>
        </p:nvSpPr>
        <p:spPr>
          <a:xfrm>
            <a:off x="684360" y="365040"/>
            <a:ext cx="547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пробуй выполнить эти задачи самостоя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"/>
          <p:cNvSpPr/>
          <p:nvPr/>
        </p:nvSpPr>
        <p:spPr>
          <a:xfrm>
            <a:off x="971640" y="299736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 ∆АОВ и ∆Р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 = ОК; ВО = 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ь: ∆АОВ = ∆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4" descr=""/>
          <p:cNvPicPr/>
          <p:nvPr/>
        </p:nvPicPr>
        <p:blipFill>
          <a:blip r:embed="rId2"/>
          <a:srcRect l="12597" t="8398" r="55909" b="51711"/>
          <a:stretch/>
        </p:blipFill>
        <p:spPr>
          <a:xfrm>
            <a:off x="5008680" y="2852640"/>
            <a:ext cx="2301840" cy="218592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6"/>
          <p:cNvSpPr/>
          <p:nvPr/>
        </p:nvSpPr>
        <p:spPr>
          <a:xfrm>
            <a:off x="2050920" y="4775040"/>
            <a:ext cx="626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бы тебе правильно решить задачу. вспомни,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зываются углы </a:t>
            </a:r>
            <a:r>
              <a:rPr b="1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ОВ и </a:t>
            </a:r>
            <a:r>
              <a:rPr b="1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К и каким свойством о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лад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Нижний колонтитул 1"/>
          <p:cNvSpPr/>
          <p:nvPr/>
        </p:nvSpPr>
        <p:spPr>
          <a:xfrm>
            <a:off x="3124080" y="5975280"/>
            <a:ext cx="28958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трочкова Ирина Владими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0T16:05:40Z</dcterms:created>
  <dc:creator>pc</dc:creator>
  <dc:description/>
  <dc:language>en-US</dc:language>
  <cp:lastModifiedBy>Ольга Владимировна</cp:lastModifiedBy>
  <dcterms:modified xsi:type="dcterms:W3CDTF">2019-11-20T12:43:45Z</dcterms:modified>
  <cp:revision>37</cp:revision>
  <dc:subject/>
  <dc:title>Слайд 1</dc:title>
</cp:coreProperties>
</file>