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244-6D14-47E7-8727-2BF8A04B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BA2-C499-4D9E-83BD-09E6A324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F06-8DE2-4896-8923-CC05E3A7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55D-2736-4C50-8282-2534D5DA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BED8-A4E9-4ABA-9078-54F9B517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D64B-9203-48AD-AE8C-98E672CD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6FFA-4593-4CA8-966C-8395B42F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03D6-35D2-415D-B55B-022D93B4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DB3D-FAD9-4FC2-BE80-8DB0EA66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A819-28CD-4E92-81DC-C156DE84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8CF1-B1DF-4218-B748-469C6C3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949-C0A8-4114-9268-056A655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6D09-0219-4BDB-8C7C-A0A6ACBE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C1BD-E7D8-41F1-84FE-6562D368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099A-B77A-472D-872E-D198840B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D935-6533-4777-84D1-BB7E36B8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C3C-2868-4186-8D51-EE7F6F9D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F5EA9-112B-4533-91FE-4C64E631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5C8DF-50AA-4069-B666-82679CA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E6487-33D5-4427-9054-375CBF31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696B8-9E68-430E-B14D-A6A8E596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43113-6C25-47AA-81E5-069EA2B6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E5F-2BDF-4260-96C3-C8BB7681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40D29-C0E7-40D5-8F48-A4E1178F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506F0-A8B5-43CA-AE26-6F87AEC6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0FB12-0DFC-434C-8F22-DD51104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9731F-D972-4097-BE5E-F1CDF33A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99F15-60CF-4B8B-A924-D9EF96CD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FD696-4107-415B-8C28-D49A27FC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A0D06-F386-4BB6-9B43-ECB1A164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214B-CC7A-40AB-9D7B-2CACC763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730B-B39A-4E43-A2DF-3EA90819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B7B7F-FA3F-4DAA-AEA7-7AFCF2C5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D21-EF50-4B43-BC0C-854F596B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443F5-98D0-45AE-9193-8A339C99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0079-E3F2-4181-B6BE-8CB2567C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0ADE-4FBE-4ECB-94DE-9F040A88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89B8-9193-4321-9CBE-8F12F57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0EFE-8D4C-45F7-BC64-179258B3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A297-282B-45E0-93E2-1795EC70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0BB5-EFA5-4698-ABDA-2D10C617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BEE9-A9C4-4BDB-8C23-3AF9DCCC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67696-59EF-4E0C-8300-2CF0C477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1A4BF-4C90-4548-922C-722D53B1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90A-386B-48EC-B29B-A17A330D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D0CF5-0CD1-4C57-8BE7-4EA8A10B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A70BF-96AA-48D6-947F-A98239BD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5C394-CF72-4BA4-908F-D5743091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3747C-036E-4B92-A118-649BA5E1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0D42E-A099-4693-BA86-FB903B81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E271A-71A4-47CE-A79A-A8506E8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4F162-A497-48FE-8EC9-9D5C86C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12A9F-1EA8-4597-9FA7-9149C288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F436F-D437-4BCB-B1DD-BB4F2517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4ABBD-BDDA-4178-8E99-4009EF28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984-B3BD-4550-AE69-84033106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45244-92B6-452B-A1CE-4EBA4672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D68B2-69CD-4D11-A2DC-B83FB95F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05997-1094-497E-9658-F692A106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6CB13-838C-4D1D-BD7E-1C331926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D4991-BDD1-4593-81B2-E05964D8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DED37-BFF8-4BB2-BE77-E6BA854A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217E9-8C86-4D43-AF2F-AE226D9A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D29AD-24EA-481E-90CE-9646EFBA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1F7DA-B068-4E29-B7EA-19FD773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F026E-08FE-4875-8BE6-ABF7682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6D4-F6A3-4131-BCDA-15602B98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26192-24B5-4D8A-9721-7242032E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0B07E-C7DD-4AA5-8FAE-E2156970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BE8CE-60AF-44D6-A67E-01042DA1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C885C-5D18-443B-9F6E-9C6C35C3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87D85-FCEA-45C7-9A0E-EEE919AC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D4779-BCBA-4CC8-988F-41AC9063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23CB1A-C30F-420A-9C06-5D31C617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23944-20C3-4C63-8ECA-96F7A962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95C1A-6572-46EE-B1E7-E030A30B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DB559-573B-4364-B383-A454F639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175-3781-4183-BA46-2D45C69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250C5-9A45-49CE-A338-6A84C733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D06EF-5F57-4B6B-B165-42CEC34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4FDCB-093F-4143-B3A1-94B5B5D4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26439-F405-4915-A1C1-44830FBD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02FE1-29AF-46CC-AC15-4476F2D8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FA5-BCD1-4088-A5FA-66A9009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6F08-048E-414C-9B90-13CAB712C9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9CA2-DF73-4FDB-895F-13359697761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E6B4-6B8D-43B5-9E49-5099744704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F570-C1C3-4503-98DF-F019E6C4D0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EC4-0815-4377-AD68-0A41448E69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0AB-3765-470B-B4CA-4C95DA1FBA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3CAE-2388-4D47-AFB0-E16D8CA231F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ЗДОРОВЫЙ ОБРАЗ ЖИЗН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Чтобы уменьшить вред от любой газировки, в том числе и от Pepsi, необходимо следовать простым правилам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Пейте через трубочку, чтобы избегать контакта с банк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 Ограничьтесь одним стаканом 1-2 раза в недел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Откажитесь от газировки, если страдаете ожирением, диабетом, гастритом, язв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. Не давайте газировку детям до 3 ле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Ч</a:t>
            </a: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ТО МЫ ЕДИ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звестны коды пищевых добавок, которым по воздействию на организм человека можно дать следующие характеристик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рещенные – Е103, Е105, Е111, Е121, Е123, Е125, Е126, Е130, Е152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пасные – Е102, Е110, Е120, Е124, Е127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дозрительные – Е104, Е122, Е141, Е150, Е171, Е173, Е180, Е241, Е477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кообразующие – Е131, Е210-217, Е240, Е330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зывающие расстройство кишечника – Е221-226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редные для кожи – Е230-232, Е239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зывающие нарушение давления – Е250, Е251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воцирующие появление сыпи – Е311, Е312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вышающие холестерин – Е320, Е321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зывающие расстройство желудка – Е338-341, Е407, Е450, Е461-466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САЛАТ, УКРОП, ПЕТРУШКА.</a:t>
            </a:r>
            <a:br>
              <a:rPr sz="4000"/>
            </a:br>
            <a:r>
              <a:rPr b="0" i="1" lang="ru-RU" sz="4000" spc="-1" strike="noStrike">
                <a:solidFill>
                  <a:srgbClr val="575f6d"/>
                </a:solidFill>
                <a:latin typeface="Century Schoolbook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Содержимое 3" descr="салат.jpg"/>
          <p:cNvPicPr/>
          <p:nvPr/>
        </p:nvPicPr>
        <p:blipFill>
          <a:blip r:embed="rId1"/>
          <a:stretch/>
        </p:blipFill>
        <p:spPr>
          <a:xfrm>
            <a:off x="3476520" y="3618000"/>
            <a:ext cx="1428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СЕЛЬДЕРЕЙ.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.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Содержимое 3" descr="сельд.jpg"/>
          <p:cNvPicPr/>
          <p:nvPr/>
        </p:nvPicPr>
        <p:blipFill>
          <a:blip r:embed="rId1"/>
          <a:stretch/>
        </p:blipFill>
        <p:spPr>
          <a:xfrm>
            <a:off x="2484360" y="3357720"/>
            <a:ext cx="3816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ТОПИНАМБУР.</a:t>
            </a:r>
            <a:br>
              <a:rPr sz="2400"/>
            </a:br>
            <a:r>
              <a:rPr b="0" i="1" lang="ru-RU" sz="2400" spc="-1" strike="noStrike">
                <a:solidFill>
                  <a:srgbClr val="575f6d"/>
                </a:solidFill>
                <a:latin typeface="Century Schoolbook"/>
              </a:rPr>
              <a:t>В КЛУБНЯХ ЭТОГО РАСТЕНИЯ ВИТАМИНОВ С И В ВДВОЕ, А СОЛЕЙ ЖЕЛЕЗА ВТРОЕ БОЛЬШЕ, ЧЕМ В КАРТОФЕЛЬНЫХ.</a:t>
            </a:r>
            <a:br>
              <a:rPr sz="2400"/>
            </a:br>
            <a:r>
              <a:rPr b="0" i="1" lang="ru-RU" sz="2400" spc="-1" strike="noStrike">
                <a:solidFill>
                  <a:srgbClr val="575f6d"/>
                </a:solidFill>
                <a:latin typeface="Century Schoolbook"/>
              </a:rPr>
              <a:t>ОСОБЕННО ПОЛЕЗНО ЭТО РАСТЕНИЕ ДЛЯ БОЛЬНЫХ ДИАБЕТОМ, СТРАДАЮЩИХ МАЛОКРОВИЕМ, НАРУШЕНИЯМИ ОБМЕНА ВЕЩЕСТВ И ЖЕЛУДОЧНЫМИ ЗАБОЛЕВАНИЯМИ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Содержимое 3" descr="iHG7N5LH6.jpg"/>
          <p:cNvPicPr/>
          <p:nvPr/>
        </p:nvPicPr>
        <p:blipFill>
          <a:blip r:embed="rId1"/>
          <a:stretch/>
        </p:blipFill>
        <p:spPr>
          <a:xfrm>
            <a:off x="2771640" y="2997360"/>
            <a:ext cx="316872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Морковь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Употребление этого овоща очень полезно для зрения и для профилактики раковых заболеваний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Капуста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Этот овощ улучшает обмен холестерина и является сильным антиаллерген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Свекла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Баклажаны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Яблок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Обладают общеукрепляющим действием. Хороши для почек, сердечно-сосудистой системы. Обмена вещест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Груш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Вишня, черешн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Общеукрепляющие фрукты, полезные при малокрови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Мали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Улучшает пищеварение при атеросклерозе и гипертонической болезн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Черная смороди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Богата общеукрепляющим витамином С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«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ЕКРЕТЫ РЕЖИМА ДНЯ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Сон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реден для здоровья сидячий образ жизн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Спор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РЕДНЫЕ ПРИВЫЧ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урени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Алкоголиз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ркома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4000" y="549360"/>
            <a:ext cx="8064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ест «Твое здоровье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1. У меня часто плохой аппети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2. После нескольких часов работы у меня начинает болеть голо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3. Часто выгляжу усталым и подавленным, иногда раздраженным и угрюмы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4. Периодически у меня бывают серьезные заболевания, когда я вынужден несколько дней оставаться дом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5. Я почти не занимаюсь спорт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6. В последнее время я несколько прибавил в вес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7. У меня часто кружится голо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8. В настоящее время я кур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9. В детстве я перенес несколько серьезных заболева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10. У меня плохой сон и неприятные ощущения утром после пробужд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елаю ва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икогда не боле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 питать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ть бодры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ршить добр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общем, вести здоровый образ жизни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 каждый ответ «да» поставьте себе по 1 баллу и подсчитайте сум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зульта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-2 балла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-6 баллов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7-10 баллов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ак вы умудрились довести себя до такой степени? Удивительно, что вы еще в состоянии ходить и работать. Вам немедленно нужно изменить свои привычки, иначе…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ХЕМА «ЗДОРОВЫЙ ОБРАЗ ЖИЗНИ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Здоровое пита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Режим дн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Активная деятельность и активный отд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Отсутствие вредных привыче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аследствен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мнению учёных, от10 до 20 процентов здоровья заложено в нас генетически, 20 процентов зависит от окружающей среды, 5-10 процентов от развития медицины, а на 50 процентов здоровье зависит от нас сами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е питание—основа здорового образ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и здоровом питании снижается заболеваемость, улучшается психологическое состояние, поднимается настроение,  а самое главное — повышается работоспособность и интерес к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ЧТО ЖЕ МЫ ПЬЕ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Содержимое 3" descr="i.jpg"/>
          <p:cNvPicPr/>
          <p:nvPr/>
        </p:nvPicPr>
        <p:blipFill>
          <a:blip r:embed="rId1"/>
          <a:stretch/>
        </p:blipFill>
        <p:spPr>
          <a:xfrm>
            <a:off x="1476360" y="620640"/>
            <a:ext cx="64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Кока-кола с успехом заменяет бытовую химию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История кока колы утверждает, что во многих штатах США дорожная полиция всегда имеет в патрульной машине 2 галлона Колы, чтобы смывать кровь с шоссе после аварии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почистить туалет, вылейте банку Колы в раковину и не смывайте в течение часа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удалить ржавые пятна с хромированного бампера машины, потрите бампер смятым листом алюминиевой фольги, смоченным в кока коле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удалить коррозию с батарей в автомобиле, полейте батареи банкой Колы, и коррозия исчезнет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раскрутить заржавевший болт, смочите тряпку кока колой и обмотайте ею болт на несколько минут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очистить одежду от загрязнения, вылейте банку кока колы на груду грязной одежды, добавьте стиральный порошок и постирайте в машине как обычно. Кола поможет избавиться от пятен. Кока кола также очистит стекла в автомобиле от дорожной пыли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 составе кока колы. Активный ингредиент кока колы - фосфорная кислота. Ее рН равен 2.8. За 4 дня он может растворить ваши ногти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ля перевозки концентрата кока колы грузовик должен быть оборудован специальными поддонами, предназначенными для высококоррозионных материалов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истрибьюторы кока колы уже 20 лет используют ее для очистки моторов своих грузовиков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1T05:32:35Z</dcterms:created>
  <dc:creator>Муравьёва</dc:creator>
  <dc:description/>
  <dc:language>en-US</dc:language>
  <cp:lastModifiedBy>Муравьева</cp:lastModifiedBy>
  <dcterms:modified xsi:type="dcterms:W3CDTF">2019-02-19T04:02:13Z</dcterms:modified>
  <cp:revision>5</cp:revision>
  <dc:subject/>
  <dc:title>Слайд 1</dc:title>
</cp:coreProperties>
</file>