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3F7-C29D-4944-86D3-9FCFA270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AD1-5922-4495-B32A-986F927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9D8-44F6-4AF0-9C94-38D63141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772-EFC1-4953-8B16-CC4B4F2C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CE0F-B768-4DE2-9551-8EE1C229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BF8D-BC0B-41DA-BB68-65B1F9E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D97A-2F30-4616-8098-F13EE4AB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A37-974D-4E7B-8CD0-86D52917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795F-B864-4BE5-82DA-CB08BF3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6F2B-963A-48B3-848D-8F612C3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0281-28D1-4078-894A-7BE3F08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E3F-BFC0-4ACE-961B-1896CF74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EE1-4B71-466A-B267-7D8217B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D79C-6D14-4DFD-99B9-99072FA0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D876-551C-4014-8ABD-CDC2673B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EF4-7681-44F7-94CE-50CDB7C5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A88B-B778-4803-BB1A-C8C8186C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BF4B3-C608-46D0-9359-A5B28125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1B78C-5A14-4425-9285-E962B9D2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2D8B5-AA85-444D-962D-274D65C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093AC-1DBD-48FF-A492-A26A9F8A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112B5-F568-4C90-A168-D88FA63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78D-5DE3-48DC-A76F-329B7D0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31371-3641-4DEF-83A1-2FC629A6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28EB6-546D-4328-87B5-42FEA3A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116B5-41A6-4A9D-AD3A-C28C83B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C0D83-CB5C-422B-97C0-78761CF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CB3D1-F4DF-407A-9965-3D903D41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28320-F0AA-4425-84F0-F2539194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AB9BC-3EC1-4EEB-8426-D4E88E3B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7291-08B0-42EB-894B-F96A4719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80AD-0FC2-4539-99C2-5A35C77A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0117-18F1-47AF-AC5D-053B9703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0D5-59AE-4628-9D20-96CF0581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0210-CDAA-4134-9C2D-C419EFE0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37B19-905E-431D-9CEE-02DF5AC3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EE7A0-EBF1-488E-A026-36BE2141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F524-5153-468E-B0BC-84C366D2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DA380-3FE0-4013-A9EA-5A1ACBBE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C7DF-144F-4DD8-900C-3924313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8112B-DEC1-4206-B9C2-9D9EB875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B420-BAD7-42DA-9090-20B7483D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2C91-1433-40F4-BD05-B602F1E7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D4F92-C297-4CCA-A43C-D5147318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4BB-1355-4D81-9F69-BA43354B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9445E-EA3D-4EAC-8157-8FD43FD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1B035-1C18-4A4B-8713-AAA636BB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30831-6753-4E8C-B72D-81A4C188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EC985-59BD-469C-B8FF-9C6CC3C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0E4E4-E4C2-4955-AEC2-E778629E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73DD1-AB60-4087-B79D-C9FA6FC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536FB-CB24-43A3-943A-03DAC34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B45BC-C54F-4E7E-9D21-826F6880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49318-F72A-4D8B-A273-A5FD4CC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995DF-2768-4D71-860B-848203E4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4B4-B1C6-4B20-9F63-595B07C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0ACDC-F834-4C80-9B56-60D1899C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BC395-FA2C-467D-8C30-29293946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13285-70DF-475E-95CA-B7FBB7F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313F0-0743-4438-ABB1-79397474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34E1D-64DA-4635-BE5B-A5254F5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A7A6C-7416-46F7-8DA6-7141FA11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A611E-F7F4-4E44-AA67-34ACDFF1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D405B-C7A4-4B03-B1C4-CA89411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BC3A7-5769-4A0B-BD2E-BC207723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55E5C-6E7B-46E1-8ABA-494EB32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FF4-F9F3-4D79-8D98-9A78F72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8D5D9-47B8-4FE9-BD07-3A1CE85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67BFC-E771-4199-962D-03618B28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DB1F8-F41F-4074-92E8-A7F69873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8E9BE-4371-420F-BD18-7DBD24F4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0E5E9-EDA3-4917-8889-892E35F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E8D64-52F6-4992-A8EE-809ABE90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34CFD-5054-4804-AFAF-2A35203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A8BA0-84D8-4372-A0BA-43A9CEC4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2CCB1-DA8D-4AEE-B512-F4631C6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11428-285A-4959-A842-A5FD6D94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52E-922C-495B-B5C1-82CB89B8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F164E-5DD6-4CA4-887B-313A622D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4A84A-EF57-4E07-82AF-22CF575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097E7-E84D-4874-86E8-7309978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C0B37-4FAF-4043-9974-91B09F95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149C0-1A4A-4DDB-909E-5E3E9BC5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18E-FD0B-49D8-93C9-CE97A96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83BA-AABB-42B6-88F6-42B6942F79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AB7-F946-419A-B4B3-5B899448BC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036F-E1A4-4B14-ACAB-C1201F5772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690-0ADD-4E5A-9244-967D798BF5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5A2E-BEF7-4F4D-8B7F-5B66D77FB7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EBAC-5C00-41A1-925F-E9ECF0B2D2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E755-307B-4DB6-8C0C-141C106A20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ЗДОРОВЫЙ ОБРАЗ ЖИЗН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тобы уменьшить вред от любой газировки, в том числе и от Pepsi, необходимо следовать простым правилам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Пейте через трубочку, чтобы избегать контакта с банк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. Ограничьтесь одним стаканом 1-2 раза в недел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. Откажитесь от газировки, если страдаете ожирением, диабетом, гастритом, язв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. Не давайте газировку детям до 3 ле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Ч</a:t>
            </a: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ТО МЫ ЕДИ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вестны коды пищевых добавок, которым по воздействию на организм человека можно дать следующие характеристик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рещенные – Е103, Е105, Е111, Е121, Е123, Е125, Е126, Е130, Е152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пасные – Е102, Е110, Е120, Е124, Е127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озрительные – Е104, Е122, Е141, Е150, Е171, Е173, Е180, Е241, Е477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кообразующие – Е131, Е210-217, Е240, Е330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зывающие расстройство кишечника – Е221-226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редные для кожи – Е230-232, Е239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зывающие нарушение давления – Е250, Е251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оцирующие появление сыпи – Е311, Е312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вышающие холестерин – Е320, Е321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зывающие расстройство желудка – Е338-341, Е407, Е450, Е461-466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САЛАТ, УКРОП, ПЕТРУШКА.</a:t>
            </a:r>
            <a:br>
              <a:rPr sz="4000"/>
            </a:br>
            <a:r>
              <a:rPr b="0" i="1" lang="ru-RU" sz="4000" spc="-1" strike="noStrike">
                <a:solidFill>
                  <a:srgbClr val="575f6d"/>
                </a:solidFill>
                <a:latin typeface="Century Schoolbook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3" descr="салат.jpg"/>
          <p:cNvPicPr/>
          <p:nvPr/>
        </p:nvPicPr>
        <p:blipFill>
          <a:blip r:embed="rId1"/>
          <a:stretch/>
        </p:blipFill>
        <p:spPr>
          <a:xfrm>
            <a:off x="3476520" y="3618000"/>
            <a:ext cx="1428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СЕЛЬДЕРЕЙ.</a:t>
            </a:r>
            <a:br>
              <a:rPr sz="2000"/>
            </a:br>
            <a:r>
              <a:rPr b="0" i="1" lang="ru-RU" sz="2000" spc="-1" strike="noStrike">
                <a:solidFill>
                  <a:srgbClr val="575f6d"/>
                </a:solidFill>
                <a:latin typeface="Century Schoolbook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.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Содержимое 3" descr="сельд.jpg"/>
          <p:cNvPicPr/>
          <p:nvPr/>
        </p:nvPicPr>
        <p:blipFill>
          <a:blip r:embed="rId1"/>
          <a:stretch/>
        </p:blipFill>
        <p:spPr>
          <a:xfrm>
            <a:off x="2484360" y="3357720"/>
            <a:ext cx="3816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ТОПИНАМБУР.</a:t>
            </a:r>
            <a:br>
              <a:rPr sz="2400"/>
            </a:br>
            <a:r>
              <a:rPr b="0" i="1" lang="ru-RU" sz="2400" spc="-1" strike="noStrike">
                <a:solidFill>
                  <a:srgbClr val="575f6d"/>
                </a:solidFill>
                <a:latin typeface="Century Schoolbook"/>
              </a:rPr>
              <a:t>В КЛУБНЯХ ЭТОГО РАСТЕНИЯ ВИТАМИНОВ С И В ВДВОЕ, А СОЛЕЙ ЖЕЛЕЗА ВТРОЕ БОЛЬШЕ, ЧЕМ В КАРТОФЕЛЬНЫХ.</a:t>
            </a:r>
            <a:br>
              <a:rPr sz="2400"/>
            </a:br>
            <a:r>
              <a:rPr b="0" i="1" lang="ru-RU" sz="2400" spc="-1" strike="noStrike">
                <a:solidFill>
                  <a:srgbClr val="575f6d"/>
                </a:solidFill>
                <a:latin typeface="Century Schoolbook"/>
              </a:rPr>
              <a:t>ОСОБЕННО ПОЛЕЗНО ЭТО РАСТЕНИЕ ДЛЯ БОЛЬНЫХ ДИАБЕТОМ, СТРАДАЮЩИХ МАЛОКРОВИЕМ, НАРУШЕНИЯМИ ОБМЕНА ВЕЩЕСТВ И ЖЕЛУДОЧНЫМИ ЗАБОЛЕВАНИЯМИ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Содержимое 3" descr="iHG7N5LH6.jpg"/>
          <p:cNvPicPr/>
          <p:nvPr/>
        </p:nvPicPr>
        <p:blipFill>
          <a:blip r:embed="rId1"/>
          <a:stretch/>
        </p:blipFill>
        <p:spPr>
          <a:xfrm>
            <a:off x="2771640" y="2997360"/>
            <a:ext cx="316872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Морковь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Употребление этого овоща очень полезно для зрения и для профилактики раковых заболеваний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Капуста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Этот овощ улучшает обмен холестерина и является сильным антиаллерген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Свекла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Баклажаны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Яблок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Груш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Вишня, черешн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Общеукрепляющие фрукты, полезные при малокрови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Мали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Улучшает пищеварение при атеросклерозе и гипертонической болезн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Черная смороди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Богата общеукрепляющим витамином С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«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ЕКРЕТЫ РЕЖИМА ДНЯ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он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реден для здоровья сидячий образ жизн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пор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РЕДНЫЕ ПРИВЫЧ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урени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Алкоголиз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ркома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4000" y="549360"/>
            <a:ext cx="8064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Тест «Твое здоровье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1. У меня часто плохой аппети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2. После нескольких часов работы у меня начинает болеть гол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3. Часто выгляжу усталым и подавленным, иногда раздраженным и угрюмы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4. Периодически у меня бывают серьезные заболевания, когда я вынужден несколько дней оставаться до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5. Я почти не занимаюсь спорт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6. В последнее время я несколько прибавил в вес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7. У меня часто кружится голов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8. В настоящее время я кур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9. В детстве я перенес несколько серьезных заболева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10. У меня плохой сон и неприятные ощущения утром после пробужд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елаю ва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икогда не боле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питать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ть бодры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ршить добр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общем, вести здоровый образ жизни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 каждый ответ «да» поставьте себе по 1 баллу и подсчитайте сум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зульта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-2 балла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-6 баллов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7-10 баллов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ак вы умудрились довести себя до такой степени? Удивительно, что вы еще в состоянии ходить и работать. Вам немедленно нужно изменить свои привычки, иначе…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ХЕМА «ЗДОРОВЫЙ ОБРАЗ ЖИЗНИ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Здоровое пит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Режим дн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Активная деятельность и активный отд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Отсутствие вредных привыч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аследствен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мнению учёных, от10 до 20 процентов здоровья заложено в нас генетически, 20 процентов зависит от окружающей среды, 5-10 процентов от развития медицины, а на 50 процентов здоровье зависит от нас сами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е питание—основа здорового образ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и здоровом питании снижается заболеваемость, улучшается психологическое состояние, поднимается настроение,  а самое главное — повышается работоспособность и интерес к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ТО ЖЕ МЫ ПЬ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одержимое 3" descr="i.jpg"/>
          <p:cNvPicPr/>
          <p:nvPr/>
        </p:nvPicPr>
        <p:blipFill>
          <a:blip r:embed="rId1"/>
          <a:stretch/>
        </p:blipFill>
        <p:spPr>
          <a:xfrm>
            <a:off x="1476360" y="620640"/>
            <a:ext cx="64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Кока-кола с успехом заменяет бытовую химию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почистить туалет, вылейте банку Колы в раковину и не смывайте в течение часа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удалить коррозию с батарей в автомобиле, полейте батареи банкой Колы, и коррозия исчезнет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очистить одежду от загрязнения, вылейте банку кока колы на груду грязной одежды, добавьте стиральный порошок и постирайте в машине как обычно. Кола поможет избавиться от пятен. Кока кола также очистит стекла в автомобиле от дорожной пыл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 составе кока колы. Активный ингредиент кока колы - фосфорная кислота. Ее рН равен 2.8. За 4 дня он может растворить ваши ногт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истрибьюторы кока колы уже 20 лет используют ее для очистки моторов своих грузовиков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1T05:32:35Z</dcterms:created>
  <dc:creator>Муравьёва</dc:creator>
  <dc:description/>
  <dc:language>en-US</dc:language>
  <cp:lastModifiedBy>Муравьева</cp:lastModifiedBy>
  <dcterms:modified xsi:type="dcterms:W3CDTF">2019-02-19T04:02:13Z</dcterms:modified>
  <cp:revision>5</cp:revision>
  <dc:subject/>
  <dc:title>Слайд 1</dc:title>
</cp:coreProperties>
</file>