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7B5A-8A7D-4931-B053-D9BAACA7E7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F911-F8AD-4EB6-BDA5-134394F944C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CBF5-DA47-4033-ACDC-6BB1C9C6F87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E5AE-0F5C-4B1C-B07D-66FF2C80060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783D-ECE2-4518-A8C3-B4B814F3B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99D8-2D79-4407-8D9A-2C51E04C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058C-1891-4CC6-82BD-BAD2DFDE7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E85C-27B1-4564-8D1C-3897FE0B2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A6BD-1631-4E9E-B725-D592DEA28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9BDB3-9988-408A-9F49-8A566D62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B4F7-A61B-4A68-AE1A-F7DFB74C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AAE1-3010-4E22-A1E5-C65597F2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2F9E-58F0-4854-B7A6-B8B09F56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CBC3-685D-4DE8-A6E5-C3A9C41D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6344D-45A5-4417-8AD2-0B10F33F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3078-A18C-439B-AA1A-22F43C8E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81DF-5928-4892-A348-BC299EBA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017B-0724-467D-B4D8-518A9756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DEA5-8BB1-4840-8E6B-1C77AE2E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C8E9-5B02-496D-AE0E-68EC7AEC1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1B7D-9A3D-4D2A-B914-31989326E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7506-B827-42A5-97F5-279A9BB9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2488-6AC2-4C8E-9383-CB2FE1DF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EFF9-09A4-48B8-BC6A-4C9BF326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4E3F-92A3-4FC7-A3EF-F515EEA8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8E78-94D7-4BC2-B80E-8E729E97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DB7C-5635-401E-ADEE-5A05541D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8820-7066-4424-9322-00857458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8680"/>
              <a:chOff x="-1080" y="2601000"/>
              <a:chExt cx="2687040" cy="311868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1080"/>
                <a:ext cx="1833120" cy="1668600"/>
                <a:chOff x="852840" y="4051080"/>
                <a:chExt cx="1833120" cy="166860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4400" y="3934800"/>
                  <a:ext cx="477360" cy="124380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43800"/>
                    <a:gd name="textAreaBottom" fmla="*/ 1244160 h 12438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64480" y="4978800"/>
                  <a:ext cx="110520" cy="51048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10480"/>
                    <a:gd name="textAreaBottom" fmla="*/ 510840 h 51048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8760" y="5565600"/>
                  <a:ext cx="200880" cy="8892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10DC-D456-49DE-B55F-BBB1E7020C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85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6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7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0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1" name="Group 9"/>
            <p:cNvGrpSpPr/>
            <p:nvPr/>
          </p:nvGrpSpPr>
          <p:grpSpPr>
            <a:xfrm>
              <a:off x="-1080" y="2601000"/>
              <a:ext cx="2687040" cy="3118680"/>
              <a:chOff x="-1080" y="2601000"/>
              <a:chExt cx="2687040" cy="3118680"/>
            </a:xfrm>
          </p:grpSpPr>
          <p:sp>
            <p:nvSpPr>
              <p:cNvPr id="92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3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4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6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7" name="Group 15"/>
              <p:cNvGrpSpPr/>
              <p:nvPr/>
            </p:nvGrpSpPr>
            <p:grpSpPr>
              <a:xfrm>
                <a:off x="852840" y="4051080"/>
                <a:ext cx="1833120" cy="1668600"/>
                <a:chOff x="852840" y="4051080"/>
                <a:chExt cx="1833120" cy="1668600"/>
              </a:xfrm>
            </p:grpSpPr>
            <p:sp>
              <p:nvSpPr>
                <p:cNvPr id="98" name="Freeform 16"/>
                <p:cNvSpPr/>
                <p:nvPr/>
              </p:nvSpPr>
              <p:spPr>
                <a:xfrm flipH="1" rot="7102800">
                  <a:off x="1274400" y="3934800"/>
                  <a:ext cx="477360" cy="124380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43800"/>
                    <a:gd name="textAreaBottom" fmla="*/ 1244160 h 12438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" name="Freeform 17"/>
                <p:cNvSpPr/>
                <p:nvPr/>
              </p:nvSpPr>
              <p:spPr>
                <a:xfrm flipH="1" rot="7102800">
                  <a:off x="2364480" y="4978800"/>
                  <a:ext cx="110520" cy="51048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10480"/>
                    <a:gd name="textAreaBottom" fmla="*/ 510840 h 51048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0" name="Freeform 18"/>
                <p:cNvSpPr/>
                <p:nvPr/>
              </p:nvSpPr>
              <p:spPr>
                <a:xfrm flipH="1" rot="7102800">
                  <a:off x="2498760" y="5565600"/>
                  <a:ext cx="200880" cy="8892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01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02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5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6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10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3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7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128" name="Group 3"/>
            <p:cNvGrpSpPr/>
            <p:nvPr/>
          </p:nvGrpSpPr>
          <p:grpSpPr>
            <a:xfrm>
              <a:off x="5405400" y="58680"/>
              <a:ext cx="3624840" cy="6137640"/>
              <a:chOff x="5405400" y="58680"/>
              <a:chExt cx="3624840" cy="6137640"/>
            </a:xfrm>
          </p:grpSpPr>
          <p:sp>
            <p:nvSpPr>
              <p:cNvPr id="129" name="Freeform 4"/>
              <p:cNvSpPr/>
              <p:nvPr/>
            </p:nvSpPr>
            <p:spPr>
              <a:xfrm flipV="1" rot="11970000">
                <a:off x="6586920" y="343080"/>
                <a:ext cx="2110680" cy="2355480"/>
              </a:xfrm>
              <a:custGeom>
                <a:avLst/>
                <a:gdLst>
                  <a:gd name="textAreaLeft" fmla="*/ 0 w 2110680"/>
                  <a:gd name="textAreaRight" fmla="*/ 2111040 w 2110680"/>
                  <a:gd name="textAreaTop" fmla="*/ -360 h 2355480"/>
                  <a:gd name="textAreaBottom" fmla="*/ 2355480 h 23554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Freeform 5"/>
              <p:cNvSpPr/>
              <p:nvPr/>
            </p:nvSpPr>
            <p:spPr>
              <a:xfrm flipV="1" rot="11970000">
                <a:off x="7424280" y="1963080"/>
                <a:ext cx="903960" cy="841680"/>
              </a:xfrm>
              <a:custGeom>
                <a:avLst/>
                <a:gdLst>
                  <a:gd name="textAreaLeft" fmla="*/ 0 w 903960"/>
                  <a:gd name="textAreaRight" fmla="*/ 904320 w 903960"/>
                  <a:gd name="textAreaTop" fmla="*/ 360 h 841680"/>
                  <a:gd name="textAreaBottom" fmla="*/ 842400 h 84168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Freeform 6"/>
              <p:cNvSpPr/>
              <p:nvPr/>
            </p:nvSpPr>
            <p:spPr>
              <a:xfrm flipV="1" rot="11970000">
                <a:off x="6827760" y="2585160"/>
                <a:ext cx="438480" cy="394920"/>
              </a:xfrm>
              <a:custGeom>
                <a:avLst/>
                <a:gdLst>
                  <a:gd name="textAreaLeft" fmla="*/ 0 w 438480"/>
                  <a:gd name="textAreaRight" fmla="*/ 438840 w 43848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Freeform 7"/>
              <p:cNvSpPr/>
              <p:nvPr/>
            </p:nvSpPr>
            <p:spPr>
              <a:xfrm flipV="1" rot="11970000">
                <a:off x="7252560" y="669600"/>
                <a:ext cx="388080" cy="550080"/>
              </a:xfrm>
              <a:custGeom>
                <a:avLst/>
                <a:gdLst>
                  <a:gd name="textAreaLeft" fmla="*/ 0 w 388080"/>
                  <a:gd name="textAreaRight" fmla="*/ 388440 w 388080"/>
                  <a:gd name="textAreaTop" fmla="*/ 360 h 550080"/>
                  <a:gd name="textAreaBottom" fmla="*/ 550800 h 55008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Freeform 8"/>
              <p:cNvSpPr/>
              <p:nvPr/>
            </p:nvSpPr>
            <p:spPr>
              <a:xfrm flipV="1" rot="11970000">
                <a:off x="7146720" y="2648880"/>
                <a:ext cx="162720" cy="331560"/>
              </a:xfrm>
              <a:custGeom>
                <a:avLst/>
                <a:gdLst>
                  <a:gd name="textAreaLeft" fmla="*/ 0 w 162720"/>
                  <a:gd name="textAreaRight" fmla="*/ 163080 w 162720"/>
                  <a:gd name="textAreaTop" fmla="*/ 0 h 331560"/>
                  <a:gd name="textAreaBottom" fmla="*/ 331560 h 33156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Freeform 9"/>
              <p:cNvSpPr/>
              <p:nvPr/>
            </p:nvSpPr>
            <p:spPr>
              <a:xfrm flipV="1" rot="11970000">
                <a:off x="7134480" y="1240920"/>
                <a:ext cx="189720" cy="14292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Freeform 10"/>
              <p:cNvSpPr/>
              <p:nvPr/>
            </p:nvSpPr>
            <p:spPr>
              <a:xfrm flipV="1" rot="11970000">
                <a:off x="5935320" y="2936520"/>
                <a:ext cx="522720" cy="3265920"/>
              </a:xfrm>
              <a:custGeom>
                <a:avLst/>
                <a:gdLst>
                  <a:gd name="textAreaLeft" fmla="*/ 0 w 522720"/>
                  <a:gd name="textAreaRight" fmla="*/ 523080 w 522720"/>
                  <a:gd name="textAreaTop" fmla="*/ 360 h 3265920"/>
                  <a:gd name="textAreaBottom" fmla="*/ 3266640 h 326592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6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2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43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6" name="Group 21"/>
            <p:cNvGrpSpPr/>
            <p:nvPr/>
          </p:nvGrpSpPr>
          <p:grpSpPr>
            <a:xfrm>
              <a:off x="5644800" y="290160"/>
              <a:ext cx="897480" cy="821160"/>
              <a:chOff x="5644800" y="290160"/>
              <a:chExt cx="897480" cy="821160"/>
            </a:xfrm>
          </p:grpSpPr>
          <p:sp>
            <p:nvSpPr>
              <p:cNvPr id="147" name="Freeform 22"/>
              <p:cNvSpPr/>
              <p:nvPr/>
            </p:nvSpPr>
            <p:spPr>
              <a:xfrm rot="14908200">
                <a:off x="5755320" y="779040"/>
                <a:ext cx="182160" cy="361800"/>
              </a:xfrm>
              <a:custGeom>
                <a:avLst/>
                <a:gdLst>
                  <a:gd name="textAreaLeft" fmla="*/ 0 w 182160"/>
                  <a:gd name="textAreaRight" fmla="*/ 182160 w 1821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Freeform 23"/>
              <p:cNvSpPr/>
              <p:nvPr/>
            </p:nvSpPr>
            <p:spPr>
              <a:xfrm rot="14908200">
                <a:off x="5705280" y="462600"/>
                <a:ext cx="310320" cy="300600"/>
              </a:xfrm>
              <a:custGeom>
                <a:avLst/>
                <a:gdLst>
                  <a:gd name="textAreaLeft" fmla="*/ 0 w 310320"/>
                  <a:gd name="textAreaRight" fmla="*/ 310680 w 31032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Freeform 24"/>
              <p:cNvSpPr/>
              <p:nvPr/>
            </p:nvSpPr>
            <p:spPr>
              <a:xfrm rot="14908200">
                <a:off x="6249240" y="392400"/>
                <a:ext cx="324360" cy="153000"/>
              </a:xfrm>
              <a:custGeom>
                <a:avLst/>
                <a:gdLst>
                  <a:gd name="textAreaLeft" fmla="*/ 0 w 324360"/>
                  <a:gd name="textAreaRight" fmla="*/ 324720 w 32436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0" name="Group 25"/>
            <p:cNvGrpSpPr/>
            <p:nvPr/>
          </p:nvGrpSpPr>
          <p:grpSpPr>
            <a:xfrm>
              <a:off x="968760" y="5255640"/>
              <a:ext cx="1059120" cy="833400"/>
              <a:chOff x="968760" y="5255640"/>
              <a:chExt cx="1059120" cy="833400"/>
            </a:xfrm>
          </p:grpSpPr>
          <p:sp>
            <p:nvSpPr>
              <p:cNvPr id="151" name="Freeform 26"/>
              <p:cNvSpPr/>
              <p:nvPr/>
            </p:nvSpPr>
            <p:spPr>
              <a:xfrm rot="8524800">
                <a:off x="1710720" y="5518080"/>
                <a:ext cx="250920" cy="30168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Freeform 27"/>
              <p:cNvSpPr/>
              <p:nvPr/>
            </p:nvSpPr>
            <p:spPr>
              <a:xfrm rot="8524800">
                <a:off x="1195920" y="5733000"/>
                <a:ext cx="429480" cy="2505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50560"/>
                  <a:gd name="textAreaBottom" fmla="*/ 250920 h 2505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Freeform 28"/>
              <p:cNvSpPr/>
              <p:nvPr/>
            </p:nvSpPr>
            <p:spPr>
              <a:xfrm rot="8524800">
                <a:off x="960120" y="5379840"/>
                <a:ext cx="448920" cy="12744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4" name="Group 29"/>
            <p:cNvGrpSpPr/>
            <p:nvPr/>
          </p:nvGrpSpPr>
          <p:grpSpPr>
            <a:xfrm>
              <a:off x="375840" y="435240"/>
              <a:ext cx="1690200" cy="1146600"/>
              <a:chOff x="375840" y="435240"/>
              <a:chExt cx="1690200" cy="1146600"/>
            </a:xfrm>
          </p:grpSpPr>
          <p:sp>
            <p:nvSpPr>
              <p:cNvPr id="155" name="Freeform 30"/>
              <p:cNvSpPr/>
              <p:nvPr/>
            </p:nvSpPr>
            <p:spPr>
              <a:xfrm flipH="1" rot="4107000">
                <a:off x="1576080" y="105372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Freeform 31"/>
              <p:cNvSpPr/>
              <p:nvPr/>
            </p:nvSpPr>
            <p:spPr>
              <a:xfrm flipH="1" rot="4107000">
                <a:off x="1022760" y="57888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Freeform 32"/>
              <p:cNvSpPr/>
              <p:nvPr/>
            </p:nvSpPr>
            <p:spPr>
              <a:xfrm flipH="1" rot="4107000">
                <a:off x="278640" y="109260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8" name="Group 33"/>
            <p:cNvGrpSpPr/>
            <p:nvPr/>
          </p:nvGrpSpPr>
          <p:grpSpPr>
            <a:xfrm>
              <a:off x="7393680" y="3712320"/>
              <a:ext cx="1155600" cy="1607760"/>
              <a:chOff x="7393680" y="3712320"/>
              <a:chExt cx="1155600" cy="1607760"/>
            </a:xfrm>
          </p:grpSpPr>
          <p:sp>
            <p:nvSpPr>
              <p:cNvPr id="159" name="Freeform 34"/>
              <p:cNvSpPr/>
              <p:nvPr/>
            </p:nvSpPr>
            <p:spPr>
              <a:xfrm flipH="1" rot="10015800">
                <a:off x="744840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Freeform 35"/>
              <p:cNvSpPr/>
              <p:nvPr/>
            </p:nvSpPr>
            <p:spPr>
              <a:xfrm flipH="1" rot="10015800">
                <a:off x="789912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Freeform 36"/>
              <p:cNvSpPr/>
              <p:nvPr/>
            </p:nvSpPr>
            <p:spPr>
              <a:xfrm flipH="1" rot="10015800">
                <a:off x="759168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2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1C6D-EDBB-4E75-AEC5-8F808CC862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899640" y="549000"/>
            <a:ext cx="78073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неклассное мероприят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 рамках конкурса методический разработок по проблемам формирования межэтнической толерант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0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Игра «Удочка»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12500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участники игры "Удочка" встают в пределах длины «удочки» вокруг водящего – «рыбака» (2-3 метра). «Рыбак» раскручивает скакалку-«удочку», стараясь ею задеть участвующих игроков по ногам. Мешочек с песком быстро скользит по полу или над самой землей. «Рыбки» стараются избежать попадания на «удочку», перепрыгнув через нее. Для того, чтобы «рыбки не толкались и не мешали друг другу, они должны соблюдать некоторое расстояние между собой (примерно, полметра). Причем, «рыбкам» нельзя покидать своих мест. Если «рыбаку» удастся дотронуться скакалкой-удочкой до «рыбки», то «рыбак» и «рыбка» должны поменяться местами. «Рыбак» должен соблюдать одно немаловажное условие: раскручивать скакалку-«удочку» можно в разные стороны, но нельзя отрывать ее от пола или понимать над землей выше, чем на двадцать сантиметров, чтобы «рыбки» имели возможность избежать попадания на «удочку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F:\Для работы\2019-20 учебный год\Толерантность\img10.jpg"/>
          <p:cNvPicPr/>
          <p:nvPr/>
        </p:nvPicPr>
        <p:blipFill>
          <a:blip r:embed="rId1"/>
          <a:stretch/>
        </p:blipFill>
        <p:spPr>
          <a:xfrm>
            <a:off x="804960" y="404640"/>
            <a:ext cx="753408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62028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гры народов России»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57200" y="549000"/>
            <a:ext cx="8229600" cy="55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Что обозначает слово «толерантность»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 переводе с разных языков?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4"/>
          <p:cNvSpPr/>
          <p:nvPr/>
        </p:nvSpPr>
        <p:spPr>
          <a:xfrm>
            <a:off x="500040" y="785880"/>
            <a:ext cx="828216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 английском – готовность быть терпимым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о французском – отношение, когда человек думает и действует иначе, чем ты сам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 китайском – быть по отношению к другим великолепным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 арабском – милосердие, терпение, сострадание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 русском – умение принять другого таким, какой он ес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Заголовок 6"/>
          <p:cNvSpPr/>
          <p:nvPr/>
        </p:nvSpPr>
        <p:spPr>
          <a:xfrm>
            <a:off x="0" y="103320"/>
            <a:ext cx="824400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cc"/>
                </a:solidFill>
                <a:latin typeface="Times New Roman"/>
              </a:rPr>
              <a:t>Слово «толерантность»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1557000"/>
            <a:ext cx="896472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6600cc"/>
                </a:solidFill>
                <a:latin typeface="Times New Roman"/>
              </a:rPr>
              <a:t>Что же такое толерантность?</a:t>
            </a:r>
            <a:endParaRPr b="0" lang="en-US" sz="8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79280" y="713880"/>
            <a:ext cx="8964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cc"/>
                </a:solidFill>
                <a:latin typeface="Times New Roman"/>
              </a:rPr>
              <a:t>Толерантность - это милосердие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cc"/>
                </a:solidFill>
                <a:latin typeface="Times New Roman"/>
              </a:rPr>
              <a:t>Толерантность - это сострадание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cc"/>
                </a:solidFill>
                <a:latin typeface="Times New Roman"/>
              </a:rPr>
              <a:t>Толерантность - это уважение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cc"/>
                </a:solidFill>
                <a:latin typeface="Times New Roman"/>
              </a:rPr>
              <a:t>Толерантность - это доброта души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cc"/>
                </a:solidFill>
                <a:latin typeface="Times New Roman"/>
              </a:rPr>
              <a:t>Толерантность - это дружба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57200" y="40428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тайны, силу и мудрость своего народа дети узнают через специальные обряды, – мы их называем «ИГРЫ»!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рятская игра «Иголка, нитка и узелок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Зун, утахн, зангилаа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89000"/>
            <a:ext cx="8229600" cy="40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: играющие становятся в круг, держась за руки. Считалкой выбирают иголку, нитку и узелок. Все они друг за другом то забегают в круг, то выбегают из него. Если же нитка или узелок оторвались (отстали или неправильно выбежали за иголкой из круга или вбежали в круг, то эта группа считается проигравшей. Выбираются другие игроки. Выигрывает та тройка, которая двигалась быстро, ловко, правильно, не отставая друг от друг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ое правило: Иголка, нитка, узелок держатся за руки. Их надо не задерживая впускать и выпускать из круга и сразу же закрывать круг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народов Сибири и Дальнего Востока «Льдинки, ветер и мороз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ющие встают парами лицом друг к другу и хлопают в ладоши, приговарива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лодные льдинки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зрачные льдинк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ркают, звенят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зинь-дзинь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ют хлопок на каждое слово: сначала в свои ладоши, затем в ладоши товарища. Хлопают и говорят дзинь-дзинь до тех пор, пока не услышат сигнал «Ветер!». Дети-льдинки разбегаются в разные стороны и договариваются, кто с кем будет строить круг – большую льдинку. По сигналу «Мороз!» все выстраиваются в круг и берутся за рук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игры. Выигрывают те дети, у которых в кругу оказалось большее число игроков. Договариваться о том, кто с кем будет строить большую льдинку, надо тихо. Договорившиеся берутся за руки. Менять движения можно только по сигналу «Ветер!» или «Мороз!». В игру желательно включать разные движения: подскоки, легкий или быстрый бег, боковой галоп и т.д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9:12:47Z</dcterms:created>
  <dc:creator>Admin</dc:creator>
  <dc:description/>
  <dc:language>en-US</dc:language>
  <cp:lastModifiedBy>Муравьева</cp:lastModifiedBy>
  <dcterms:modified xsi:type="dcterms:W3CDTF">2019-11-19T07:47:34Z</dcterms:modified>
  <cp:revision>29</cp:revision>
  <dc:subject/>
  <dc:title>Слайд 1</dc:title>
</cp:coreProperties>
</file>