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FF22-D867-4C67-9D94-79CB60783A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8279-7C07-44C5-BE18-54341991A4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E063-DC9B-4432-A893-3BB19A99411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9557-BA84-47E5-B865-74490A0AD6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1D3-BDA1-4A63-823D-9EE078BF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F3E-4F19-4408-BFCB-0A444A64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64C-D6F0-4848-B9EE-A7F623AC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59C-0C6E-43C7-A658-9F6D1B9A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EFF4-BCDD-4C6F-A061-F12B8324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F559-1E97-4833-9A31-ADE9CF15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D40A-F7BE-4BA5-B97E-6B468637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28F8-B5CA-4043-A904-0FF40D5D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FADE-A3B4-41F1-BE3E-5473CBD2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07AE-4100-4402-9E2B-05E4049D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83F3-8A9F-4D17-A8EF-6147BC7D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0D5-6BE2-4467-A9FF-EADC7659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4963-6054-40B2-8C06-08FFC19F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2DC5-C41F-47F9-9FF0-EED002E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57EB-1D6B-4ACD-A1C6-823F2E9D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6829-0DB5-4F0A-90E1-7E9EE38F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A94E-5871-4CE1-9A0E-6B137FF9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01E-75B2-4011-A085-CBECAE56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4C7-8DE7-45DD-B41D-A08262A9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EAE-B9A9-466D-97FB-5F008750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2EE-F19F-4295-B0E2-83902CAD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FC5-09B9-4BC1-A536-774F08BC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A73-2E54-4885-B46D-3E8A82ED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903-7484-415E-8AD9-2D5E6364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3800"/>
                    <a:gd name="textAreaBottom" fmla="*/ 1244160 h 12438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54B9-03D8-4D2B-9F75-1A0E409520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3800"/>
                    <a:gd name="textAreaBottom" fmla="*/ 1244160 h 12438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05400" y="58680"/>
              <a:ext cx="3624840" cy="6137640"/>
              <a:chOff x="5405400" y="58680"/>
              <a:chExt cx="3624840" cy="613764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6920" y="343080"/>
                <a:ext cx="2110680" cy="2355480"/>
              </a:xfrm>
              <a:custGeom>
                <a:avLst/>
                <a:gdLst>
                  <a:gd name="textAreaLeft" fmla="*/ 0 w 2110680"/>
                  <a:gd name="textAreaRight" fmla="*/ 2111040 w 2110680"/>
                  <a:gd name="textAreaTop" fmla="*/ -360 h 2355480"/>
                  <a:gd name="textAreaBottom" fmla="*/ 2355480 h 23554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4280" y="1963080"/>
                <a:ext cx="903960" cy="841680"/>
              </a:xfrm>
              <a:custGeom>
                <a:avLst/>
                <a:gdLst>
                  <a:gd name="textAreaLeft" fmla="*/ 0 w 903960"/>
                  <a:gd name="textAreaRight" fmla="*/ 904320 w 903960"/>
                  <a:gd name="textAreaTop" fmla="*/ 360 h 841680"/>
                  <a:gd name="textAreaBottom" fmla="*/ 842400 h 8416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7760" y="2585160"/>
                <a:ext cx="438480" cy="39492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2560" y="669600"/>
                <a:ext cx="388080" cy="55008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360 h 550080"/>
                  <a:gd name="textAreaBottom" fmla="*/ 550800 h 55008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46720" y="2648880"/>
                <a:ext cx="162720" cy="33156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34480" y="1240920"/>
                <a:ext cx="189720" cy="14292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35320" y="2936520"/>
                <a:ext cx="522720" cy="3265920"/>
              </a:xfrm>
              <a:custGeom>
                <a:avLst/>
                <a:gdLst>
                  <a:gd name="textAreaLeft" fmla="*/ 0 w 522720"/>
                  <a:gd name="textAreaRight" fmla="*/ 523080 w 522720"/>
                  <a:gd name="textAreaTop" fmla="*/ 360 h 3265920"/>
                  <a:gd name="textAreaBottom" fmla="*/ 3266640 h 32659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44800" y="290160"/>
              <a:ext cx="897480" cy="821160"/>
              <a:chOff x="5644800" y="290160"/>
              <a:chExt cx="897480" cy="82116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55320" y="779040"/>
                <a:ext cx="182160" cy="36180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05280" y="462600"/>
                <a:ext cx="310320" cy="300600"/>
              </a:xfrm>
              <a:custGeom>
                <a:avLst/>
                <a:gdLst>
                  <a:gd name="textAreaLeft" fmla="*/ 0 w 310320"/>
                  <a:gd name="textAreaRight" fmla="*/ 310680 w 3103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49240" y="392400"/>
                <a:ext cx="324360" cy="15300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68760" y="5255640"/>
              <a:ext cx="1059120" cy="833400"/>
              <a:chOff x="968760" y="5255640"/>
              <a:chExt cx="1059120" cy="83340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10720" y="5518080"/>
                <a:ext cx="250920" cy="3016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95920" y="5733000"/>
                <a:ext cx="429480" cy="2505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60120" y="537984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5BB0-ACB1-42E5-9095-F5CABB0618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899640" y="549000"/>
            <a:ext cx="78073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классное мероприят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рамках конкурса методический разработок по проблемам формирования межэтнической толерант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Игра «Удочка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астники игры "Удочка" встают в пределах длины «удочки» вокруг водящего – «рыбака» (2-3 метра). «Рыбак» раскручивает скакалку-«удочку», стараясь ею задеть участвующих игроков по ногам. Мешочек с песком быстро скользит по полу или над самой землей. «Рыбки» стараются избежать попадания на «удочку», перепрыгнув через нее. Для того, чтобы «рыбки не толкались и не мешали друг другу, они должны соблюдать некоторое расстояние между собой (примерно, полметра). Причем, «рыбкам» нельзя покидать своих мест. Если «рыбаку» удастся дотронуться скакалкой-удочкой до «рыбки», то «рыбак» и «рыбка» должны поменяться местами. «Рыбак» должен соблюдать одно немаловажное условие: раскручивать скакалку-«удочку» можно в разные стороны, но нельзя отрывать ее от пола или понимать над землей выше, чем на двадцать сантиметров, чтобы «рыбки» имели возможность избежать попадания на «удочку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Для работы\2019-20 учебный год\Толерантность\img10.jpg"/>
          <p:cNvPicPr/>
          <p:nvPr/>
        </p:nvPicPr>
        <p:blipFill>
          <a:blip r:embed="rId1"/>
          <a:stretch/>
        </p:blipFill>
        <p:spPr>
          <a:xfrm>
            <a:off x="804960" y="404640"/>
            <a:ext cx="75340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ы народов России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Что обозначает слово «толерантность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переводе с разных языков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500040" y="785880"/>
            <a:ext cx="82821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нглийском – готовность быть терпимы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 французском – отношение, когда человек думает и действует иначе, чем ты са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китайском – быть по отношению к другим великолепны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рабском – милосердие, терпение, сострадание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русском – умение принять другого таким, какой он е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Заголовок 6"/>
          <p:cNvSpPr/>
          <p:nvPr/>
        </p:nvSpPr>
        <p:spPr>
          <a:xfrm>
            <a:off x="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imes New Roman"/>
              </a:rPr>
              <a:t>Слово «толерантность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6600cc"/>
                </a:solidFill>
                <a:latin typeface="Times New Roman"/>
              </a:rPr>
              <a:t>Что же такое толерантность?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79280" y="7138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милосерд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сострада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уваже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доброта душ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дружб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айны, силу и мудрость своего народа дети узнают через специальные обряды, – мы их называем «ИГРЫ»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ятская игра «Иголка, нитка и узелок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ун, утахн, зангилаа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890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 играющие становятся в круг, держась за руки. Считалкой выбирают иголку, нитку и узелок. Все они друг за другом то забегают в круг, то выбегают из него. Если же нитка или узелок оторвались (отстали или неправильно выбежали за иголкой из круга или вбежали в круг, то эта группа считается проигравшей. Выбираются другие игроки. Выигрывает та тройка, которая двигалась быстро, ловко, правильно, не отставая друг от друг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правило: Иголка, нитка, узелок держатся за руки. Их надо не задерживая впускать и выпускать из круга и сразу же закрывать кру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родов Сибири и Дальнего Востока «Льдинки, ветер и мороз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ющие встают парами лицом друг к другу и хлопают в ладоши, приговарива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е льдин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рачные льдин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кают, звеня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зинь-дзинь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ют хлопок на каждое слово: сначала в свои ладоши, затем в ладоши товарища. Хлопают и говорят дзинь-дзинь до тех пор, пока не услышат сигнал «Ветер!». Дети-льдинки разбегаются в разные стороны и договариваются, кто с кем будет строить круг – большую льдинку. По сигналу «Мороз!» все выстраиваются в круг и берутся за ру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. Выигрывают те дети, у которых в кругу оказалось большее число игроков. Договариваться о том, кто с кем будет строить большую льдинку, надо тихо. Договорившиеся берутся за руки. Менять движения можно только по сигналу «Ветер!» или «Мороз!». В игру желательно включать разные движения: подскоки, легкий или быстрый бег, боковой галоп и т.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12:47Z</dcterms:created>
  <dc:creator>Admin</dc:creator>
  <dc:description/>
  <dc:language>en-US</dc:language>
  <cp:lastModifiedBy>Муравьева</cp:lastModifiedBy>
  <dcterms:modified xsi:type="dcterms:W3CDTF">2019-11-19T07:47:34Z</dcterms:modified>
  <cp:revision>29</cp:revision>
  <dc:subject/>
  <dc:title>Слайд 1</dc:title>
</cp:coreProperties>
</file>