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media/image27.png" ContentType="image/png"/>
  <Override PartName="/ppt/media/image29.png" ContentType="image/pn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09D-CE5E-4E10-BACD-AE6BA961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16C-4C54-4B44-9402-90E2E108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CE0-2EB7-4A30-9EAC-33D5172E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DEB-090B-4EC9-8EC1-413F589C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E850-CE53-45A1-AD01-3E346DC7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37CF-EEA4-4694-B867-B2033060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F948-9349-4A86-9041-9A3D9CFC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E648-2B79-4C16-ABF5-B539DAB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784B-0480-4122-8AB2-8B5A3DBA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950C-7FBB-4BFA-8588-7236F0AA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5ECB-713F-407C-AD65-3F83A54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AC9-BD8F-422F-A15C-BA873DCD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5B1F-EBDB-4146-BA88-F542310A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B832-B994-4777-B246-CF3064FD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8DCA-842E-4B9F-B044-E5C23CE6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B37D-F6B9-4E20-8205-4DCA2F1B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B81-691D-4B58-9A2A-F5D3CA9A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5403-7BC6-45DA-9608-531AD47C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36EBD-D8B2-406F-BDB9-8928C7D3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977A-E8C5-4C8B-B33A-E2045E4A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14B8-E6D8-4911-BFDA-7CD44FA8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50BD-425C-4929-B388-246D3B3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83C-BF93-482C-A88D-370DA1CB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D928-A072-46C3-BF6F-FE422EAB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DAD2-0B9F-43EA-B9D4-D66A9CA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8CD1-0A78-41BB-BC35-508124D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AD7E-3A5D-438F-BDF1-AF163EBE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55A5-D56F-4BEE-AEAB-FFB4089A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C019-1026-4A77-8EFD-FDF0C71D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733E-27D5-4B75-A013-89D4F09B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058-2331-4DD5-8DD0-0F261E3A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BB9-85A2-4B3F-B926-70A880C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3A3-818D-41CF-9088-5EF5DA1E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725-22A9-4384-9BB9-D50F0A7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F85-8393-4B40-89FD-DC712527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5C0-02BE-4A56-A260-2947EFC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C1C9-15AF-4438-8924-8960030878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E49F-C789-471C-87A3-E15D31B823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7D8C-2C02-4633-A410-0A254BF1B4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2.jpeg"/><Relationship Id="rId9" Type="http://schemas.openxmlformats.org/officeDocument/2006/relationships/image" Target="../media/image17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071720" y="157140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азала лопат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ля - чтобы ры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тинки сказал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ля - чтоб ход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люди сказал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ля - чтобы жить.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. Тетивкин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ttps://lms.tuit.co.za/courses/84/files/8602/preview"/>
          <p:cNvPicPr/>
          <p:nvPr/>
        </p:nvPicPr>
        <p:blipFill>
          <a:blip r:embed="rId1"/>
          <a:stretch/>
        </p:blipFill>
        <p:spPr>
          <a:xfrm>
            <a:off x="4179960" y="3143160"/>
            <a:ext cx="4964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70000"/>
                </a:solidFill>
                <a:latin typeface="Times New Roman"/>
              </a:rPr>
              <a:t>Почвенная карта Росси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комьтесь с размещением главных почв на территории наш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0" y="1643040"/>
            <a:ext cx="4500720" cy="4948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4500720" y="1643040"/>
            <a:ext cx="45003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словия почвообраз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Почвообразующие факторы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http://green.yuzhno-sakh.ru/files/nature/web-greenpage/7condition/ground/1struct2-1.jpg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981160" y="1857240"/>
            <a:ext cx="6162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райнем Севере почва почти весь год находится в мерзлом состоянии. При этом в почве создается переувлажнение. Здесь образуются маломощные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тундровые глеев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 Он образуется при постоянном или длительном переувлажнении и недостатке кислорода в почве. Цвет горизонта зеленовато-сизый или голубовато-серый слой, иногда с ржавыми пятнами — глеевый горизон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Тундрово-глеев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7 Тундровая"/>
          <p:cNvPicPr/>
          <p:nvPr/>
        </p:nvPicPr>
        <p:blipFill>
          <a:blip r:embed="rId1"/>
          <a:stretch/>
        </p:blipFill>
        <p:spPr>
          <a:xfrm>
            <a:off x="250920" y="27000"/>
            <a:ext cx="27493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Подзолист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85680" y="1428840"/>
            <a:ext cx="6357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половины площади страны заним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золист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рново-подзолист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 Они формируются под лесами в области избыточного увлажнения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ков здесь выпадает больше, чем может испариться. Вода как бы промывает почву. Растворяются не только минеральные вещества, но и органические соеди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малом количестве растительных остатков и при интенсивном промывании в тайге образуются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подзолист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. Они бедны гумусом и минеральными элементами, поэтому мало плодород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2 подзол"/>
          <p:cNvPicPr/>
          <p:nvPr/>
        </p:nvPicPr>
        <p:blipFill>
          <a:blip r:embed="rId1"/>
          <a:stretch/>
        </p:blipFill>
        <p:spPr>
          <a:xfrm>
            <a:off x="250920" y="790560"/>
            <a:ext cx="246384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Дерново-подзолистые поч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28960" y="1499760"/>
            <a:ext cx="6215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южной части тайги и особенно в смешанных хвойно-широколиственных лесах увеличивается поступление  растительных   остатков,   возрастают летние температуры. В этих условиях возрастает накопление гумуса. Здесь образую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дерново-подзолист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ч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3 Дернов"/>
          <p:cNvPicPr/>
          <p:nvPr/>
        </p:nvPicPr>
        <p:blipFill>
          <a:blip r:embed="rId1"/>
          <a:stretch/>
        </p:blipFill>
        <p:spPr>
          <a:xfrm>
            <a:off x="324000" y="1033560"/>
            <a:ext cx="25336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Серые лесные почв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0920" y="1557000"/>
            <a:ext cx="489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 древесной растительностью смешанных и широколиственных лесов, ежегодно сбрасывающих свою листву почвы </a:t>
            </a:r>
            <a:r>
              <a:rPr b="0" i="1" lang="ru-RU" sz="2600" spc="-1" strike="noStrike">
                <a:solidFill>
                  <a:srgbClr val="cc3300"/>
                </a:solidFill>
                <a:latin typeface="Times New Roman"/>
              </a:rPr>
              <a:t>серые лес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 в условиях резко континентального климата и многолетней мерзлоты под хвойными лесами формируются </a:t>
            </a:r>
            <a:r>
              <a:rPr b="0" i="1" lang="ru-RU" sz="2600" spc="-1" strike="noStrike">
                <a:solidFill>
                  <a:srgbClr val="cc3300"/>
                </a:solidFill>
                <a:latin typeface="Times New Roman"/>
              </a:rPr>
              <a:t>мерзлотно-таежные почв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5 Серая лесн"/>
          <p:cNvPicPr/>
          <p:nvPr/>
        </p:nvPicPr>
        <p:blipFill>
          <a:blip r:embed="rId1"/>
          <a:stretch/>
        </p:blipFill>
        <p:spPr>
          <a:xfrm>
            <a:off x="250920" y="1557360"/>
            <a:ext cx="1728720" cy="4967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8 Таежная"/>
          <p:cNvPicPr/>
          <p:nvPr/>
        </p:nvPicPr>
        <p:blipFill>
          <a:blip r:embed="rId2"/>
          <a:stretch/>
        </p:blipFill>
        <p:spPr>
          <a:xfrm>
            <a:off x="7236000" y="1557360"/>
            <a:ext cx="1728720" cy="4967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1"/>
          <p:cNvSpPr/>
          <p:nvPr/>
        </p:nvSpPr>
        <p:spPr>
          <a:xfrm>
            <a:off x="629280" y="260280"/>
            <a:ext cx="8742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         </a:t>
            </a:r>
            <a:r>
              <a:rPr b="0" lang="ru-RU" sz="4000" spc="-1" strike="noStrike">
                <a:solidFill>
                  <a:srgbClr val="0033cc"/>
                </a:solidFill>
                <a:latin typeface="Garamond"/>
              </a:rPr>
              <a:t>Мерзлотно-таёжные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19640" y="188640"/>
            <a:ext cx="4905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Чернозё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928960" y="1268280"/>
            <a:ext cx="60357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е плодородные почвы в нашей стране распространены в лесостепной и северной части степной зон. Здесь выпадает столько атмосферных осадков, сколько может испариться с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ные растения дают большое количество органического вещества ежегодно. Здесь формируются самые богатые перегноем почвы —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чернозем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— лучшие почвы нашей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6 Чернозем"/>
          <p:cNvPicPr/>
          <p:nvPr/>
        </p:nvPicPr>
        <p:blipFill>
          <a:blip r:embed="rId1"/>
          <a:stretch/>
        </p:blipFill>
        <p:spPr>
          <a:xfrm>
            <a:off x="468360" y="196920"/>
            <a:ext cx="238932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Каштановые и бурые полупустынные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85600" y="1285920"/>
            <a:ext cx="5977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движении к югу климат становится все суше и теплее, а растительный покров все более разреженным. В почву попадает меньше растительных остатков. Гумуса в почвах накапливается меньше. Здесь формируются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каштан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бурые почвы полупустын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серо-бур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4 каштан"/>
          <p:cNvPicPr/>
          <p:nvPr/>
        </p:nvPicPr>
        <p:blipFill>
          <a:blip r:embed="rId1"/>
          <a:stretch/>
        </p:blipFill>
        <p:spPr>
          <a:xfrm>
            <a:off x="81000" y="857160"/>
            <a:ext cx="1827000" cy="58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1 бурые"/>
          <p:cNvPicPr/>
          <p:nvPr/>
        </p:nvPicPr>
        <p:blipFill>
          <a:blip r:embed="rId2"/>
          <a:stretch/>
        </p:blipFill>
        <p:spPr>
          <a:xfrm>
            <a:off x="7199280" y="785880"/>
            <a:ext cx="176544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371240" y="3860280"/>
            <a:ext cx="6729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WordArt 10"/>
          <p:cNvSpPr txBox="1"/>
          <p:nvPr/>
        </p:nvSpPr>
        <p:spPr>
          <a:xfrm>
            <a:off x="1835280" y="1484280"/>
            <a:ext cx="60498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чвы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1332000" y="692280"/>
            <a:ext cx="67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розия почв 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с их разруш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916360" y="3429000"/>
            <a:ext cx="352728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 р о з и 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1187280" y="5157720"/>
            <a:ext cx="302436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5219640" y="5157720"/>
            <a:ext cx="309744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тров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H="1">
            <a:off x="2411280" y="4076640"/>
            <a:ext cx="18734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5148360" y="4076640"/>
            <a:ext cx="17287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684360" y="404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защиты почвы создаются полезащитные лесные полосы, закрепляют овраги. Но особенно важны специальная обработка почв (агротехника) и почвозащитные севообороты. Охрана почв включает в себя и борьбу с разрушением почв, с засолением и заболачиванием, а такж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ультивац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ем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900000" y="3170160"/>
            <a:ext cx="7488360" cy="26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культивация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становление земель, нарушенных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зяйственной деятельность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324000" y="11970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Мелиор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емель - это совокупность мер по улучшению почв. Мелиорация предусматривает орошение засушливых земель, орошение переувлажнённых земель, борьбу с эрозией поч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почв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http://allday1.com/imagedb/34/8/b9e31c780522b73c17881dbf03423.jpg"/>
          <p:cNvPicPr/>
          <p:nvPr/>
        </p:nvPicPr>
        <p:blipFill>
          <a:blip r:embed="rId1"/>
          <a:stretch/>
        </p:blipFill>
        <p:spPr>
          <a:xfrm>
            <a:off x="4716360" y="2033640"/>
            <a:ext cx="4427640" cy="482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blogs.sans.org/securingthehuman/files/2012/08/STH-QuestionMark.png"/>
          <p:cNvPicPr/>
          <p:nvPr/>
        </p:nvPicPr>
        <p:blipFill>
          <a:blip r:embed="rId2"/>
          <a:stretch/>
        </p:blipFill>
        <p:spPr>
          <a:xfrm>
            <a:off x="2050920" y="191628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img.meta.kz/10525/10525793.jpg"/>
          <p:cNvPicPr/>
          <p:nvPr/>
        </p:nvPicPr>
        <p:blipFill>
          <a:blip r:embed="rId3"/>
          <a:stretch/>
        </p:blipFill>
        <p:spPr>
          <a:xfrm>
            <a:off x="-28440" y="4314960"/>
            <a:ext cx="3647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такое почв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ч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особенное природное тело. Оно образуется на поверхности Земли в результате взаимодействия живой (органической) и неживой (неорганической) прир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Почвенный гумус"/>
          <p:cNvPicPr/>
          <p:nvPr/>
        </p:nvPicPr>
        <p:blipFill>
          <a:blip r:embed="rId1"/>
          <a:stretch/>
        </p:blipFill>
        <p:spPr>
          <a:xfrm>
            <a:off x="4932360" y="256536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250920" y="2565360"/>
            <a:ext cx="460836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обусловлено наличием в почвах органического вещества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гуму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ерегно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даря плодородию почвы являются величайшим природным богатством, пользоваться которым нужно разум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5092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ейшим свойством почвы является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лодород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0920" y="5805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ы образуются очень медленно. За 100 лет мощность почвы увеличивается всего на 0,5-2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43240" y="71424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В.В.Докучаев.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(1846-1903)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Основоположник научного  почвовед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7796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5280" y="98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. В. Докучаев доказал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ы распределяются закономе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пределил почвообразующие факто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  обладает  свойствами живой и неживой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 обладает плодороди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 – зеркало ландшафта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4000" y="1125360"/>
            <a:ext cx="914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чва — «зеркало» прир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42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1763640" y="2568600"/>
            <a:ext cx="5719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492360" y="620640"/>
          <a:ext cx="2303640" cy="57960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оч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24000" y="1484280"/>
          <a:ext cx="1584000" cy="895320"/>
        </p:xfrm>
        <a:graphic>
          <a:graphicData uri="http://schemas.openxmlformats.org/drawingml/2006/table">
            <a:tbl>
              <a:tblPr/>
              <a:tblGrid>
                <a:gridCol w="158400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340000" y="1484280"/>
          <a:ext cx="1511280" cy="89532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д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211640" y="1484280"/>
          <a:ext cx="2089080" cy="8650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образн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659640" y="1484280"/>
          <a:ext cx="2016000" cy="86508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венные орган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11280" y="2852640"/>
          <a:ext cx="1728720" cy="70164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инераль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24000" y="3789360"/>
          <a:ext cx="1726920" cy="71928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умусов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56000" y="2852640"/>
          <a:ext cx="1944720" cy="13114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 с растворёнными в ней веще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716360" y="2852640"/>
          <a:ext cx="1584360" cy="7016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венный возд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877080" y="2852640"/>
          <a:ext cx="2158920" cy="432000"/>
        </p:xfrm>
        <a:graphic>
          <a:graphicData uri="http://schemas.openxmlformats.org/drawingml/2006/table">
            <a:tbl>
              <a:tblPr/>
              <a:tblGrid>
                <a:gridCol w="21589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732720" y="3500280"/>
          <a:ext cx="1942920" cy="43200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516720" y="4365720"/>
          <a:ext cx="2087640" cy="5760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 раст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99"/>
                        </a:gs>
                        <a:gs pos="100000">
                          <a:srgbClr val="005e4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9" name="Line 249"/>
          <p:cNvSpPr/>
          <p:nvPr/>
        </p:nvSpPr>
        <p:spPr>
          <a:xfrm>
            <a:off x="4643280" y="119700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51"/>
          <p:cNvSpPr/>
          <p:nvPr/>
        </p:nvSpPr>
        <p:spPr>
          <a:xfrm>
            <a:off x="4932360" y="1197000"/>
            <a:ext cx="266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3"/>
          <p:cNvSpPr/>
          <p:nvPr/>
        </p:nvSpPr>
        <p:spPr>
          <a:xfrm flipH="1">
            <a:off x="3132000" y="119700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4"/>
          <p:cNvSpPr/>
          <p:nvPr/>
        </p:nvSpPr>
        <p:spPr>
          <a:xfrm flipH="1">
            <a:off x="1331640" y="1197000"/>
            <a:ext cx="26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55"/>
          <p:cNvSpPr/>
          <p:nvPr/>
        </p:nvSpPr>
        <p:spPr>
          <a:xfrm>
            <a:off x="3203640" y="242100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56"/>
          <p:cNvSpPr/>
          <p:nvPr/>
        </p:nvSpPr>
        <p:spPr>
          <a:xfrm>
            <a:off x="5003640" y="2349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7"/>
          <p:cNvSpPr/>
          <p:nvPr/>
        </p:nvSpPr>
        <p:spPr>
          <a:xfrm>
            <a:off x="111600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60"/>
          <p:cNvSpPr/>
          <p:nvPr/>
        </p:nvSpPr>
        <p:spPr>
          <a:xfrm flipH="1">
            <a:off x="468360" y="242100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63"/>
          <p:cNvSpPr/>
          <p:nvPr/>
        </p:nvSpPr>
        <p:spPr>
          <a:xfrm flipH="1">
            <a:off x="6588000" y="2349360"/>
            <a:ext cx="14472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64"/>
          <p:cNvSpPr/>
          <p:nvPr/>
        </p:nvSpPr>
        <p:spPr>
          <a:xfrm>
            <a:off x="6804000" y="23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65"/>
          <p:cNvSpPr/>
          <p:nvPr/>
        </p:nvSpPr>
        <p:spPr>
          <a:xfrm>
            <a:off x="7596360" y="234936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293"/>
          <p:cNvSpPr txBox="1"/>
          <p:nvPr/>
        </p:nvSpPr>
        <p:spPr>
          <a:xfrm>
            <a:off x="2124000" y="0"/>
            <a:ext cx="51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став 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0892"/>
                </a:solidFill>
                <a:latin typeface="Times New Roman"/>
              </a:rPr>
              <a:t>Почвообразующие факто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6" descr="Почвообразующие факторы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179280" y="907920"/>
          <a:ext cx="2089080" cy="10810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348000" y="4221000"/>
          <a:ext cx="2232000" cy="115272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Горные по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0"/>
          <p:cNvSpPr/>
          <p:nvPr/>
        </p:nvSpPr>
        <p:spPr>
          <a:xfrm>
            <a:off x="32400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помните какую роль играет в образовании почв каждый из указанных факто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2205000"/>
          <a:ext cx="1650960" cy="1440000"/>
        </p:xfrm>
        <a:graphic>
          <a:graphicData uri="http://schemas.openxmlformats.org/drawingml/2006/table">
            <a:tbl>
              <a:tblPr/>
              <a:tblGrid>
                <a:gridCol w="16509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588000" y="836640"/>
          <a:ext cx="1944720" cy="107964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Животный м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588000" y="4149720"/>
          <a:ext cx="1944720" cy="11509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Релье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50920" y="4221000"/>
          <a:ext cx="2016000" cy="11527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Грунтовые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588000" y="2492280"/>
          <a:ext cx="2087640" cy="122400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еятельность чело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419640" y="765000"/>
          <a:ext cx="2376360" cy="107964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Раст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102"/>
          <p:cNvSpPr/>
          <p:nvPr/>
        </p:nvSpPr>
        <p:spPr>
          <a:xfrm>
            <a:off x="395280" y="5516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ются источником образования минеральной части почвы, влияющим на её механический сост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3"/>
          <p:cNvSpPr/>
          <p:nvPr/>
        </p:nvSpPr>
        <p:spPr>
          <a:xfrm>
            <a:off x="358920" y="5484960"/>
            <a:ext cx="86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ует накоплению органических веществ, улучшает физические свойства, тепловой и водный режим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4"/>
          <p:cNvSpPr/>
          <p:nvPr/>
        </p:nvSpPr>
        <p:spPr>
          <a:xfrm>
            <a:off x="25092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ет образование перегноя – вещества, придающего почве плодород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5"/>
          <p:cNvSpPr/>
          <p:nvPr/>
        </p:nvSpPr>
        <p:spPr>
          <a:xfrm>
            <a:off x="395280" y="55166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т распределение климатических почвообразующих элемент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6"/>
          <p:cNvSpPr/>
          <p:nvPr/>
        </p:nvSpPr>
        <p:spPr>
          <a:xfrm>
            <a:off x="395280" y="5516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ияет на  тип и качество почвы, воздействуя на растения, животных, микроорганизмы, вла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7"/>
          <p:cNvSpPr/>
          <p:nvPr/>
        </p:nvSpPr>
        <p:spPr>
          <a:xfrm>
            <a:off x="324000" y="544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о улучшает или ухудшает качество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8"/>
          <p:cNvSpPr/>
          <p:nvPr/>
        </p:nvSpPr>
        <p:spPr>
          <a:xfrm>
            <a:off x="395280" y="5516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ет мощность почвенного сло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3"/>
          <p:cNvSpPr/>
          <p:nvPr/>
        </p:nvSpPr>
        <p:spPr>
          <a:xfrm>
            <a:off x="395280" y="55897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ет водный режим и структуру поч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User</cp:lastModifiedBy>
  <dcterms:modified xsi:type="dcterms:W3CDTF">2018-05-03T09:40:22Z</dcterms:modified>
  <cp:revision>83</cp:revision>
  <dc:subject/>
  <dc:title>PowerPoint Presentation</dc:title>
</cp:coreProperties>
</file>