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4DF-9170-41E6-BB9E-C83A5DBC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E26-978D-45DE-AEE8-5EC1E1B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AB2-1629-4335-A0D0-881E0DCE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C76-5A11-4903-ABD1-887E81A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EF7C-D479-4B19-BA15-3B5C1D30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B537-5456-47E9-BD43-C17C51B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B31B-C561-44A9-AA77-538B8E1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B6A-7E93-4473-B93E-1CC29C1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8C76-CF95-4383-BA29-16097729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948-6636-4452-A327-8060E52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67B-CE61-488A-9538-A6CBB46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AF5-DA4B-4038-B1AD-B5BA75AB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52E1-CFF6-47A5-8921-2734973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40D9-CAA2-4F84-84AE-32E5B10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5951-96E6-4926-9BA7-08E2838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E24A-37F1-4B0F-88D4-FE8045C5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F2E-54F4-4926-8251-806AEE19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B56F-B79D-4EEF-87BB-04616CD3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907C-F22A-4CB1-9C29-3A35492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BD71-D6B9-4EF8-B848-72A70F88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A52B-BC0F-46F7-B570-AD445F4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59E4-36CD-4B9F-97C4-7CB28DF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3AF-A047-4F69-917B-5773A147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2DDA-B003-49CF-AD1D-70EE1CF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5E3C-1992-43D3-B142-C09528B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CB94-5BA8-4CA9-8B27-1A65059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A41D-7A67-4DC9-BE01-9EC9B98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0102-2383-417B-8589-5EB9580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922E-036D-428E-931F-7BCC955B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B625-9EDE-40E1-A516-E86B8C4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1B4-B564-4791-A209-EE7BB93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901-3EB1-4309-A559-A2652E35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F7A-AED3-4BF5-978F-6A1F7370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C0D-6860-4861-9AA1-AA005D9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EE1-AC4D-4DCF-8306-7F2C8C0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2A2-A051-4AD8-84CF-D7C8767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C21-FC1C-419A-A788-4FBCE3FA7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756-A30B-472F-A515-F63C0F48A8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6C63-633B-46C0-AE3B-93F051B348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2.jpeg"/><Relationship Id="rId9" Type="http://schemas.openxmlformats.org/officeDocument/2006/relationships/image" Target="../media/image17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071720" y="157140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зала лопат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ы ры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тинки сказа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 ход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люди сказа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ы жить.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. Тетивкин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ttps://lms.tuit.co.za/courses/84/files/8602/preview"/>
          <p:cNvPicPr/>
          <p:nvPr/>
        </p:nvPicPr>
        <p:blipFill>
          <a:blip r:embed="rId1"/>
          <a:stretch/>
        </p:blipFill>
        <p:spPr>
          <a:xfrm>
            <a:off x="4179960" y="3143160"/>
            <a:ext cx="4964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70000"/>
                </a:solidFill>
                <a:latin typeface="Times New Roman"/>
              </a:rPr>
              <a:t>Почвенная карта Росси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комьтесь с размещением главных почв на территории наш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500720" cy="4948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500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словия почво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Почвообразующие факторы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green.yuzhno-sakh.ru/files/nature/web-greenpage/7condition/ground/1struct2-1.jpg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981160" y="1857240"/>
            <a:ext cx="6162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райнем Севере почва почти весь год находится в мерзлом состоянии. При этом в почве создается переувлажнение. Здесь образуются маломощные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тундровые глеев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 образуется при постоянном или длительном переувлажнении и недостатке кислорода в почве. Цвет горизонта зеленовато-сизый или голубовато-серый слой, иногда с ржавыми пятнами — глеевый горизон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Тундрово-глеев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7 Тундровая"/>
          <p:cNvPicPr/>
          <p:nvPr/>
        </p:nvPicPr>
        <p:blipFill>
          <a:blip r:embed="rId1"/>
          <a:stretch/>
        </p:blipFill>
        <p:spPr>
          <a:xfrm>
            <a:off x="250920" y="27000"/>
            <a:ext cx="27493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85680" y="1428840"/>
            <a:ext cx="6357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половины площади страны за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золист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рново-подзолист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и формируются под лесами в области избыточного увлажнения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ков здесь выпадает больше, чем может испариться. Вода как бы промывает почву. Растворяются не только минеральные вещества, но и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малом количестве растительных остатков и при интенсивном промывании в тайге образуются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подзолист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и бедны гумусом и минеральными элементами, поэтому мало плодород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2 подзол"/>
          <p:cNvPicPr/>
          <p:nvPr/>
        </p:nvPicPr>
        <p:blipFill>
          <a:blip r:embed="rId1"/>
          <a:stretch/>
        </p:blipFill>
        <p:spPr>
          <a:xfrm>
            <a:off x="250920" y="790560"/>
            <a:ext cx="24638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Дерново-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28960" y="1499760"/>
            <a:ext cx="6215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южной части тайги и особенно в смешанных хвойно-широколиственных лесах увеличивается поступление  растительных   остатков,   возрастают летние температуры. В этих условиях возрастает накопление гумуса. Здесь образ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дерново-подзолист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ч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3 Дернов"/>
          <p:cNvPicPr/>
          <p:nvPr/>
        </p:nvPicPr>
        <p:blipFill>
          <a:blip r:embed="rId1"/>
          <a:stretch/>
        </p:blipFill>
        <p:spPr>
          <a:xfrm>
            <a:off x="324000" y="1033560"/>
            <a:ext cx="25336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ерые лесные почв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0920" y="1557000"/>
            <a:ext cx="489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 древесной растительностью смешанных и широколиственных лесов, ежегодно сбрасывающих свою листву почвы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серые лес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в условиях резко континентального климата и многолетней мерзлоты под хвойными лесами формируются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мерзлотно-таежные почв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5 Серая лесн"/>
          <p:cNvPicPr/>
          <p:nvPr/>
        </p:nvPicPr>
        <p:blipFill>
          <a:blip r:embed="rId1"/>
          <a:stretch/>
        </p:blipFill>
        <p:spPr>
          <a:xfrm>
            <a:off x="250920" y="1557360"/>
            <a:ext cx="1728720" cy="496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8 Таежная"/>
          <p:cNvPicPr/>
          <p:nvPr/>
        </p:nvPicPr>
        <p:blipFill>
          <a:blip r:embed="rId2"/>
          <a:stretch/>
        </p:blipFill>
        <p:spPr>
          <a:xfrm>
            <a:off x="7236000" y="1557360"/>
            <a:ext cx="1728720" cy="4967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629280" y="260280"/>
            <a:ext cx="874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0033cc"/>
                </a:solidFill>
                <a:latin typeface="Garamond"/>
              </a:rPr>
              <a:t>Мерзлотно-таёж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49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Чернозё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28960" y="1268280"/>
            <a:ext cx="6035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е плодородные почвы в нашей стране распространены в лесостепной и северной части степной зон. Здесь выпадает столько атмосферных осадков, сколько может испариться с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ные растения дают большое количество органического вещества ежегодно. Здесь формируются самые богатые перегноем почвы —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чернозем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— лучшие почвы наше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6 Чернозем"/>
          <p:cNvPicPr/>
          <p:nvPr/>
        </p:nvPicPr>
        <p:blipFill>
          <a:blip r:embed="rId1"/>
          <a:stretch/>
        </p:blipFill>
        <p:spPr>
          <a:xfrm>
            <a:off x="468360" y="196920"/>
            <a:ext cx="238932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Каштановые и бурые полупустын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5600" y="1285920"/>
            <a:ext cx="597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движении к югу климат становится все суше и теплее, а растительный покров все более разреженным. В почву попадает меньше растительных остатков. Гумуса в почвах накапливается меньше. Здесь формир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каштан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бурые почвы полупусты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серо-бу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4 каштан"/>
          <p:cNvPicPr/>
          <p:nvPr/>
        </p:nvPicPr>
        <p:blipFill>
          <a:blip r:embed="rId1"/>
          <a:stretch/>
        </p:blipFill>
        <p:spPr>
          <a:xfrm>
            <a:off x="81000" y="857160"/>
            <a:ext cx="1827000" cy="58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 бурые"/>
          <p:cNvPicPr/>
          <p:nvPr/>
        </p:nvPicPr>
        <p:blipFill>
          <a:blip r:embed="rId2"/>
          <a:stretch/>
        </p:blipFill>
        <p:spPr>
          <a:xfrm>
            <a:off x="7199280" y="785880"/>
            <a:ext cx="176544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240" y="3860280"/>
            <a:ext cx="6729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1835280" y="1484280"/>
            <a:ext cx="6049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в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1332000" y="69228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розия почв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 их разруш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916360" y="3429000"/>
            <a:ext cx="352728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 р о з и 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1187280" y="5157720"/>
            <a:ext cx="302436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5219640" y="5157720"/>
            <a:ext cx="309744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о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H="1">
            <a:off x="2411280" y="4076640"/>
            <a:ext cx="18734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5148360" y="4076640"/>
            <a:ext cx="17287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684360" y="40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защиты почвы создаются полезащитные лесные полосы, закрепляют овраги. Но особенно важны специальная обработка почв (агротехника) и почвозащитные севообороты. Охрана почв включает в себя и борьбу с разрушением почв, с засолением и заболачиванием, 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ультив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ем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900000" y="3170160"/>
            <a:ext cx="7488360" cy="26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культивация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становление земель, нарушенных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зяйственной деятельност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24000" y="11970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Мелиор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емель - это совокупность мер по улучшению почв. Мелиорация предусматривает орошение засушливых земель, орошение переувлажнённых земель, борьбу с эрозией поч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почв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http://allday1.com/imagedb/34/8/b9e31c780522b73c17881dbf03423.jpg"/>
          <p:cNvPicPr/>
          <p:nvPr/>
        </p:nvPicPr>
        <p:blipFill>
          <a:blip r:embed="rId1"/>
          <a:stretch/>
        </p:blipFill>
        <p:spPr>
          <a:xfrm>
            <a:off x="4716360" y="2033640"/>
            <a:ext cx="4427640" cy="482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blogs.sans.org/securingthehuman/files/2012/08/STH-QuestionMark.png"/>
          <p:cNvPicPr/>
          <p:nvPr/>
        </p:nvPicPr>
        <p:blipFill>
          <a:blip r:embed="rId2"/>
          <a:stretch/>
        </p:blipFill>
        <p:spPr>
          <a:xfrm>
            <a:off x="2050920" y="191628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g.meta.kz/10525/10525793.jpg"/>
          <p:cNvPicPr/>
          <p:nvPr/>
        </p:nvPicPr>
        <p:blipFill>
          <a:blip r:embed="rId3"/>
          <a:stretch/>
        </p:blipFill>
        <p:spPr>
          <a:xfrm>
            <a:off x="-28440" y="4314960"/>
            <a:ext cx="3647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оч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особенное природное тело. Оно образуется на поверхности Земли в результате взаимодействия живой (органической) и неживой (неорганической) прир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Почвенный гумус"/>
          <p:cNvPicPr/>
          <p:nvPr/>
        </p:nvPicPr>
        <p:blipFill>
          <a:blip r:embed="rId1"/>
          <a:stretch/>
        </p:blipFill>
        <p:spPr>
          <a:xfrm>
            <a:off x="4932360" y="2565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250920" y="2565360"/>
            <a:ext cx="460836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обусловлено наличием в почвах органического вещества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уму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ерегн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плодородию почвы являются величайшим природным богатством, пользоваться которым нужно разум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5092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 свойством почвы является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лодород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0920" y="5805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 образуются очень медленно. За 100 лет мощность почвы увеличивается всего на 0,5-2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3240" y="71424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В.В.Докучаев.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(1846-1903)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Основоположник научного  почвовед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7796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528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 В. Докучаев доказа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ы распределяются закономе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пределил почвообразующие факто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 обладает  свойствами живой и неживой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обладает плодороди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– зеркало ландшафта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1125360"/>
            <a:ext cx="914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чва — «зеркало» прир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42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1763640" y="2568600"/>
            <a:ext cx="5719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92360" y="620640"/>
          <a:ext cx="2303640" cy="57960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ч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24000" y="1484280"/>
          <a:ext cx="1584000" cy="89532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40000" y="1484280"/>
          <a:ext cx="1511280" cy="8953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11640" y="1484280"/>
          <a:ext cx="2089080" cy="8650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659640" y="1484280"/>
          <a:ext cx="2016000" cy="865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е орган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1280" y="2852640"/>
          <a:ext cx="1728720" cy="70164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инераль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4000" y="3789360"/>
          <a:ext cx="1726920" cy="71928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умусов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56000" y="2852640"/>
          <a:ext cx="1944720" cy="13114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 с растворёнными в ней веще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716360" y="2852640"/>
          <a:ext cx="1584360" cy="701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й 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877080" y="2852640"/>
          <a:ext cx="2158920" cy="43200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732720" y="3500280"/>
          <a:ext cx="1942920" cy="43200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516720" y="4365720"/>
          <a:ext cx="2087640" cy="576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9" name="Line 249"/>
          <p:cNvSpPr/>
          <p:nvPr/>
        </p:nvSpPr>
        <p:spPr>
          <a:xfrm>
            <a:off x="4643280" y="119700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51"/>
          <p:cNvSpPr/>
          <p:nvPr/>
        </p:nvSpPr>
        <p:spPr>
          <a:xfrm>
            <a:off x="4932360" y="1197000"/>
            <a:ext cx="266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3"/>
          <p:cNvSpPr/>
          <p:nvPr/>
        </p:nvSpPr>
        <p:spPr>
          <a:xfrm flipH="1">
            <a:off x="3132000" y="119700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4"/>
          <p:cNvSpPr/>
          <p:nvPr/>
        </p:nvSpPr>
        <p:spPr>
          <a:xfrm flipH="1">
            <a:off x="1331640" y="1197000"/>
            <a:ext cx="26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55"/>
          <p:cNvSpPr/>
          <p:nvPr/>
        </p:nvSpPr>
        <p:spPr>
          <a:xfrm>
            <a:off x="3203640" y="242100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6"/>
          <p:cNvSpPr/>
          <p:nvPr/>
        </p:nvSpPr>
        <p:spPr>
          <a:xfrm>
            <a:off x="5003640" y="234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7"/>
          <p:cNvSpPr/>
          <p:nvPr/>
        </p:nvSpPr>
        <p:spPr>
          <a:xfrm>
            <a:off x="111600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60"/>
          <p:cNvSpPr/>
          <p:nvPr/>
        </p:nvSpPr>
        <p:spPr>
          <a:xfrm flipH="1">
            <a:off x="468360" y="242100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63"/>
          <p:cNvSpPr/>
          <p:nvPr/>
        </p:nvSpPr>
        <p:spPr>
          <a:xfrm flipH="1">
            <a:off x="6588000" y="2349360"/>
            <a:ext cx="14472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64"/>
          <p:cNvSpPr/>
          <p:nvPr/>
        </p:nvSpPr>
        <p:spPr>
          <a:xfrm>
            <a:off x="6804000" y="23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65"/>
          <p:cNvSpPr/>
          <p:nvPr/>
        </p:nvSpPr>
        <p:spPr>
          <a:xfrm>
            <a:off x="7596360" y="2349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293"/>
          <p:cNvSpPr txBox="1"/>
          <p:nvPr/>
        </p:nvSpPr>
        <p:spPr>
          <a:xfrm>
            <a:off x="2124000" y="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став 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0892"/>
                </a:solidFill>
                <a:latin typeface="Times New Roman"/>
              </a:rPr>
              <a:t>Почвообразующие факто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6" descr="Почвообразующие факторы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79280" y="907920"/>
          <a:ext cx="2089080" cy="10810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48000" y="4221000"/>
          <a:ext cx="2232000" cy="11527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орные по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0"/>
          <p:cNvSpPr/>
          <p:nvPr/>
        </p:nvSpPr>
        <p:spPr>
          <a:xfrm>
            <a:off x="32400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те какую роль играет в образовании почв каждый из указанных факто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2205000"/>
          <a:ext cx="1650960" cy="1440000"/>
        </p:xfrm>
        <a:graphic>
          <a:graphicData uri="http://schemas.openxmlformats.org/drawingml/2006/table">
            <a:tbl>
              <a:tblPr/>
              <a:tblGrid>
                <a:gridCol w="16509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588000" y="836640"/>
          <a:ext cx="1944720" cy="1079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Животный 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588000" y="4149720"/>
          <a:ext cx="1944720" cy="11509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елье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50920" y="4221000"/>
          <a:ext cx="2016000" cy="1152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рунтовые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588000" y="2492280"/>
          <a:ext cx="2087640" cy="1224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419640" y="765000"/>
          <a:ext cx="2376360" cy="107964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аст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102"/>
          <p:cNvSpPr/>
          <p:nvPr/>
        </p:nvSpPr>
        <p:spPr>
          <a:xfrm>
            <a:off x="395280" y="5516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ются источником образования минеральной части почвы, влияющим на её механический сост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3"/>
          <p:cNvSpPr/>
          <p:nvPr/>
        </p:nvSpPr>
        <p:spPr>
          <a:xfrm>
            <a:off x="358920" y="5484960"/>
            <a:ext cx="86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ует накоплению органических веществ, улучшает физические свойства, тепловой и водный режим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4"/>
          <p:cNvSpPr/>
          <p:nvPr/>
        </p:nvSpPr>
        <p:spPr>
          <a:xfrm>
            <a:off x="25092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ет образование перегноя – вещества, придающего почве плодород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5"/>
          <p:cNvSpPr/>
          <p:nvPr/>
        </p:nvSpPr>
        <p:spPr>
          <a:xfrm>
            <a:off x="395280" y="5516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 распределение климатических почвообразующих элемент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6"/>
          <p:cNvSpPr/>
          <p:nvPr/>
        </p:nvSpPr>
        <p:spPr>
          <a:xfrm>
            <a:off x="395280" y="551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ет на  тип и качество почвы, воздействуя на растения, животных, микроорганизмы, вла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7"/>
          <p:cNvSpPr/>
          <p:nvPr/>
        </p:nvSpPr>
        <p:spPr>
          <a:xfrm>
            <a:off x="324000" y="544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улучшает или ухудшает качество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8"/>
          <p:cNvSpPr/>
          <p:nvPr/>
        </p:nvSpPr>
        <p:spPr>
          <a:xfrm>
            <a:off x="395280" y="5516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мощность почвенного сл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3"/>
          <p:cNvSpPr/>
          <p:nvPr/>
        </p:nvSpPr>
        <p:spPr>
          <a:xfrm>
            <a:off x="395280" y="55897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водный режим и структуру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User</cp:lastModifiedBy>
  <dcterms:modified xsi:type="dcterms:W3CDTF">2018-05-03T09:40:22Z</dcterms:modified>
  <cp:revision>83</cp:revision>
  <dc:subject/>
  <dc:title>PowerPoint Presentation</dc:title>
</cp:coreProperties>
</file>