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move the slide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EA36-EFDB-4DD4-BE86-3446B7CC91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E4B2-6E6C-4EF6-B8F1-AC57D33EE3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3B3-ABF7-4035-8D3F-F83D331B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D08-E03C-440C-B392-F97E158C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D2FAC-3F51-4DF3-BC0F-CE450BB0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A357B-C062-471A-A558-804F183E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E3027-7F44-4A9F-96F4-41730AC2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64D39-5B6B-4D8F-BBEB-82395CF4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75375-401B-4026-A4FF-CDD5ACAF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B4838-7264-4FB1-85F5-753E0AEE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46247-CDD8-41BD-B0FC-F251E99A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4A7E1-D6A5-41E5-B9CB-30D67769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0582D-82EB-4144-B03C-9C58CE9B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C3664-58A8-4BF0-9ED3-A4077D99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8CA-64FB-4C5B-B0BD-877D2589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EC3B7-9D38-4644-92BD-33CD9186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049B1-E4DE-4924-8F7B-D5502E07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1EE92-A32B-44B5-8405-D23A2077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C14F4-CEA0-4E25-96A0-96DD9116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7C39A-CD3E-44D2-BC75-F3457DC4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67D21-CE24-4AB1-8F1A-BB4D3D73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65372-3948-42CD-96B2-C2401BEB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419DD-88D5-49FD-8A6A-32EF81D4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02390-1784-468E-B693-CDBFC960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13DD7-263A-472C-A4F0-54C08C52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918-0250-4C32-9966-2BAF62D5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37EF8-13BE-41A0-B4E5-B2055E76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36154-2AEF-47E8-B192-1D3F4D3B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62155-371E-40A2-A09E-627CC59C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E5507-86AE-4B68-B789-EE0ABF44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9483D-E453-41F8-A368-4EC2D463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61B2A-87BE-43FF-B783-1E3EC099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02D0C-E555-49A7-8174-83700744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474BC-7319-415D-9EAD-0E777985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93124-97F9-460C-B133-00A77E6B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165CF-BFA1-4E89-85F7-88FC4DD4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8976-4AF7-4109-8A85-7D982ABB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8B76F-C071-4E21-B7FD-20F75ED2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38B20-2615-4B30-8D8E-01DE0860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430F5-B12E-4DE4-8B4A-4F6E6912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66115-8DD0-4E5F-BAB8-7D53E83B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2DB9B-F2E5-4320-9753-ED76D576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9460D-9994-486F-AFDE-9B4B54AF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B9C5D-C605-4427-B7CA-25972BE3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57B49-6982-4C6E-831A-F10D0859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287FA-9028-4964-A313-69C3689C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36EEA-FA29-4FEA-958D-2FABEC1A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A10F-740A-4282-A991-FC01F162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8CBFD-B386-43FE-92E4-10ACD0F2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8E472-0173-463F-9C85-F5C64C12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A7964-D91E-431F-8248-8312C9AA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0A469-E7F5-4B57-B25B-CB3C1DE1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7CE5C-AE21-4374-B8AD-C7CD03E8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E5A4-5FDF-4AAC-A771-34A9BA69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6B06-8D58-4501-947F-7B1A9DBD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A705-122A-4693-9319-91C4E362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0CAC-C8B4-4EB8-A84C-C717F3BA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74BD-4DF3-4CCE-87A8-A58833B2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89D-81ED-4BD7-A5BE-DF398107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C05F-EFAD-45EA-B07A-9D5E7BDD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C239-FA50-4037-9156-CF8C3EEB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52F8-CA98-4D47-8AB7-CACDB23B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4763-B7F7-41EB-A76A-1C852275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862F-AF28-4BB1-8835-E6C35B46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6173-C158-4F53-9F2C-5CF30EA0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57DEC-8094-436A-938E-78E7B6AA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F287-425C-4D39-9A71-C1A12A1A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2867D-6DE4-47F1-A5AA-EFADFCAD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B3A1-C300-48D5-9374-56D1395E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4EB-E1CA-47C9-84A1-10CC59AA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15F29-7736-40D6-A579-D8469E71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D379-5078-41C4-A22C-5967765D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298E9-4484-468B-A798-B2A88D58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D2A7-49E5-4C2D-9D29-78BFCBF2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8EA6D-722C-4A16-8B0F-CF8174BA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A86CE-F870-4BF1-9BB4-9BD7DC9C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F817-D1CE-4200-890B-5B7A1256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DF63D-E6E6-4C9B-A9AD-11FDC0B7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6EE9E-547B-49A4-B7A8-BDB6AF56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79BA-3167-490E-B305-AB5C037C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089-A1EC-44BD-8D6D-F8741FD0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797A6-0E39-4844-946E-61EA2872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6794D-40EF-447A-BBF3-17250737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893F8-748B-4C45-9540-B86573FF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17852-AF92-484D-B429-20ECDB52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59759-BE52-4042-8B35-598744C9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B70D8-4083-4E71-9113-D22C3A82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B0D45-B9ED-44BD-A827-8F50D28F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BE2AC-CB3B-481A-8C51-DB979FC6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FDC7-4299-4B05-8EED-E85849E8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C6439-ADCE-410B-8CD1-426083A6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96F-0855-415C-B40F-E2BFF56A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C520E-9280-4B41-BF85-B9A519F9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967A-02C1-4857-A5EE-AB155CEB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DA4E5-FFAF-476F-9723-91C3C760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A9CD3-03DE-48C5-9F25-531F14E4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7DCBB-F7C2-49A9-8B14-A91E1126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2DA0-8834-45C0-BB1C-28DA4D5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AD093-8D13-4C3C-AD32-024383F3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FD616-06D5-46CD-8C9D-148332F6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0512A-8833-4324-B257-7671F59F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C314B-7C1B-402D-BEEF-DF778301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9B1-04BA-472D-A097-CE320136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1063A-70BE-450C-A02B-24BCCEC9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CCFCE-0C47-4A3A-8C1F-7D6D24F0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62823-11BD-48CA-A44C-638616FA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83CE4-230A-45FF-BB0E-D199BAF3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BD2C8-821B-4DA7-9C57-70C0A2B4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23959-B18B-425D-B862-4872CBBB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E7E30-15F1-46D9-ADBF-66342ACB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24D3D-FCA1-431E-AF42-3B7926D5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83617-4123-49A7-BE94-C8FC74A2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E1E26-79EC-4027-ABC3-77DFC6E8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178-7E20-4344-8607-C7D804C2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8DD55-678C-4BBD-B79E-6F0A9DA4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AE7F6-FBED-4EBE-AE8F-F7213627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4CDA1-B901-46FE-A690-854527E0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D0DED-5E15-497B-B007-78D41FF6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69D0B-846B-4F2B-919D-5238DC01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A2DEF-428C-474C-8F80-B8166A97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399D4-60F1-4DD3-9F42-09061AC3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282F3-7B52-4D77-B24C-EE3DDEFA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35106-8DFB-421B-A539-0708B676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211CB-1824-4D0E-8050-92B0E72D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8FA-39D9-4F18-8D2F-66EDA82A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89A6E-651D-4A76-A296-AB758EA4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AB585-19F9-4B99-A93E-57242A76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0401D-C531-43A3-8BB2-A72F573E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5483E-2B4B-4BD6-A9FC-7EC74F43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C79DB-9A79-40F8-8ACE-AF8FD4E9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53D7B-5E36-4292-A041-36521288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9FDC5-F430-4724-96C8-315E2B3C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585DB-E8D3-4E22-B8B3-D34DAF34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16082-48EF-472E-AF8D-3EFD72D9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898EE-8FB2-4211-8DA4-81E17670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F8EA-87BF-448E-8946-F3346F60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E3DC5-1BBF-4A1D-96F9-3CFB5E61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3B2F6-C1C0-47BF-BC48-FFB83D40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930C5-72B2-48C4-BEB2-F7E223A2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2E40B-3268-48DE-9583-F46BC50E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7F7A0-75BD-45EE-B385-EFDAE35B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5AF2D-8D21-46F7-8AE3-92C92EE4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DC70B-94B9-4639-9816-CB6DDB13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9E9FA-2CB8-47C7-A436-E6042AF2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1248C-6C7B-4BDB-9157-31DE5ABB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600E0-5CE0-4291-8ADC-0A519712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  30.06.12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6563-0E13-46C5-8FD6-0EA8846CB1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6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404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405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7D2C-B806-4A9C-B4D4-C19BD1590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448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449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7F4A-54EF-4A14-B0F0-FCE86CFE1E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492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493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7038-9010-423D-843D-27F92AED35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45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46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7" descr="image002.jpg"/>
          <p:cNvPicPr/>
          <p:nvPr/>
        </p:nvPicPr>
        <p:blipFill>
          <a:blip r:embed="rId5"/>
          <a:stretch/>
        </p:blipFill>
        <p:spPr>
          <a:xfrm>
            <a:off x="171360" y="3395520"/>
            <a:ext cx="1395360" cy="3249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C19B-5941-4563-B234-35DC468816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90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91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Рисунок 7" descr="01-vikihelp_09.jpg"/>
          <p:cNvPicPr/>
          <p:nvPr/>
        </p:nvPicPr>
        <p:blipFill>
          <a:blip r:embed="rId5"/>
          <a:stretch/>
        </p:blipFill>
        <p:spPr>
          <a:xfrm>
            <a:off x="-142920" y="3786120"/>
            <a:ext cx="1619280" cy="1214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E16A-FE7F-4F32-A20A-A14EB7B54D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135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136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Рисунок 7" descr="dostupnaya_sreda.jpg"/>
          <p:cNvPicPr/>
          <p:nvPr/>
        </p:nvPicPr>
        <p:blipFill>
          <a:blip r:embed="rId5"/>
          <a:stretch/>
        </p:blipFill>
        <p:spPr>
          <a:xfrm>
            <a:off x="7218360" y="3797280"/>
            <a:ext cx="1925640" cy="1347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D8AB-5B4A-4A49-88DA-6DEBDF9843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180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181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Рисунок 7" descr="emblem_inc.jpg"/>
          <p:cNvPicPr/>
          <p:nvPr/>
        </p:nvPicPr>
        <p:blipFill>
          <a:blip r:embed="rId5"/>
          <a:stretch/>
        </p:blipFill>
        <p:spPr>
          <a:xfrm>
            <a:off x="-92160" y="3700440"/>
            <a:ext cx="1444680" cy="1530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2AD2-D4E9-4A66-BB1F-81B257EAC9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225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226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Рисунок 7" descr="imgpreview.jpg"/>
          <p:cNvPicPr/>
          <p:nvPr/>
        </p:nvPicPr>
        <p:blipFill>
          <a:blip r:embed="rId5"/>
          <a:stretch/>
        </p:blipFill>
        <p:spPr>
          <a:xfrm>
            <a:off x="142920" y="4071960"/>
            <a:ext cx="1285920" cy="9637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75ED-C894-4BA0-9469-9554431814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270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271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Рисунок 7" descr="i.jpg"/>
          <p:cNvPicPr/>
          <p:nvPr/>
        </p:nvPicPr>
        <p:blipFill>
          <a:blip r:embed="rId5"/>
          <a:stretch/>
        </p:blipFill>
        <p:spPr>
          <a:xfrm>
            <a:off x="139680" y="4071960"/>
            <a:ext cx="1000080" cy="9572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асечник Е.А.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22A2-943F-4944-B20A-82A97F4E8A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316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317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3E20-2E03-425D-9367-6DCB2A37F6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8" descr="Emblema-Odarennyie-deti-budushhee-Rossii.jpg"/>
          <p:cNvPicPr/>
          <p:nvPr/>
        </p:nvPicPr>
        <p:blipFill>
          <a:blip r:embed="rId3"/>
          <a:stretch/>
        </p:blipFill>
        <p:spPr>
          <a:xfrm>
            <a:off x="7900920" y="36360"/>
            <a:ext cx="1230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360" name="Рамка 6"/>
          <p:cNvGrpSpPr/>
          <p:nvPr/>
        </p:nvGrpSpPr>
        <p:grpSpPr>
          <a:xfrm>
            <a:off x="-55440" y="-30240"/>
            <a:ext cx="9254880" cy="5254560"/>
            <a:chOff x="-55440" y="-30240"/>
            <a:chExt cx="9254880" cy="5254560"/>
          </a:xfrm>
        </p:grpSpPr>
        <p:pic>
          <p:nvPicPr>
            <p:cNvPr id="361" name="Рамка 6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92548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04760" y="104760"/>
              <a:ext cx="8934480" cy="49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7784-1957-454D-A953-E09BD9C481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dkrug.ru/article/show/3032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ou8.ru/wp-content/uploads/2016/02/&#1101;&#1084;&#1073;&#1083;-&#1103;-&#1090;&#1072;&#1083;&#1072;&#1085;&#1090;&#1083;&#1080;&#1074;.jpg" TargetMode="External"/><Relationship Id="rId2" Type="http://schemas.openxmlformats.org/officeDocument/2006/relationships/hyperlink" Target="http://dou8.ru/wp-content/uploads/2016/02/&#1101;&#1084;&#1073;&#1083;-&#1103;-&#1090;&#1072;&#1083;&#1072;&#1085;&#1090;&#1083;&#1080;&#1074;.jpg" TargetMode="External"/><Relationship Id="rId3" Type="http://schemas.openxmlformats.org/officeDocument/2006/relationships/hyperlink" Target="http://dou8.ru/wp-content/uploads/2016/02/&#1101;&#1084;&#1073;&#1083;-&#1103;-&#1090;&#1072;&#1083;&#1072;&#1085;&#1090;&#1083;&#1080;&#1074;.jpg" TargetMode="External"/><Relationship Id="rId4" Type="http://schemas.openxmlformats.org/officeDocument/2006/relationships/hyperlink" Target="http://achcity.com/images/poster/small/poster_item_803.jpg" TargetMode="External"/><Relationship Id="rId5" Type="http://schemas.openxmlformats.org/officeDocument/2006/relationships/hyperlink" Target="http://brumbrum.ru/ph/26/linii_fon_polosy_svet_prev.jpg" TargetMode="External"/><Relationship Id="rId6" Type="http://schemas.openxmlformats.org/officeDocument/2006/relationships/hyperlink" Target="http://i1.wp.com/www.edustandart.ru/wp-content/uploads/2015/02/pensiya-invalidam-s-detstva.jpg" TargetMode="External"/><Relationship Id="rId7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msk.ort.ru/integration/index.php?p=teor_inkluziv_obrazov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Круглый стол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«Актуальность инклюзивного образование  для детей с ОВЗ»</a:t>
            </a:r>
            <a:endParaRPr b="0" lang="en-US" sz="40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Monotype Corsiva"/>
              </a:rPr>
              <a:t>Автор-состави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Monotype Corsiva"/>
              </a:rPr>
              <a:t>Пеканова Людмила Александр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оответствии с Законодательством дети с ограниченными возможностями здоровья могут получать образование в общих классах и группах системы общего образования, по индивидуальной программе на дому, в специальных (коррекционных) образовательных учрежд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ашнее обуч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- вариант обучения детей-инвалидов, при котором преподаватели образовательного учреждения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рганизованно посещают ребен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проводят с ним занятия непосредственно по месту его проживания. В таком случае, как правило, обучение осуществляется силами педагогов ближайшего образовательного учреждения, однако в России существуют и специализированные школы надомного обучения детей-инвалидов. Домашнее обучение может вестись по общей либо вспомогательной программе, построенной с учетом возможностей обучающегося. По окончании обучения ребенку выдается аттестат об окончании школы общего образца с указанием программы, по которой он проходил обуч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Monotype Corsiva"/>
              </a:rPr>
              <a:t>Основной принцип инклюзивного образования:</a:t>
            </a:r>
            <a:br>
              <a:rPr sz="3200"/>
            </a:br>
            <a:endParaRPr b="0" lang="en-US" sz="32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pic>
        <p:nvPicPr>
          <p:cNvPr id="567" name="Школьная любовь (Дети должны учиться вместе!).mp4" descr=""/>
          <p:cNvPicPr/>
          <p:nvPr/>
        </p:nvPicPr>
        <p:blipFill>
          <a:blip r:embed="rId1"/>
          <a:stretch/>
        </p:blipFill>
        <p:spPr>
          <a:xfrm>
            <a:off x="1403280" y="123840"/>
            <a:ext cx="6432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0140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Инклюзивное 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- это участие всех граждан в социуме, и в первую очередь, имеющих трудности в физическом развитии, т.е. обучение учащихся, относящихся к группе детей с ограниченными возможностями в обучении: детей-инвалидов, детей, находящихся на домашнем обучении.  Это процесс реального включения инвалидов в активную общественную жизнь, что  в одинаковой степени необходимо для всех членов общества. Инвалидность – это не обделённость судьбой, это такой образ жизни при сложившихся обстоятельствах, который может быть очень интересен инвалиду и окружающим его людям, если инвалидность рассматривать в рамках социальной концеп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нности инклюз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ый имеет право высказываться и быть услышан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ый имеет право принадлежать к обществу и быть его ча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ый имеет право на образование и обучение в течение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ый имеет право на дружбу и значимые отно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ый имеет право на полноценную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клюзивное образов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признает, что все дети могут учить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работает над улучшением образовательных структур, систем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одик для обеспечения потребностей ВСЕХ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  является частью большой стратегии по созданию инклюзив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е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  является динамичным процессом, который постоянно в развит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дает инклюзивное образов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предлагает новый социальный подход к инвалид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  приветствует разнообразие систем и методик работы с деть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  рассматривает различие между людьми как ресурс, не как проблем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личностное развитие и социальные навы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развитие самостоятельности и самоопреде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развивает равные права и возможности вместо дискримин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гра «Стань на мое мест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Представьте себе, что вы общаетесь с незрячим человеком. Вы имеете возможность  в течение 3-5 минут ознакомить его с окружающим миром через тактильные и слуховые ощущения.  Попробуйте сделать это, заново открыв ми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ждение: на чем акцентировали внимание в первую очередь? Что старались передать?  Какие чувства испытывали, что было трудного в упражнении? Что помогало выполнить упражнени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pic>
        <p:nvPicPr>
          <p:cNvPr id="579" name="балет.wmv" descr=""/>
          <p:cNvPicPr/>
          <p:nvPr/>
        </p:nvPicPr>
        <p:blipFill>
          <a:blip r:embed="rId1"/>
          <a:stretch/>
        </p:blipFill>
        <p:spPr>
          <a:xfrm>
            <a:off x="1187280" y="195120"/>
            <a:ext cx="71820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26815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рый день, уважаемые участники «Круглого стола»! Сегодня мы пригласили вас, чтобы обсудить проблему инклюзивного образования.    В рамках  круглого стола присутствующие обсудят, как лучше организовать специальную поддержку детям-инвалидам с учетом их возможностей и особых образовательных потребностей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ть  наше заседание я предлагаю с небольшого видеорол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просы круглого ст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Нужно ли нам инклюзивное образование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Не приведет ли инклюзивное образование к увеличению конфликтных ситуаций, закрытию коррекционных школ, повсеместному снижению качества образования?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Хотели бы Вы, чтобы Ваш ребенок учился в  классе, где обучаются дети с ОВЗ? Аргументируйте свой отве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Какова роль педагога в контексте проблемы толерантности по отношению к детям с ОВЗ? Можно ли говорить о роли педагога как о ведущей, или данная проблема должна решаться только с помощью нормативно-правовой базы на государственном уровн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итогам заседания круглого стола был принят проект решени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организовать сотрудничество (наладить связь) с педагогами- психологами района и педагогами опорных учреждений образования, уже реализующих инклюзивное образован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продолжить в рамках проекта разъяснительную работу с родителями по формированию инклюзивного мышл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продолжить в рамках проекта методическую и психологическую подготовку педагогических работников шк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Monotype Corsiva"/>
              </a:rPr>
              <a:t>Источники</a:t>
            </a: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85" name="TextBox 2"/>
          <p:cNvSpPr/>
          <p:nvPr/>
        </p:nvSpPr>
        <p:spPr>
          <a:xfrm>
            <a:off x="428760" y="1357200"/>
            <a:ext cx="800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dou8.ru/wp-content/uploads/2016/02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эмбл-я-талантлив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achcity.com/images/poster/small/poster_item_80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brumbrum.ru/ph/26/linii_fon_polosy_svet_pr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i1.wp.com/www.ehttp://prokuror.kaluga.ru/assets/components/phpthumbof/cache/%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649a3435db090aa3168ec2351beeff8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standart.ru/wp-content/uploads/2015/02/pensiya-invalidam-s-detstv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empark.ru/images/news/inklyuzivnoe_obrazovanie_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mctc.ru/let.php?gznrk=fdofbib/referat-pro-snezhnogo-barsa2317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pic>
        <p:nvPicPr>
          <p:cNvPr id="547" name="Дети так не делятся.mp4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5690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94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й из важных проблем образования в обществе является его доступность для ряда социальных групп, имеющих невыгодные стартовые условия. Среди них особое место занимают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ети-инвали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ию качественного образования детьми-инвалидами препятствуют множественные структурные ограничения, так или иначе связанные с социальным неравенств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ыт показывает, что из любой жесткой образовательной системы какая-то часть детей выбывает, потому что система не готова к удовлетворению индивидуальных потребностей таких детей в обучении. Это соотношение составляет 15 % от общего числа детей в школах и, таким образом, выбывшие дети становятся обособленными и исключаются из общей систем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жно понимать, что не дети терпят неудачу, а система исключает детей. Инклюзивные подходы могут поддержать таких детей в обучении и достижении успеха, что даст шансы и возможности для лучшей жизни. Инклюзивное или включенное образование - термин, используемый для описания процесса обучения детей с особыми потребностями в общеобразовательных школах. В основу инклюзивного образования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оложена идеология, которая исключает любую дискриминацию де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оторая обеспечивает равное отношение ко всем людям, но создает особые условия для детей, имеющих особые образовательные потребности. Инклюзивное образование подразумевает доступность образования для всех, в плане приспособления к различным нуждам всех детей, что обеспечивает доступ к образованию для детей с особыми потребност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ны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осемь принцип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инклюзивного образ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    Ценность человека не зависит от его способностей и достижений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    Каждый человек способен чувствовать и думать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    Каждый человек имеет право на общение и на то, чтобы быть услышанным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    Все люди нуждаются друг в друге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    Подлинное образование может осуществляться только в контексте реальных взаимоотношений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    Все люди нуждаются в поддержке и дружбе ровесников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    Для всех обучающихся достижение прогресса скорее может быть в том, что они могут делать, чем в том, что не могут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    Разнообразие усиливает все стороны жизни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 учителя, которые уже имеют опыт работы на принципах инклюзивного образования, разработали следующие способы включ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принимать обучающихся с инвалидностью "как любых других детей в классе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включать их в одинаковые виды деятельности, хотя ставить разные задачи, 3) вовлекать обучающихся в коллективные формы обучения и групповое решение зада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использовать и другие стратегии коллективного участия - игры, совместные проекты, лабораторные, полевые исследования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клюзивные образовательные сообщества во многом изменяют роль учителя, который вовлекается в разнообразные интеракции с обучающимися, больше узнавая о каждом из них, а также активнее вступают в контакты с общественностью вне шко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ения родителей и учителей сошлись в том, какие последствия они ожидают от интеграции детей-инвалидов в массовую школу: более двух третей опрошенных  полагают, что это позволит обучающимся стать более толерантными, научиться взаимопомощи, хотя не исключены и конфликты между дет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9T17:17:50Z</dcterms:created>
  <dc:creator>Lenovo</dc:creator>
  <dc:description/>
  <dc:language>en-US</dc:language>
  <cp:lastModifiedBy>Пользователь Windows</cp:lastModifiedBy>
  <dcterms:modified xsi:type="dcterms:W3CDTF">2019-11-19T15:58:28Z</dcterms:modified>
  <cp:revision>23</cp:revision>
  <dc:subject/>
  <dc:title>Слайд 1</dc:title>
</cp:coreProperties>
</file>