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3DB-A78F-40FC-8EB8-81B2ABDF1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8D5-9E54-4BA2-8C1E-B2E054D0F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E7F-BD49-4CB8-B419-FA29FC9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49B-40CE-4B70-8C22-56F19804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00963-ADCB-425B-8003-79919B8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0CDF1-4265-462C-98A7-1F38679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ADF33-D57F-48E1-B156-5B6BB6A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6A35-CABD-4C97-8FD8-916CA90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31485-4370-4C82-86C3-73AA209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A98A-FF87-490B-9071-558B982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AE9B8-5281-4741-A63F-2C4555B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0934-6183-43AC-BA73-987E2197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3738-445D-444D-8402-990A8AF7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B01B6-4FB1-4A34-ADA0-A9081DC4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570-29A0-4D26-942B-7B5C9D0C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3C948-2126-4058-9D74-97697FEF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F879F-7E07-4DC0-A0AD-90CC4DA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C7282-C303-4E9D-95C9-8045335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89F1E-062E-468F-96BD-8C66C97A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99C97-5FB4-47C1-8AD2-0E6394A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8C564-7887-473B-A3AA-17E924C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2A85A-01B2-45C8-8CAF-25D56EA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1E9E4-705F-44DA-A015-E16C269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58597-8766-46ED-8B79-6AA7F27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9C4C3-CD4E-4D26-AC05-86CE7046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F13-912D-416E-85E7-1DFD0711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15596-5D9C-4A65-8CBD-0012DDA5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0391-7AB1-4152-90DF-69F04613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B2F4-1570-4C08-AE00-24B03F1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89DDD-4F8F-4AC0-94F8-92902F2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DE9C8-DA09-4DAF-B6ED-0C4FD127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4A47-4FA2-42C0-8D00-0F775B6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AC6DE-838E-4FFB-B42A-5FEC64B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2CB20-27E3-4694-8414-5F2CC4E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4D128-CAD9-4E34-A7EF-99914F3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F90A-74D8-40E8-AB32-34B7C3A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CCA4-7A32-4B38-9DDC-E2E33612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4DFB0-DAE5-43E0-B0BB-75D3789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8D94-54AD-44E0-9F60-66BADE9A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29D9-0767-441E-94AE-365A11B4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B02B8-DEFF-435E-8062-5C7E89FB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A46CF-312C-486C-B377-C2CAB46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3C71C-1662-427C-AC74-B6D907C8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8A018-A8EF-4A06-9454-C5F74A8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C758C-94C9-47EA-B97F-A8CA5D08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49F76-1899-48B2-AF06-75DAD57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A9EBF-722E-44E0-9108-C63963E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6B2E-41A6-429A-BB69-427EFB3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694BF-4F2E-4116-8924-D08E56B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C60CA-5954-4A33-8084-12A9C64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32C24-BE12-4B5C-8606-82D7FE2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E1632-99F3-4F1A-B17B-6DA41D10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7D84D-1602-40AF-81BD-6D1D671F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A752-CD89-4856-B093-F789E188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4C0F-5370-4D78-ABEC-453984EC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965-4881-446E-8177-FDBC34D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45A6-91DA-4066-BD08-1939429F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B32-A1FC-4BFE-B27F-857120F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F50-9B9C-4BAE-BC73-0FBB66C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7D72-C592-4EDE-8F41-63D7D06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38A5-5804-4EA8-8BAF-956139D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0C6-A082-4185-A3A4-C170796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F02C-1FAE-4FB3-92AC-1AA529CA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83B-A860-4D37-B610-13434AC1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4758-E4DF-4607-96AB-C03005F8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F0C4-5ABE-416C-B13B-46EE9F9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97B9-367A-4E8C-A6A7-C8F34075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7925-5179-4974-B15E-2DF0F8B0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9369-34B2-469E-B7ED-D48DC93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CCE-320E-46E9-87AE-3FDB99F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57E3-E8E3-495B-852A-79A47058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F2F9-5792-4DA4-B244-FC7E73E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4029-698F-4791-9013-C436EC6D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05D6-3FD6-4BA0-9D9C-3D650A2A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950A-D71B-4569-9761-A81A2EB2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898A-52B5-42AD-A6FE-621E4541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6546-638C-4491-B326-0DD7185F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EF8F-6566-44A2-B337-20A502DB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4C6F-C74F-4168-8AF2-1D8BB53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D707-5438-4347-9068-45ABC85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814-29E0-4A1A-8ECF-A3B1F62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AC3B-FC21-4132-8B02-D1AC872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18F5-EA55-4769-9F3D-1E5DD35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2103-6233-4DE4-9B51-B06B2E4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E376-21BC-4A23-857B-FDCFEF4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643F-3AE9-4395-A395-DC0CDFE3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093F-B565-4BD7-9A0B-DB05371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1710-C124-4DFA-B3B6-B6CA794A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882B-600D-4DEF-9E3E-C94CBED6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FAC2-0F47-440C-A496-B0687F76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DF08-C9CD-4928-8EB8-DCE8E87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036-533B-42EE-A20B-2EFC5DE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1394-1A8C-431D-B8F6-DFB4B63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F122-253E-423C-AD65-A24C39A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E17C-2C21-473F-B379-147CA984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AD554-9A88-41C2-9B1D-F0C645B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72232-E6EF-429F-AC5A-E1983ACD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F491-AACD-485B-BC77-CF2763C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00DB-DBA7-4991-AE48-A907605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FA2C-6A07-43F0-8997-740E566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86EF7-2F20-49BB-8AE0-6DEBC05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60614-7211-4034-95A2-04E97BFA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076-82BE-4DF1-8E08-9433B51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FF73-6345-4D82-BBA0-C4F6DA0C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EADB-4685-48FE-8348-9CCDBFB5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2E75-0EA3-4098-8F80-69FB3E6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CBF4-0D7F-4402-A5C8-ACEE2933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AC90-A354-4013-8A62-2F3D263A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E7C9-8518-4F41-857C-4723522A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E455A-7995-4F46-96E8-406683A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9F16-52BA-4F4E-856B-813EFA69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680B-C82E-4739-9B6F-576F46A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602C-4D89-447A-8EB0-C7427A3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FF9-DF45-4B03-8DE6-A646074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03A3-4DA1-4C44-8382-2B91524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13CD6-7A4F-46D6-B5A9-BD6D0E5B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5052-E51E-4C41-8774-EAD68741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E9B5-91FA-44CA-B5F3-457CE80A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C76C-6F53-44A7-95CA-A333A767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9CBB1-7F19-4104-B58C-B892D233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346B-F7CD-4CC4-98D4-BD54B47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887B3-F913-4CB0-BC49-98BB3FE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26189-7C04-4978-911F-56C089E9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DEC7-A273-4508-87FA-0B978D3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1AC-E133-4C22-846C-97BE94A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1BA0-D36E-471F-A9B6-D1AEB8D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3EC98-2E04-492B-9CE8-7456DC6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2B8C-69D3-460F-A6C2-86554709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B38F-3073-4D6E-963C-E2386ED9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DF86-2369-47D6-8719-17735D4D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C98B5-FDA7-4689-808D-A65D2645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32CA5-0604-428C-A208-1DCA25F0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1B40-E5FA-4BCC-8FD2-69D28CE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F584-8DED-400C-89C9-11A19E7A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568D0-EC22-40D8-83E7-57C6D22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EBD-EA6A-4421-A85F-B165ECC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05B7-0683-4798-8DCF-8C8CAA3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2BB3-13DC-4DC5-8F0F-14BC29B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EAE1E-0018-455E-9099-1A53448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50E3-569D-4184-9D38-BADD0DD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53AD-F9F5-4C1F-B6CB-42AD145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46FF-BA62-4063-8EE9-AA8332AF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D0DE-4196-48DC-923C-20A1C870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84F8-56BC-43F0-BB99-A7C5B47A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3BDD4-EA31-4920-87A6-7F47255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BC95C-C0C8-448C-8202-408006B2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 30.06.12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40A-E849-44B8-90C3-82D0E5210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04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05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0A6-8961-49FA-853B-C54685B81D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48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49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202-D622-49F6-98DF-C0C019F61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92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93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A79-64E7-4150-884D-4EB8BEF8A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7" descr="image002.jpg"/>
          <p:cNvPicPr/>
          <p:nvPr/>
        </p:nvPicPr>
        <p:blipFill>
          <a:blip r:embed="rId5"/>
          <a:stretch/>
        </p:blipFill>
        <p:spPr>
          <a:xfrm>
            <a:off x="171360" y="3395520"/>
            <a:ext cx="1395360" cy="3249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6E0-3EE1-4270-8AA6-F2244E2F7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9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9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7" descr="01-vikihelp_09.jpg"/>
          <p:cNvPicPr/>
          <p:nvPr/>
        </p:nvPicPr>
        <p:blipFill>
          <a:blip r:embed="rId5"/>
          <a:stretch/>
        </p:blipFill>
        <p:spPr>
          <a:xfrm>
            <a:off x="-142920" y="3786120"/>
            <a:ext cx="1619280" cy="121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65C6-3B74-44A2-9F6E-209F7D3A9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3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3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7" descr="dostupnaya_sreda.jpg"/>
          <p:cNvPicPr/>
          <p:nvPr/>
        </p:nvPicPr>
        <p:blipFill>
          <a:blip r:embed="rId5"/>
          <a:stretch/>
        </p:blipFill>
        <p:spPr>
          <a:xfrm>
            <a:off x="7218360" y="3797280"/>
            <a:ext cx="1925640" cy="1347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CD3-6B96-4E95-9B15-C38419050D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8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7" descr="emblem_inc.jpg"/>
          <p:cNvPicPr/>
          <p:nvPr/>
        </p:nvPicPr>
        <p:blipFill>
          <a:blip r:embed="rId5"/>
          <a:stretch/>
        </p:blipFill>
        <p:spPr>
          <a:xfrm>
            <a:off x="-92160" y="3700440"/>
            <a:ext cx="1444680" cy="1530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EB8-8509-49D0-A02D-5C111FB49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2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22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7" descr="imgpreview.jpg"/>
          <p:cNvPicPr/>
          <p:nvPr/>
        </p:nvPicPr>
        <p:blipFill>
          <a:blip r:embed="rId5"/>
          <a:stretch/>
        </p:blipFill>
        <p:spPr>
          <a:xfrm>
            <a:off x="142920" y="4071960"/>
            <a:ext cx="1285920" cy="963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DB2-8C2D-40BA-BBC8-A7BC52ED0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7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27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7" descr="i.jpg"/>
          <p:cNvPicPr/>
          <p:nvPr/>
        </p:nvPicPr>
        <p:blipFill>
          <a:blip r:embed="rId5"/>
          <a:stretch/>
        </p:blipFill>
        <p:spPr>
          <a:xfrm>
            <a:off x="139680" y="4071960"/>
            <a:ext cx="1000080" cy="957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626-7F0B-4727-887B-62EE509F5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16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317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951-79FB-4DF6-BA4A-84F8DD27F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6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36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69B8-FA25-4C51-8A14-7D8DC92F9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krug.ru/article/show/3032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2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3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4" Type="http://schemas.openxmlformats.org/officeDocument/2006/relationships/hyperlink" Target="http://achcity.com/images/poster/small/poster_item_803.jpg" TargetMode="External"/><Relationship Id="rId5" Type="http://schemas.openxmlformats.org/officeDocument/2006/relationships/hyperlink" Target="http://brumbrum.ru/ph/26/linii_fon_polosy_svet_prev.jpg" TargetMode="External"/><Relationship Id="rId6" Type="http://schemas.openxmlformats.org/officeDocument/2006/relationships/hyperlink" Target="http://i1.wp.com/www.edustandart.ru/wp-content/uploads/2015/02/pensiya-invalidam-s-detstva.jpg" TargetMode="External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msk.ort.ru/integration/index.php?p=teor_inkluziv_obrazov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Круглый стол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Актуальность инклюзивного образование  для детей с ОВЗ»</a:t>
            </a:r>
            <a:endParaRPr b="0" lang="en-US" sz="40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Автор-состав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Пеканова Людмила Александ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ответствии с Законодательством дети с ограниченными возможностями здоровья могут получать образование в общих классах и группах системы общего образования, по индивидуальной программе на дому, в специальных (коррекционных) образовательных учрежд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шнее обуч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вариант обучения детей-инвалидов, при котором преподаватели образовательного учреждения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рганизованно посещают ребе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проводят с ним занятия непосредственно по месту его проживания. В таком случае, как правило, обучение осуществляется силами педагогов ближайшего образовательного учреждения, однако в России существуют и специализированные школы надомного обучения детей-инвалидов. Домашнее обучение может вестись по общей либо вспомогательной программе, построенной с учетом возможностей обучающегося. По окончании обучения ребенку выдается аттестат об окончании школы общего образца с указанием программы, по которой он проходил обуч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Основной принцип инклюзивного образования: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67" name="Школьная любовь (Дети должны учиться вместе!).mp4" descr=""/>
          <p:cNvPicPr/>
          <p:nvPr/>
        </p:nvPicPr>
        <p:blipFill>
          <a:blip r:embed="rId1"/>
          <a:stretch/>
        </p:blipFill>
        <p:spPr>
          <a:xfrm>
            <a:off x="1403280" y="123840"/>
            <a:ext cx="6432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140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клюзив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- это участие всех граждан в социуме, и в первую очередь, имеющих трудности в физическом развитии, т.е. обучение учащихся, относящихся к группе детей с ограниченными возможностями в обучении: детей-инвалидов, детей, находящихся на домашнем обучении.  Это процесс реального включения инвалидов в активную общественную жизнь, что  в одинаковой степени необходимо для всех членов общества. Инвалидность – это не обделённость судьбой, это такой образ жизни при сложившихся обстоятельствах, который может быть очень интересен инвалиду и окружающим его людям, если инвалидность рассматривать в рамках социальной концеп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ности инклюз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высказываться и быть услыша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принадлежать к обществу и быть его ча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образование и обучение в течение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дружбу и значимые 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полноценн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клюзивное образов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изнает, что все дети могут учить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ботает над улучшением образовательных структур, систе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ик для обеспечения потребностей ВСЕХ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является частью большой стратегии по созданию инклюз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является динамичным процессом, который постоянно в разви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ает инклюзивное образов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едлагает новый социальный подход к инвалид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приветствует разнообразие систем и методик работы с деть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рассматривает различие между людьми как ресурс, не как пробле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личностное развитие и социальные навы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витие самостоятельности и самоопреде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вивает равные права и возможности вместо дискримин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«Стань на мое мест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редставьте себе, что вы общаетесь с незрячим человеком. Вы имеете возможность  в течение 3-5 минут ознакомить его с окружающим миром через тактильные и слуховые ощущения.  Попробуйте сделать это, заново открыв ми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е: на чем акцентировали внимание в первую очередь? Что старались передать?  Какие чувства испытывали, что было трудного в упражнении? Что помогало выполнить упражн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79" name="балет.wmv" descr=""/>
          <p:cNvPicPr/>
          <p:nvPr/>
        </p:nvPicPr>
        <p:blipFill>
          <a:blip r:embed="rId1"/>
          <a:stretch/>
        </p:blipFill>
        <p:spPr>
          <a:xfrm>
            <a:off x="1187280" y="195120"/>
            <a:ext cx="7182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26815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ый день, уважаемые участники «Круглого стола»! Сегодня мы пригласили вас, чтобы обсудить проблему инклюзивного образования.    В рамках  круглого стола присутствующие обсудят, как лучше организовать специальную поддержку детям-инвалидам с учетом их возможностей и особых образовательных потребносте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ть  наше заседание я предлагаю с небольшого видеорол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круглого ст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ужно ли нам инклюзивное образовани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Не приведет ли инклюзивное образование к увеличению конфликтных ситуаций, закрытию коррекционных школ, повсеместному снижению качества образования?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Хотели бы Вы, чтобы Ваш ребенок учился в  классе, где обучаются дети с ОВЗ? Аргументируйте свой отв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Какова роль педагога в контексте проблемы толерантности по отношению к детям с ОВЗ? Можно ли говорить о роли педагога как о ведущей, или данная проблема должна решаться только с помощью нормативно-правовой базы на государственном уров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итогам заседания круглого стола был принят проект реш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рганизовать сотрудничество (наладить связь) с педагогами- психологами района и педагогами опорных учреждений образования, уже реализующих инклюзивное образов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продолжить в рамках проекта разъяснительную работу с родителями по формированию инклюзивного мышл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продолжить в рамках проекта методическую и психологическую подготовку педагогических работников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Источники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428760" y="1357200"/>
            <a:ext cx="800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dou8.ru/wp-content/uploads/2016/02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эмбл-я-талантлив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chcity.com/images/poster/small/poster_item_8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brumbrum.ru/ph/26/linii_fon_polosy_svet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1.wp.com/www.ehttp://prokuror.kaluga.ru/assets/components/phpthumbof/cache/%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649a3435db090aa3168ec2351beeff8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standart.ru/wp-content/uploads/2015/02/pensiya-invalidam-s-detstv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mpark.ru/images/news/inklyuzivnoe_obrazovanie_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mctc.ru/let.php?gznrk=fdofbib/referat-pro-snezhnogo-barsa2317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47" name="Дети так не делятся.mp4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5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4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й из важных проблем образования в обществе является его доступность для ряда социальных групп, имеющих невыгодные стартовые условия. Среди них особое место занимают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ети-инвали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ю качественного образования детьми-инвалидами препятствуют множественные структурные ограничения, так или иначе связанные с социальным неравенст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ыт показывает, что из любой жесткой образовательной системы какая-то часть детей выбывает, потому что система не готова к удовлетворению индивидуальных потребностей таких детей в обучении. Это соотношение составляет 15 % от общего числа детей в школах и, таким образом, выбывшие дети становятся обособленными и исключаются из общей систе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о понимать, что не дети терпят неудачу, а система исключает детей. Инклюзивные подходы могут поддержать таких детей в обучении и достижении успеха, что даст шансы и возможности для лучшей жизни. Инклюзивное или включенное образование - термин, используемый для описания процесса обучения детей с особыми потребностями в общеобразовательных школах. В основу инклюзивного образовани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оложена идеология, которая исключает любую дискриминацию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ая обеспечивает равное отношение ко всем людям, но создает особые условия для детей, имеющих особые образовательные потребности. Инклюзивное образование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ы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семь принцип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нклюзивно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    Ценность человека не зависит от его способностей и достижени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    Каждый человек способен чувствовать и думать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    Каждый человек имеет право на общение и на то, чтобы быть услышанным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    Все люди нуждаются друг в друге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    Подлинное образование может осуществляться только в контексте реальных взаимоотношени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    Все люди нуждаются в поддержке и дружбе ровесников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    Для всех обучающихся достижение прогресса скорее может быть в том, что они могут делать, чем в том, что не могут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    Разнообразие усиливает все стороны жизни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 учителя, которые уже имеют опыт работы на принципах инклюзивного образования, разработали следующие способы вклю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ринимать обучающихся с инвалидностью "как любых других детей в классе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включать их в одинаковые виды деятельности, хотя ставить разные задачи, 3) вовлекать обучающихся в коллективные формы обучения и групповое решение зада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использовать и другие стратегии коллективного участия - игры, совместные проекты, лабораторные, полевые исследования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клюзивные образовательные сообщества во многом изменяют роль учителя, который вовлекается в разнообразные интеракции с обучающимися, больше узнавая о каждом из них, а также активнее вступают в контакты с общественностью вне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ения родителей и учителей сошлись в том, какие последствия они ожидают от интеграции детей-инвалидов в массовую школу: более двух третей опрошенных  полагают, что это позволит обучающимся стать более толерантными, научиться взаимопомощи, хотя не исключены и конфликты между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17:17:50Z</dcterms:created>
  <dc:creator>Lenovo</dc:creator>
  <dc:description/>
  <dc:language>en-US</dc:language>
  <cp:lastModifiedBy>Пользователь Windows</cp:lastModifiedBy>
  <dcterms:modified xsi:type="dcterms:W3CDTF">2019-11-19T15:58:28Z</dcterms:modified>
  <cp:revision>23</cp:revision>
  <dc:subject/>
  <dc:title>Слайд 1</dc:title>
</cp:coreProperties>
</file>