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BEF-6E24-496F-81F6-50303B08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E23-CD0F-441D-ABB7-59FD0D20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CEB-4536-44D3-8E0E-289D996D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CED-4244-4FD3-89E2-FEA9D94E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8658-EED7-4C5C-A102-2C53EFB6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79B-8E40-4AF9-BAF1-4582DE0E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DA76-9749-4D57-B063-E14A9E7E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089E-DEC2-4D98-911A-2B067BB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6B01-A82E-44E5-8D5B-3C91B67B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90DC-57C4-4E76-8FC5-97DC388B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0C86-5E9F-46B1-98B1-1973675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C7D-458C-42EB-8007-2AA1767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18A7-3E35-44AB-BA58-DFD28E9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F639-B079-452E-8164-11DBAD2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3A38-E7E5-4E2A-A3F0-CBC7E13C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62F-5DA8-4E6E-A972-7FF815DC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CE5D-CBA8-40EC-A68A-92B2D98D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EA3CC-9017-4EDF-85A3-2C8F3EE9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AAF2-27BF-46E5-B6B2-733131C1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9281-ACD5-45F7-A96A-61E48B3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7355-4547-4351-B77E-FC1E798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4912-6643-4132-B685-6F0236C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D1D-C46B-49CE-AE1A-82055759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6D87-3128-44F0-9DA0-E22611FA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4B33-7602-44A8-99B7-BB9B52E9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B21F-1BC8-4D46-96E5-3E250AF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0D07-9873-4000-9EEB-BDD72A8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ACB2-A04B-45C4-B3BB-6CBF4B6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7B04-1C46-4140-B560-ACF1C76D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E4DC-9742-45AF-8B5F-8CD8E569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C7E3-12F0-4F0C-A607-D4B317B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0C63C-C037-4A98-AED4-9FEAD63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C4A2-15B9-4C8C-8B4F-10DE223F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86-0002-4AF9-9A50-BA2A57C8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3F61-EA16-4E39-ADEE-45632FC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4D378-D64A-4C28-B22E-5BDC85D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6EC4-0A45-47E0-B026-CDCE5D5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4AB2-3D71-405A-94FC-FE8A635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74A2-C0FF-4EE3-B6A1-370A346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BD25-DD3E-4548-869F-BF56405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7123B-5049-410E-81E7-8534F24B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7BD8-C37B-4D89-AE36-92DB52F4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6871-2F15-4BDB-ABAF-CD20B1E6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13CE-DB54-4C62-A88E-BCD16D74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4CA-139A-4A3F-B952-C1D4A154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1510-4472-43B4-BD33-24A71DD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0A68-1AC8-47F6-B028-E4EDE32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74B2-1A8B-4CE3-8C70-B0CC18EB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376D-E7C5-4E27-BDD9-2055F33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CD41-DFE9-4882-81D5-33BDD8AF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F17B-C8BE-4457-A464-955AA16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0DDB-C353-41AC-9596-F66B1F0B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4A84-8C3D-421C-A9E6-970207C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D23E5-3908-406F-8E4B-43EEF2A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C998-5C11-492C-85FF-530DDF5E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35D-09E0-4171-AB71-795BC067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F239-5048-41CA-BAA1-E13551C3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DD23-6D80-42BD-9FF3-9F16A7E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F3833-5CD2-45C3-9BAA-9B9AD756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B7CB6-1147-4C9D-9B0D-D01BBCB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F30F-906F-4851-A7BA-E402761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3B0AF-77BC-41EC-8A5E-A5E5879B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E0E1-93DA-4136-A9A2-5FCBA60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EB3D-6EFC-4267-B10A-B0B0317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BCC1-DC6A-4B6D-8DA8-50686F3D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92E5B-9205-4819-A719-CFBEB84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4A9-3650-4F99-BA86-77E2C5B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928A3-7283-4FAD-AD6D-6DB334CF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4FB5F-635B-4145-9536-48A51438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3620-C45E-4D15-9692-6123F5AB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8A26-2AEF-43C2-884B-1819DE6F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5747A-2597-4B4B-98FC-E5F0D545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4838-8229-4DD3-8762-A04B1053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3D845-B06E-44EB-A323-3F811DB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DB9F-8283-44C3-8A1A-A367ED6A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07E94-676A-4BB3-BC21-77FC500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7AB6-029F-4ABB-BF9D-B959BA5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E94-DC0F-4BE7-9D7E-F7281EA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DF714-1CE7-41C7-B116-61A687C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45EF-3BFD-4224-9E8F-3BE5600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3AD4-D815-40AB-96AF-22F52D1F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2A1A-CBC4-4F84-B057-8DCA53CF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75DB-6552-41AE-850E-C6440B68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BECC-DDC1-4A45-B3C5-416F9BF9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25CF1-9DDE-4FD6-BD48-025AA4C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2E5A-07CB-4782-BC41-6AF02D7A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8ACD-C3C6-4D9E-BCB0-D72112B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CC2E-1421-40AF-A148-54822FEC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2C8-D552-4250-8381-6D0B4E1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20B44-6C52-4352-9F4B-F4D520C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95F8-4226-4B2F-8387-9F4CE04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A00F-32E7-4EFF-9474-928127F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54B52-5053-4E63-96BE-CDB26AB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9147E-E3A4-4362-A156-4DED6E0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91988-4D3B-4FD4-8A1B-45BE7B1F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A468E-7D85-4517-8F64-6CA6ABAC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8CC7-EA86-46F9-AD36-C632C9EF64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2381-D06D-44F5-83DA-71BE24F709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5F5-7286-44B0-9719-D78B703126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747-BD86-42DE-86B3-81BC75D658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EC11-577C-495F-BF27-02512E9466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2574-464E-41E6-B631-F3A45BD1FA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362F-EA44-4956-8D23-72C612D6E8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1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8B20-B040-4835-9A45-3345A0611E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фессиональный стандарт педагог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040" y="1827360"/>
            <a:ext cx="77691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каз Минтруда России от 18.10.2013 N 544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Об утверждении профессионального стандарта "Педагог (педагогическая деятельность в сфере дошкольного, начального общего, основного общего, среднего общего образования) (воспитатель, учитель)"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Зарегистрировано в Минюсте России 06.12.2013 N 3055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ОБУ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ФГСДО и программы обуч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ВОСПИТ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ь воспитательную деятельность с учетом культурных различий детей, половозрастных и индивидуальных особеннос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ться с детьми, признавать их достоинство, понимая и принимая 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ть основы психодидактики, поликультурного образования, закономерности поведения в социальных сет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методики воспитательной работы, основные принципы деятельностного подхода, виды и приемы современных педагогических технолог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людать правовые, нравственные и этические нормы, требования профессиональной э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РАЗВИТ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воение и применение психолого-педагогических технологий (в том числе инклюзивных), необходимых для адресной работы с различными контингентами учащихся: одаренные дети, социально уязвимые дети, дети, попавшие в трудные жизненные ситуации, дети-мигранты, дети-сироты, дети с особыми образовательными потребностями, дети с ограниченными возможностями здоровья, дети с девиациями поведения, дети с зависимость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е с другими специалистами в рамках ПМП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воение и адекватное применение специальных технологий и методов, позволяющих проводить коррекционно-развивающую работ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и реализация программ развития универсальных учебных действий, образцов и ценностей социального поведения, навыков поведения в мире виртуальной реальности и социальных сетях, формирование толерантности и позитивных образцов поликультурного общ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иать документацию специалистов (психологов, дефектологов, логопедов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ФЕССИОНАЛЬНЫЕ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ОМПЕТЕНЦИИ ВОСПИТАТЕЛЯ, ОТРАЖАЮЩИЕ СПЕЦИФИКУ РАБОТЫ НА ДОШКОЛЬНОМ УРОВНЕ ОБРАЗОВАНИ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1904760"/>
            <a:ext cx="7313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5942160"/>
            <a:ext cx="73134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ыдержка из приказа № 544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040" y="1827000"/>
            <a:ext cx="7769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Установить, что профессиональный </a:t>
            </a:r>
            <a:r>
              <a:rPr b="0" lang="ru-RU" sz="22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стандар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"Педагог (педагогическая деятельность в сфере дошкольного, начального общего, основного общего, среднего общего образования) (воспитатель, учитель)" применяется работодателями при формировании кадровой политики и в управлении персоналом, при организации обучения и аттестации работников, заключении трудовых договоров, разработке должностных инструкций и установлении систем оплаты труда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 1 января 2015 год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В настоящее время Минтрудом РФ подготовлен проект приказа, согласно которому предлагается перенести сроки начала введения профстандарта педагога на 1 января 2016 года. В Минобрнауки считают, что к 1 января 2015 года педагоги не успевают пройти повышение квалификации, которое необходимо для работы по новым стандарта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ХАРАКТЕРИСТИКА СТАНДАР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нем определяются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требования к квалификации педагог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жет дополнятся региональными требования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жет быть дополнен внутренним стандартом образовательного учрежд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вляется уровневым, учитывающим специфику работы педагогов дошкольного учреждения и школ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тражает структуру профессиональной деятельности педаго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ыдвигает требования к личностным качествам педаго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УНКЦИИ ПРОФЕССИОНАЛЬНОГО СТАНДАРТА ПЕДАГО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еодоление технократического подхода в оценке труда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ение координированный рост свободы и ответственности педагога за результаты труд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отивация педагога н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стоянно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повышение квалифик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ЛАСТЬ ПРИМЕНЕНИЯ ПРОФЕССИОНАЛЬНОГО СТАНДАРТА ПЕДАГОГ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иеме на работу в образовательное учреждение на должность «педагог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ттестации региональными органами исполнительной власти, осуществляющими управление в сфере образ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ль применения профессионального стандар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бобщенные трудовые функци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133640" y="1450800"/>
            <a:ext cx="73515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Трудовые функци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Объект 3" descr=""/>
          <p:cNvPicPr/>
          <p:nvPr/>
        </p:nvPicPr>
        <p:blipFill>
          <a:blip r:embed="rId1"/>
          <a:stretch/>
        </p:blipFill>
        <p:spPr>
          <a:xfrm>
            <a:off x="1359000" y="1828800"/>
            <a:ext cx="733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 Борисова</dc:creator>
  <dc:description/>
  <dc:language>en-US</dc:language>
  <cp:lastModifiedBy>Юлия Борисова</cp:lastModifiedBy>
  <dcterms:modified xsi:type="dcterms:W3CDTF">2017-01-20T07:05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