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583-D381-43F6-85A3-052DFCC9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8B4-0E9C-4AA4-8FDB-1498986B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93F-A14C-4F11-A7BD-6C7EB382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A347-48F6-4E21-BAFA-5DF8699C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3520-388E-4334-8167-930E8D1A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767B-548F-4B4A-BDC1-4021DD63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077C-4DD1-4A77-A7D6-220BD67F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AA65-446D-4B2B-9C67-C1048CEE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7CF5-CD61-45A6-A9D4-84DFFF3E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BDDD-D1D7-41AA-A9F8-528FE4AD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B2E8-5FAE-44D5-8A41-D00D2F36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A3B-8513-41B2-84B5-00C6B5A5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ECBA-56D7-46DF-88EF-4409ED01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65C0-F1DB-4E33-8694-72F4508F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89FD-A422-4397-8AE8-8CC04F75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BE45-DE8B-415B-94FE-ABEECB14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5A6F-365A-4EE3-BECD-0DEB243C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DB190-6F58-4615-B280-EB7C1745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F56BD-AF91-47CB-A72C-B2C54C14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A7AF6-C79C-4A88-8A56-AE224CEA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DFC6F-CE80-47DB-8F7B-3AD53426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DB203-D801-48F8-870C-63B2DE62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2378-AF6F-413E-BDBE-56CFB903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788B7-FBCE-4075-965C-0AAB408C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6CDDA-0A1B-4A0C-B90B-721F7ADC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B86AA-FF45-4510-9191-2BBD8C35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21C75-E896-4807-9D67-122C3A0F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61753-BF60-4AA1-B360-48D67C8D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277B4-1168-48ED-8ADB-3465BA69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153FC-1B36-40AB-9198-D2613573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82AB8-A557-4148-B39D-8239B2E2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1CBEB-17A5-43B1-B585-DCF248A8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13F11-1FA4-4CDB-83DF-AE66BE89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5F53-DB3E-4020-8DF7-4D5F5C32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F5FA2-911A-472E-9E20-CA32ED3B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C369A-A7BE-4469-8756-52FD118F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1C3AD-0CCD-4B49-80ED-B66B840E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94F68-6766-4DAB-B9D7-16B3DD6D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2028D-184B-4241-8B30-7607F394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04423-B35A-4D69-B8E1-A6D86B05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B04BB-EBC5-4567-A530-5DF226E9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78C39-4283-4C7E-B655-5E49A36B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E2275-5F65-477D-A32D-8E921ADB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9FF54-BDF5-4ADC-9C1C-F40FC9D2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530-9C15-430C-A1BB-F85C7F36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B2199-9D63-4141-B28B-E3891760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20E31-D069-4013-A88E-1A937101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DD189-AD73-4630-9167-7E6EE4F7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27DF4-4366-4867-AF94-8C943E44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BB8F4-3B84-405F-BF1A-CFEAAE4A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0E496-9E47-4633-8B7D-A3F0F906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2BC02-6AC4-49BD-A575-BE450F52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6AAD8-7AE8-47A0-A14C-32527028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87B22-942B-46DD-824D-2380F2B9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32F2A-9346-40AC-99CD-ADA27210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4CE-8A4F-44BF-A70F-4E19306B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BB76F-01CD-4C49-91F0-51E74F67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49368-E616-4F37-BEC8-F46A4B8B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8A7A5-4771-48D3-863F-2536DADC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EAE07-190D-4333-A311-3B1FEF01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1F956-3C78-4288-BAAE-1D603927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90BAE-A51D-499F-95BD-6D7C2FF6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A3A59-5353-4DD3-996B-1A5411F6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4B660-985C-4338-87A1-92966E62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93648-D6BA-4BEA-83AB-B3E94744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EEE12-C841-42B8-A253-B01B7B9C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2CAB-8B4F-47A5-9B13-01AB0513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DA151-8FF5-4BE2-9C7F-DC323843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7255C-C823-40D7-A454-2A37ABDD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337F4-DD83-43D1-8002-5A34A58A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D61FD-7EAC-48F5-8D68-713B41FF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8D364-D98C-4CB8-ACDC-EBA3D7FD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2F6F5-B503-4412-B6EC-939117DF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0D352-C556-45BC-ABEA-E1FCFE0A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A7242-0E0D-4BA6-A740-9D91169E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687B6-7D86-4C2A-BC6A-31E1A4BC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F4BA5-4B5F-4E37-ABD2-73DCC0DA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EC0E-9F0A-47F2-9C58-2F62C03F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853FA-5A3C-449E-AADE-33FDE04F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57F71-F48D-4C65-88E0-FCE07C91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53F08-3C94-4D24-B1F7-FDB51F1D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476C6-6BE8-474F-A1A9-0F84C8B8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59730-C34E-4A0A-A373-614F6F3B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CB009-5254-4C67-A17B-3E1DA625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F1BEC-9549-4293-B92D-3A062AA9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0B2BA-E956-490D-8577-2F4B175F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406AF-7B72-4319-8A26-ADBE942C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6E3AA-0521-4B43-B6D9-F2AF7383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B160-4689-4F83-A41C-6EEC21C5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1E3ED-9258-46E9-BBA3-AA8EAB7B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01AF8-42E4-47D8-B318-961D1657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9D21D-F96F-479E-9655-78E074A9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97EAE-EA9C-4B15-A956-47412A64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56E6A-0AFD-4941-ABB8-815EC8D3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ABCBC-FE9B-4DC4-B746-C6868047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E64D3-48F6-4755-89A3-36A390BA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6D98-1AF6-4827-9D37-99ACAE01CD2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4337-16D9-48B2-8122-A3DDF370C1B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A76A-7B5E-4732-A6A1-D771EE77635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74C6-3F14-4952-86F7-ADCF8D915D6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81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E9D8-4BD4-4C49-AD74-03A5380E7C0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2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18F4-E692-44E8-B6AB-287D08D09E0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71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FBD0-825A-46EC-91BA-43287273A97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1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20F3-1356-4553-9432-A19C73D70BA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офессиональный стандарт педагог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14040" y="1827360"/>
            <a:ext cx="77691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каз Минтруда России от 18.10.2013 N 544н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"Об утверждении профессионального стандарта "Педагог (педагогическая деятельность в сфере дошкольного, начального общего, основного общего, среднего общего образования) (воспитатель, учитель)"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Зарегистрировано в Минюсте России 06.12.2013 N 3055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держание профессионального стандарта в области ОБУЧЕ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нать ФГСДО и программы обуче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ть планировать и анализировать работ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адеть формами и методами обучения – стандартными и инновационным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спользовать специальные подходы, чтобы охватить всех дет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ть объективно оценивать возможности детей, используя разные формы и методы контрол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адеть ИКТ-компетенциям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держание профессионального стандарта в области ВОСПИТА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оить воспитательную деятельность с учетом культурных различий детей, половозрастных и индивидуальных особенност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аться с детьми, признавать их достоинство, понимая и принимая и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ть общаться с детьми, защищать их интересы и достоин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держивать уклад, атмосферу и традиции учреждения, внося в них свой положительный вкла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ть основы психодидактики, поликультурного образования, закономерности поведения в социальных сет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ы методики воспитательной работы, основные принципы деятельностного подхода, виды и приемы современных педагогических технолог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блюдать правовые, нравственные и этические нормы, требования профессиональной эт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держание профессионального стандарта в области РАЗВИТ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воение и применение психолого-педагогических технологий (в том числе инклюзивных), необходимых для адресной работы с различными контингентами учащихся: одаренные дети, социально уязвимые дети, дети, попавшие в трудные жизненные ситуации, дети-мигранты, дети-сироты, дети с особыми образовательными потребностями, дети с ограниченными возможностями здоровья, дети с девиациями поведения, дети с зависимость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заимодействие с другими специалистами в рамках ПМП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воение и адекватное применение специальных технологий и методов, позволяющих проводить коррекционно-развивающую работ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ование и реализация программ развития универсальных учебных действий, образцов и ценностей социального поведения, навыков поведения в мире виртуальной реальности и социальных сетях, формирование толерантности и позитивных образцов поликультурного общ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ниать документацию специалистов (психологов, дефектологов, логопедов и т.д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ФЕССИОНАЛЬНЫЕ </a:t>
            </a: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КОМПЕТЕНЦИИ ВОСПИТАТЕЛЯ, ОТРАЖАЮЩИЕ СПЕЦИФИКУ РАБОТЫ НА ДОШКОЛЬНОМ УРОВНЕ ОБРАЗОВАНИЯ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едагог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Times New Roman"/>
              </a:rPr>
              <a:t>долже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нать специфику дошкольного образования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нать общие закономерности развития дет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ть организовывать ведущие виды деятель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адеть теорией и методиками развития детей дошкольного возраст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ть планировать, реализовывать и анализировать образовательную работу с детьм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ть планировать и корректировать образовательные задачи по результатам мониторинг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адеть методами и средствами психолого-педагогического просвещения родител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ладеть ИКТ-компетенциям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1904760"/>
            <a:ext cx="7313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5942160"/>
            <a:ext cx="731340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ыдержка из приказа № 544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14040" y="1827000"/>
            <a:ext cx="77691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. Установить, что профессиональный </a:t>
            </a:r>
            <a:r>
              <a:rPr b="0" lang="ru-RU" sz="2200" spc="-1" strike="noStrike" u="sng">
                <a:solidFill>
                  <a:srgbClr val="006666"/>
                </a:solidFill>
                <a:uFillTx/>
                <a:latin typeface="Verdana"/>
                <a:hlinkClick r:id="rId1" action="ppaction://hlinksldjump"/>
              </a:rPr>
              <a:t>стандарт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"Педагог (педагогическая деятельность в сфере дошкольного, начального общего, основного общего, среднего общего образования) (воспитатель, учитель)" применяется работодателями при формировании кадровой политики и в управлении персоналом, при организации обучения и аттестации работников, заключении трудовых договоров, разработке должностных инструкций и установлении систем оплаты труда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 1 января 2015 год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В настоящее время Минтрудом РФ подготовлен проект приказа, согласно которому предлагается перенести сроки начала введения профстандарта педагога на 1 января 2016 года. В Минобрнауки считают, что к 1 января 2015 года педагоги не успевают пройти повышение квалификации, которое необходимо для работы по новым стандартам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ХАРАКТЕРИСТИКА СТАНДАР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 нем определяются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сновны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требования к квалификации педагог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ожет дополнятся региональными требованиям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ожет быть дополнен внутренним стандартом образовательного учрежд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Является уровневым, учитывающим специфику работы педагогов дошкольного учреждения и школ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тражает структуру профессиональной деятельности педагог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ыдвигает требования к личностным качествам педагог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ФУНКЦИИ ПРОФЕССИОНАЛЬНОГО СТАНДАРТА ПЕДАГОГ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еодоление технократического подхода в оценке труда педагог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беспечение координированный рост свободы и ответственности педагога за результаты труд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Мотивация педагога на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остоянное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повышение квалифик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ОБЛАСТЬ ПРИМЕНЕНИЯ ПРОФЕССИОНАЛЬНОГО СТАНДАРТА ПЕДАГОГ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 приеме на работу в образовательное учреждение на должность «педагог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 проведении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аттестации региональными органами исполнительной власти, осуществляющими управление в сфере образова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 проведении аттестации педагогов самими образовательными организациями, в случае предоставления им соответствующих полномочи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ль применения профессионального стандар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пределять необходимую квалификацию педагог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беспечить подготовку педагога для получения высоких результатов его труд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беспечить осведомленность педагога о предъявляемых к нему требования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одействовать вовлечению педагогов в решение задачи повышения качества образов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бобщенные трудовые функци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75" name="Объект 3" descr=""/>
          <p:cNvPicPr/>
          <p:nvPr/>
        </p:nvPicPr>
        <p:blipFill>
          <a:blip r:embed="rId1"/>
          <a:stretch/>
        </p:blipFill>
        <p:spPr>
          <a:xfrm>
            <a:off x="1133640" y="1450800"/>
            <a:ext cx="73515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Трудовые функци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77" name="Объект 3" descr=""/>
          <p:cNvPicPr/>
          <p:nvPr/>
        </p:nvPicPr>
        <p:blipFill>
          <a:blip r:embed="rId1"/>
          <a:stretch/>
        </p:blipFill>
        <p:spPr>
          <a:xfrm>
            <a:off x="1359000" y="1828800"/>
            <a:ext cx="7334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 Борисова</dc:creator>
  <dc:description/>
  <dc:language>en-US</dc:language>
  <cp:lastModifiedBy>Юлия Борисова</cp:lastModifiedBy>
  <dcterms:modified xsi:type="dcterms:W3CDTF">2017-01-20T07:05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