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jpeg" ContentType="image/jpe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36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9A6-3F98-4E8E-B1FF-01544CC3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893-BBCF-4A93-92C2-BBE32F31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8FCFB-1269-4319-BBB4-93A9E122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0515B-3A55-4EB4-939B-E604B1FE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EA153-BF3A-4DC6-A670-50EF1410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699F1-AA76-4739-AB1D-CFB2CBFA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6CEED-B306-44FE-BCC2-87FAB7E3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88F26-885E-474F-80C5-9C88EE1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2176D-62F7-4E2C-8B83-A55F9ECE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D3B2D-B235-4CC5-B9EF-2DAE0F85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42E0D-0F3F-4A8C-98F9-3C13968D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C96-B78F-4317-9D16-13F1DDAF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10C-E50A-4F65-A985-A83A02D9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35EA-3EBB-4253-B8CF-7D66B07C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9A33-DF1D-499E-AE8B-A0DFAFE4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F70B-4C89-48F1-8F79-962F3871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3586-A048-4D9E-A7A8-4ABCBAF0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053B-E27D-4660-827F-29CAF50C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EC15-9E53-4BA6-BD54-EEAB5179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20AC-BA44-4989-8C9E-B6AA56C6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B20-E17E-4943-9D1F-1C98D538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EBF0-9F60-4BF2-B3B8-08746DB5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E2F1-3663-4B69-BE57-E159B48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437E-6989-43C2-823E-29BD439B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2D91-4EFC-4B84-BA99-309FB606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C69B-330E-4910-8F45-8F58F43F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A049-89EE-4667-A0CA-BE727F9D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BA563-B250-420D-AADC-64E71499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8A69-70EF-432B-8715-CD59B12B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CD3DB-0BDC-4EC9-80DD-9B274AC2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F27DE-83EF-4BD9-89F6-CEC37951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F5B-3D8F-4D32-B391-9260B6EE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3B95-59FB-4D6C-9B00-FEE24DFA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9DFE-D064-4374-B99C-8D90D7CF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0670-1602-42D5-84F7-DE1FBAA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DB7A-B8A3-4027-A765-50CA7571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1A2B-6EF2-47E2-8A06-27721F26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0108-43B3-4F2A-87D8-FB94D39D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7A5D2-656F-4DBF-93BB-9BCE0241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A0081-854A-4478-A27A-85B205FF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574F-1F10-48EE-9AA2-FF7D7C87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44C7A-EA6C-49C6-813B-37587430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7DF-156F-4337-BD94-6C6C7AD1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26E99-23DF-44CC-B07B-2B61F3BF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2FCCD-7109-474F-B28F-BA801413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11367-CB56-46ED-9D54-401705D9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A11D4-F30E-4078-9E2E-603A87B5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44662-A5F7-4D69-A7E3-0B09457C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6121D-9633-432F-8F1D-46939448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9EECF-A9C5-45BC-91E1-81D045D3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49E9-54A6-4F81-B88D-A579D4A5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F7885-9641-46EF-92BA-5BF34632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48456-3AC8-4D31-81FE-B13826DD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440-27F6-460B-9C02-D944D56F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68808-1E81-48BF-BA5B-B185CE8D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36BF1-F686-45A6-9F14-44F094D8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7B65F-A882-41DF-B0D2-E0DB7FA2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D4897-928F-4C8D-816D-224EBA1C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F6B1-67A1-4DAA-B161-BF243696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E0D94-0593-4FB8-BAE7-BCF622CA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D396B-BA85-4972-8411-6056E75E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F7D24-4D94-4A92-A3FF-0182035C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8BC97-9D34-4C40-A24C-EB09945D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0030A-6A5E-40D1-87E9-E1D24731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D32-D5ED-4283-8A99-9F116B57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2BD0-D069-4B24-943A-352FBBC3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9EFD8-B8E3-40A9-9B51-34811EEB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07FB6-EF34-4C7C-AAD9-D06802AD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70637-526E-49C7-869A-47229E3C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FC760-0FC2-481D-8F16-54FB4097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C2A45-B00D-471E-BC2D-B1BE1D1E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C0D68-7166-4331-B0EF-ED03C3E4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DDDBD-555C-4739-9424-DDE06EBC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7E5CD-7FD2-47D8-B4D0-80154CE2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F2EE1-71D7-4DF7-B3B8-B081DA6F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8D6-7283-4625-987C-72FB30CA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40DB0-76D9-4376-B17B-5133541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44566-09D7-47FB-82B3-81FD017F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309B4-39AE-43C7-9D48-9BD184EE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3A9D4-C0E0-4FAF-8C98-87C5F912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3BBB7-0E6A-4182-81C2-0BAF4FEC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4622A-9FAA-4BEE-BABF-5A1F4CC2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C8E7A-6567-4C14-B7B2-43A23A73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3698B-F10C-4E56-823B-48C78616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F99E1-F3F8-4803-BFEA-1B2EC412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444A3-6DF6-41EB-84BD-E7D5199B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9AA-BD07-4326-A0A4-0B267C1F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19EB5-B5C9-4E53-A0E1-276D65B7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41FFB-FAE3-488B-AEF4-C076C8B3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796F1-33C9-4D1A-A85D-31C4DCBB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E2524-F18F-478D-BC0F-8401DB25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CA7FA-4F8B-4DDD-80EC-E2F034CF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4A0A8-5B07-4D89-B0E8-1463624B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43024-6130-407F-9C52-B9AEE5D9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E653D-2D8D-47E8-AD83-D7BDA04A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0F7A0-2437-4CBA-B850-91973AE2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7D211-208F-4F24-BBC2-80D99E19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8CA-89D1-4F1C-A71E-4E15AA40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3612F-013A-4BBE-B995-95B85EC9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C0AE8-39A7-45BC-AFA9-A89B1476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1C999-9B4C-46D1-BE05-91936A27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7752B-0B98-4C2C-B656-AB1E526F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EC0A5-C91F-4BC3-A621-0498DA2E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9AD3C-92EC-4331-B553-6AAD54AB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D7C1B-CCF9-4B78-B81A-62A9CF5E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D60B5-3AA0-427D-85A3-767A8DD7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C6C2A-210D-4594-BD96-C0E67E46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BD071-FDBC-4F13-9621-66C2463A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A1AF-1812-4930-B2F9-B6807CBBAFA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32C4-49E9-4388-B988-7EFC00D9F1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0CF8-D111-4A6E-81E4-3477791246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466A-0A8F-444C-9367-26A370A3BA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97A3-4F30-4BA3-8A09-784D4FFB738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E03E-55AD-4067-A56C-736A1A9CE9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4373-1578-45C2-9954-5305E1C1E6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7B80-B4EE-4729-959B-367C05A883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DE46-EF14-4124-862B-98D4AE3BB8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lab.ru/news/575095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566720" y="622440"/>
            <a:ext cx="5712120" cy="1139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85520" y="1428840"/>
            <a:ext cx="66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ЕОДОЛЕТЬ СЕБЯ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Рисунок 3" descr="&amp;Scy;&amp;lcy;&amp;acy;&amp;jcy;&amp;dcy; &amp;numero;1"/>
          <p:cNvPicPr/>
          <p:nvPr/>
        </p:nvPicPr>
        <p:blipFill>
          <a:blip r:embed="rId2"/>
          <a:stretch/>
        </p:blipFill>
        <p:spPr>
          <a:xfrm>
            <a:off x="642960" y="3286080"/>
            <a:ext cx="7215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guttman_bearbeitet-1"/>
          <p:cNvPicPr/>
          <p:nvPr/>
        </p:nvPicPr>
        <p:blipFill>
          <a:blip r:embed="rId1"/>
          <a:stretch/>
        </p:blipFill>
        <p:spPr>
          <a:xfrm>
            <a:off x="5000760" y="1071720"/>
            <a:ext cx="4143240" cy="5352840"/>
          </a:xfrm>
          <a:prstGeom prst="rect">
            <a:avLst/>
          </a:prstGeom>
          <a:ln w="0">
            <a:noFill/>
          </a:ln>
        </p:spPr>
      </p:pic>
      <p:pic>
        <p:nvPicPr>
          <p:cNvPr id="423" name="Заголовок 1" descr=""/>
          <p:cNvPicPr/>
          <p:nvPr/>
        </p:nvPicPr>
        <p:blipFill>
          <a:blip r:embed="rId2"/>
          <a:stretch/>
        </p:blipFill>
        <p:spPr>
          <a:xfrm>
            <a:off x="281160" y="-36360"/>
            <a:ext cx="8697600" cy="11160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0" y="928440"/>
            <a:ext cx="514368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икновение видов спорта, в которых могут участвовать инвалиды, связывают с именем английского нейрохирурга Людвига Гуттмана, который, преодолевая вековые стереотипы по отношению к людям с физическими недостатками, ввел спорт в процесс реабилитации больных с повреждениями спинного мозг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Он на практике доказал, что спорт для людей с физическими недостатками создает условия для успешной жизнедеятельности, восстанавливает психическое равновесие, позволяет вернуться к полноценной жизни независимо от физических недостатков</a:t>
            </a:r>
            <a:r>
              <a:rPr b="1" lang="ru-RU" sz="2000" spc="-1" strike="noStrike">
                <a:solidFill>
                  <a:srgbClr val="0042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5177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15 декабря 1996 года в Красноярске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был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оздана Краевая специализированная спортивная школа для лиц с ограниченными возможностями здоровья. В школе культивируются: легкая атлетика, плавание, голбол, волейбол, футбол, хоккей на полу. Активно развиваются горнолыжный спорт, восточные единоборства, конный спорт, керлинг, настольный теннис, биатлон и другие виды спор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 2011 году в структуре школы открылся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«Центр адаптивного спорта»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целью которого является подготовка спортсменов высшего спортивного мастерства. Стратегической задачей является социальная адаптация лиц с ограниченными возможностями здоровья и привлечение их к занятиям физической культурой и спорто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оспитанники школы – неоднократные победители и призеры всероссийских, европейских и мировых соревнован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33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человека входят в основные составы сборных команд России по своим видам спорта, многие спортсмены входят в резервные составы и наверняка в ближайшем будущем смогут усилить сборную стра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0" y="1143000"/>
            <a:ext cx="49291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Горнолыжник, чемпион Паралимпиады в Сочи 2014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Дата рождения: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30 марта 1997 г., в Красноярске. Образование — неоконченное среднее. Тренируется в детско-юношеской спортивно-адаптивной школе «Центр адаптивного спорта» Красноярска. Является стипендиатом президента Российской Федераци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Содержимое 3" descr="http://s.newslab.ru/Content/dosie/bugaev-aleksej-sergeevich.jpg"/>
          <p:cNvPicPr/>
          <p:nvPr/>
        </p:nvPicPr>
        <p:blipFill>
          <a:blip r:embed="rId2"/>
          <a:stretch/>
        </p:blipFill>
        <p:spPr>
          <a:xfrm>
            <a:off x="5000760" y="1071720"/>
            <a:ext cx="41432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213840"/>
            <a:ext cx="86868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Franklin Gothic Book"/>
              </a:rPr>
              <a:t>Серебряный и бронзовый призер чемпионата мира </a:t>
            </a: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по горнолыжному спорту лиц с поражением опорно-двигательного аппарата, призер чемпионатов России, победитель общего зачета Кубка мира сезона-2012/2013, неоднократный победитель и призер кубков мира и Европы, победитель и призер чемпионата России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В свободное время увлекается экстремальной ездой на горном велосипеде.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Franklin Gothic Book"/>
              </a:rPr>
              <a:t> На Паралимпиаде в Сочи 2014 завоевал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Золото в Слаломе (мужчины, стоя)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Золото в Супер-комбинации (мужчины, стоя)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Серебро в Скоростном спуске (мужчины, стоя)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Серебро в Гигантском слаломе (мужчины, стоя)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Бронза в Супер-гиганте (мужчины, стоя)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Franklin Gothic Book"/>
              </a:rPr>
              <a:t>На чемпионате мира в 2013 году завоевал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Серебро (Ла-Молина, Испания, 2013 год) — Гигантский слалом, стоя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Franklin Gothic Book"/>
              </a:rPr>
              <a:t>Серебро (Ла-Молина, Испания, 2013 год) — Супер-комбинация, стоя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560" y="1554120"/>
            <a:ext cx="491004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орнолыжник, чемпион Паралимпиады в Сочи 2014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Дата рождения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20 июля 1972 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одился в городе Гуково, Ростовская область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кончил школу № 33 города Норильска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Мастер спорта Росси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Рисунок 3" descr="http://s.newslab.ru/Content/dosie/redkozubov-valerij.jpg"/>
          <p:cNvPicPr/>
          <p:nvPr/>
        </p:nvPicPr>
        <p:blipFill>
          <a:blip r:embed="rId2"/>
          <a:stretch/>
        </p:blipFill>
        <p:spPr>
          <a:xfrm>
            <a:off x="5072040" y="1071720"/>
            <a:ext cx="40719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Является абсолютным победителем розыгрыша Кубка мира, неоднократным чемпионом России в соответствующей категории, призером Кубков Европы, мастером спорта по горным лыжам среди лиц с нарушением зрения.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Тренируется в школе по адаптивным видам спорта Красноярска. Является стипендиатом президента РФ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В марте 2014 года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0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стал золотым чемпионом Паралимпиады в Сочи</a:t>
            </a: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.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2" name="Содержимое 3" descr="http://im0-tub-ru.yandex.net/i?id=0ae88fafc0bd272862099b8ff93ee668-64-144&amp;n=24"/>
          <p:cNvPicPr/>
          <p:nvPr/>
        </p:nvPicPr>
        <p:blipFill>
          <a:blip r:embed="rId2"/>
          <a:stretch/>
        </p:blipFill>
        <p:spPr>
          <a:xfrm>
            <a:off x="1928880" y="1285920"/>
            <a:ext cx="6143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XXII Сурдлимпийские летние игры в Болгарии– Олимпийские Игры для спортсменов с нарушением слуха. В соревнованиях принимали участие около четырех тысяч спортсменов более чем из 90 стран мира. В программу включены 19 видов спорта. Российскую сборную представляли 302 спортсмена.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Красноярская спортсменка "Центра адаптивного спорта" </a:t>
            </a:r>
            <a:r>
              <a:rPr b="1" lang="ru-RU" sz="2700" spc="-1" strike="noStrike">
                <a:solidFill>
                  <a:srgbClr val="ff0000"/>
                </a:solidFill>
                <a:latin typeface="Franklin Gothic Book"/>
              </a:rPr>
              <a:t>Марина Дроздова выступала в тхэквондо и стала чемпионкой в весовой категории до 57 кг 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За победу в Сурдлимпийских играх Марине был вручен знак </a:t>
            </a:r>
            <a:r>
              <a:rPr b="1" lang="ru-RU" sz="2700" spc="-1" strike="noStrike">
                <a:solidFill>
                  <a:srgbClr val="ff0000"/>
                </a:solidFill>
                <a:latin typeface="Franklin Gothic Book"/>
              </a:rPr>
              <a:t>заслуженного мастера спорта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163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 формирование у обучающихся толерантного отношения к людям с ограниченными возможностями здоровья, активной жизненной позиции, воспитание патриотического отношения к родному краю и землякам, достигшим спортивных высот, несмотря на собственный неду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0" y="1214280"/>
            <a:ext cx="4572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Паралимпийский чемпион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Дата рождения: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2 октября 1986 г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Мастер спорта по легкой атлетике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Родился в деревне Шопоковка Сукулукцкого района республики Кыргызстан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Рисунок 5" descr="http://s.newslab.ru/Content/dosie/kegelev-evgenij-aleksandrovich.jpg"/>
          <p:cNvPicPr/>
          <p:nvPr/>
        </p:nvPicPr>
        <p:blipFill>
          <a:blip r:embed="rId2"/>
          <a:stretch/>
        </p:blipFill>
        <p:spPr>
          <a:xfrm>
            <a:off x="4572000" y="1000080"/>
            <a:ext cx="4000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500040"/>
            <a:ext cx="86868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 2004 году</a:t>
            </a: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чал заниматься легкой атлетикой в Специализированной спортивной школе инвалидов, у тренера Александра Мельников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 2006 году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на чемпионате России по легкой атлетике среди лиц с нарушением зрения, стал бронзовым и серебряным призером соревнований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 2007 году</a:t>
            </a: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 чемпионате России по легкой атлетике среди лиц с нарушением зрения стал золотым и серебряным призером и выполнил норматив кандидата в мастера спорт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 2007 году</a:t>
            </a: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 III всемирных играх UBSA в Бразилии (город Сан-Паулу) вошел в пятерку лучших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 2008 году,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 чемпионате России в городе Тула, занял первое место в тройном прыжке и третье — в прыжках в длину, выполнив при этом норматив мастера спорта. А на открытом чемпионате Голландии (город Эммелоорд) стал победителем в тройном прыжке и прыжках в длину, что послужило основанием для включения Евгения в состав сборной России для участия в Паралимпийских играх в Пекин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 Пекине в составе российской эстафетной четверки в беге 4и100 не смог пробиться через квалификацию. Помимо эстафеты спортсмен выступил два раза — 9 сентября занял 7 место в тройном прыжке, 13 сентября стал 11 в прыжках в длин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 2012 году вошел в состав российской сборной на Паралимпиаде в Лондоне и впоследствии стал первым в истории края паралимпийским чепионо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8699400" cy="14875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 Сочи состоялась церемония закрытия XI зимних Паралимпийских игр в Сочи. Всего в Играх приняли участие 547 спортсменов-паралимпийцев из 45 стран. За 9 соревновательных дней было разыграно 72 комплекта медалей в 5 паралимпийских видах спор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 медальном зачете российская сборная заняла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1-е место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, завоевав в общей сложности 80 наград, в том числ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30 золотых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28 серебряных 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1581f"/>
                </a:solidFill>
                <a:latin typeface="Franklin Gothic Book"/>
              </a:rPr>
              <a:t>22 бронзовы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Красноярские горнолыжники завоевали 8 наград Паралимпиад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42876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лагодаря Играм Россия вошла в 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тройку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амых влиятельных спортивных держав и получила статус лидера мирового спорта на период 2013-2018 гг. по версии влиятельного портала Sportcal, отмечают в Оргкомитете. В ближайшее время Россия примет крупнейшие спортивные мероприятия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Чемпионат Европы по санному спорту в 2015 г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Чемпионат мира по хоккею 2016 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Чемпионат мира по бобслею и скелетону 2017г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Чемпионат мира по футболу 2018 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стория Паралимпийских игр началась в первой половине XX ве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 Паралимпийских игр есть свои ценности, которые лучше всего описывают характер Игр. Они имеют большое значение для всех спортсмен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аралимпийских ценностей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четыр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pic>
        <p:nvPicPr>
          <p:cNvPr id="459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2560" y="2642760"/>
            <a:ext cx="8767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«Смелость всегда нужна, чтобы сделать перв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шаг. Вы наверняка знаете, как трудн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ешиться первый раз войти в холодную вод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Чтобы начать заниматься спортом, людям 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нвалидностью тоже нужна смелос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на помогает преодолевать препятствия 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обеждать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pic>
        <p:nvPicPr>
          <p:cNvPr id="462" name="Заголовок 1" descr=""/>
          <p:cNvPicPr/>
          <p:nvPr/>
        </p:nvPicPr>
        <p:blipFill>
          <a:blip r:embed="rId2"/>
          <a:stretch/>
        </p:blipFill>
        <p:spPr>
          <a:xfrm>
            <a:off x="12600" y="-6480"/>
            <a:ext cx="8893440" cy="11527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285480" y="1928520"/>
            <a:ext cx="8481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«Иногда очень сложно посвятить всего себ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аже любимому делу. Решимость помогае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портсменам изо дня в день ходить 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ренировки, преодолевать трудности 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родолжать заниматься несмотря ни на что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Заголовок 1" descr=""/>
          <p:cNvPicPr/>
          <p:nvPr/>
        </p:nvPicPr>
        <p:blipFill>
          <a:blip r:embed="rId2"/>
          <a:stretch/>
        </p:blipFill>
        <p:spPr>
          <a:xfrm>
            <a:off x="285840" y="-73080"/>
            <a:ext cx="8864640" cy="10000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304920" y="2356920"/>
            <a:ext cx="868680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«Вдохновение помогает поэтам писать стихи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художникам – писать картины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 паралимпийским спортсменам – одержива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обеды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468" name="Заголовок 1" descr=""/>
          <p:cNvPicPr/>
          <p:nvPr/>
        </p:nvPicPr>
        <p:blipFill>
          <a:blip r:embed="rId2"/>
          <a:stretch/>
        </p:blipFill>
        <p:spPr>
          <a:xfrm>
            <a:off x="133200" y="103320"/>
            <a:ext cx="8864640" cy="10429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2214720"/>
            <a:ext cx="86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«Равенство – одна из основны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аралимпийских ценностей, потому чт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аралимпийский спорт призван стира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раницы и барьеры между людьми 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нвалидностью и без инвалидности. Все люд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азные, но у всех равные права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33200" y="396720"/>
            <a:ext cx="8864640" cy="9986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28760" y="1071720"/>
            <a:ext cx="763416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ажно, кем я был, и день вчерашний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ьём порос, его уж не вернуть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ькнёт лишь миг пред взором тенью страшно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«до» и «после» разграничивая пу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«до», когда я был почти ребёно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л в футбол, глядел под ноги, вниз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езжавший рядом «жигулёнок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л слово «после» в мою жизн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«после» надо мною были стен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знакомый вовсе потолок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знакомы были перемены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которым я умолк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ь голос мамы – ласковый и нежный –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вернуть спешил с небытия –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иних взгляд очей её безбрежных –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вдыхали снова жизнь в меня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Picture 6" descr="33965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"/>
          <p:cNvPicPr/>
          <p:nvPr/>
        </p:nvPicPr>
        <p:blipFill>
          <a:blip r:embed="rId2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/>
          <p:cNvPicPr/>
          <p:nvPr/>
        </p:nvPicPr>
        <p:blipFill>
          <a:blip r:embed="rId3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1071720"/>
            <a:ext cx="90010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голоса – такие были! –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али с мамой в отдалённый спор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аш сын – калека!» - просто говорили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мин голос: «Всё – неправда, вздор!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ду тут просто криком не прогонишь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ль – его пристанище навек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 мы то знаем, нас слезой не тронеш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то способен этот человек!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, человек и вправду так устроен –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 не дотянуть и до утра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только оказалось – нас-то – двое! –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идно, просчитались доктора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285480"/>
            <a:ext cx="86868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илась целый год со мною мама –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ми двигать пробовал уже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живали потихоньку раны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сь только те лишь, что в душ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взгляд соседа я замети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воя, видать, заглохла карусель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разозлившись, сам себе ответил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– не калека! Я – такой, как все!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сле были власти коридоры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ённые улыбки и уют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ягкие, с ухмылкой, уговоры –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, полно, батенька, таких нигде не ждут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удивляюсь – ну, с каким проворством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сировал ступеньки, этажи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лся с окружающим притворством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это счастье под названьем – жизнь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нес я в грызне и перепалках –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не покажут и в кино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это – тренировка и закалка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школа выживания заодно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428840"/>
            <a:ext cx="86868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назовут – «богов любимец»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 скажут – так заложено в судьб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ты – паралимпиец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знь твоя всегда сродни борьбе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 стою средь всех на пьедестале –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по щеке прокатится слез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ы свои, победы и медал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свящаю маминым глазам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4" name="Picture 4" descr="215312928"/>
          <p:cNvPicPr/>
          <p:nvPr/>
        </p:nvPicPr>
        <p:blipFill>
          <a:blip r:embed="rId1"/>
          <a:stretch/>
        </p:blipFill>
        <p:spPr>
          <a:xfrm>
            <a:off x="0" y="0"/>
            <a:ext cx="4643280" cy="68961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oskar_pistorius_olimpiada_2008_36011_1"/>
          <p:cNvPicPr/>
          <p:nvPr/>
        </p:nvPicPr>
        <p:blipFill>
          <a:blip r:embed="rId2"/>
          <a:stretch/>
        </p:blipFill>
        <p:spPr>
          <a:xfrm>
            <a:off x="4643280" y="1285920"/>
            <a:ext cx="450072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7" name="Picture 4" descr="03_7"/>
          <p:cNvPicPr/>
          <p:nvPr/>
        </p:nvPicPr>
        <p:blipFill>
          <a:blip r:embed="rId1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article_image-image-article"/>
          <p:cNvPicPr/>
          <p:nvPr/>
        </p:nvPicPr>
        <p:blipFill>
          <a:blip r:embed="rId2"/>
          <a:stretch/>
        </p:blipFill>
        <p:spPr>
          <a:xfrm>
            <a:off x="4500720" y="1428840"/>
            <a:ext cx="4721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0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65015079_1200040345_2007050815595348031"/>
          <p:cNvPicPr/>
          <p:nvPr/>
        </p:nvPicPr>
        <p:blipFill>
          <a:blip r:embed="rId2"/>
          <a:stretch/>
        </p:blipFill>
        <p:spPr>
          <a:xfrm>
            <a:off x="4164120" y="3143160"/>
            <a:ext cx="4979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5T06:16:01Z</dcterms:created>
  <dc:creator>8 класс</dc:creator>
  <dc:description/>
  <dc:language>en-US</dc:language>
  <cp:lastModifiedBy>User</cp:lastModifiedBy>
  <dcterms:modified xsi:type="dcterms:W3CDTF">2019-11-20T12:51:19Z</dcterms:modified>
  <cp:revision>13</cp:revision>
  <dc:subject/>
  <dc:title>УРОК ТОЛЕРАНТНОСТИ</dc:title>
</cp:coreProperties>
</file>