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BA3-7C79-4B16-ACA4-BD4BB002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884-C965-413E-8CEE-213E66F9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14A50-6A21-4A4F-84EC-0B32D08E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B2D6B-0F37-405D-97FD-7095A48B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03E7A-3EDA-4D0F-A773-EF708B33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A186-BDC9-4D8E-B2D9-F20A44A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72A5D-2EF4-4AF0-949C-017AA5B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9C556-A9F6-4F64-AEA5-83CE317A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805F4-7B8F-4515-9F42-193A157D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00324-3F1B-424F-BC04-D0328D67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798DA-4ACB-45DB-B8F6-39B89C3B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CA4-F789-4051-8F20-8B0E2213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592-E241-4F5E-B9BA-E250F30A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EFDC-1F2C-4398-8EA7-F736729A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1CE-040D-4978-8C88-D765EF78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67F-9C4B-418B-8953-F0AF504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6C13-3A95-437E-90A5-52AA748C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C540-5B8A-407F-AD87-B86E327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66C3-9F95-4C4C-BEB1-1DEFBA87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338A-AE4C-4781-A218-97DD3A3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B78-5042-47FE-83C1-8B119F79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E176-6B6D-4CA3-B79B-8D3BDDAC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4B8D-ABFC-41D0-9F6E-FE4787C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05AD-CFE7-442A-A820-E8163C73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439C-BA4F-400A-8673-FF8445F4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F094-8FA5-4F4C-9AB4-AC0AFF60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6F0C-A90D-42FE-AA6A-744B572C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6F6F-9D5C-4355-8152-D5BCA0E6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8917-C990-4A3F-BE66-0138D7C1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3C91-82D5-4A77-86CD-D9C02416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6F99-7830-446C-9DE2-1DE8CB1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F28-D7BF-4BF2-87CB-3287605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C5D5-A171-4B9D-A14C-517AF3D5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22CF-7FC7-4DE0-84C3-DD4DCAF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B7E4-D16C-4CB0-ABDB-53F9F34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D535-7D13-416E-9A03-FBE3DEF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5AB6-6AAE-40C6-BB6E-38B4C304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467F-3AE9-4C30-A431-22A8C2F5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E22B-C03C-4828-A1CE-7C5775F9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6FFA-444D-410B-88BA-C2C8B1B3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E5DD-F89A-4245-85BC-76AD683E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9375-FDE7-4105-B3D3-DDA4D83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99A-A769-4BB2-BD40-C4F69626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B942-DBCD-41A8-96F7-58E22727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6F2E-EA00-41BF-B3CD-8BDBDB88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8CA4D-FD4F-41E1-8EC9-F13B0889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9998-71BB-4609-9795-E83AD65B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7497-1491-423C-AB54-AA59435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F8E5F-7308-4F70-B179-09B87AE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B0EF-2825-4CAD-A098-BAE57C70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63A52-1026-4F5F-961D-8C3F4E10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7A25-42B7-4BCE-8413-707FA5E9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23E74-77BD-4026-A86D-591606E1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D88-8E46-4D5F-9342-A8EEA3D8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CF17-B5FB-4CF1-8668-949FC34D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5922-2694-4498-866E-5C60E2C9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4B06-BB85-467F-A71F-2232A91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696A8-B050-4981-B869-4E22EE8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B7F21-FE1B-4E19-BD18-A733678F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4D6CC-EAE4-4C18-916C-4D22E58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7825-3D03-4029-A892-FEAF8631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95D6-3188-4E68-9230-233D1C2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CEC5-1D0C-40C6-8A27-A3E125D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2F078-0E06-48D2-B5D2-AB3E65AB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F53-0BC2-4266-A90F-B4143ADA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BCD9-C58A-46A8-838F-D9C9FA49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C797-2279-4D46-B44A-CBB72E04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399BD-8789-4A48-ADC6-D19C6210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1B86-F175-40F7-9F13-80B70FA5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8BF95-DC38-453D-B9B2-9B794AFA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EDE0C-429C-4987-8B2E-BFDAB84C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B692-F584-43A9-A7BA-19BC827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85B03-5CC9-4030-A2D3-F30ABAC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088C-80B3-46A8-82F2-F8CBD74F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97196-2C3E-42F4-80D6-DEEA759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C8F-F903-4BB5-9AB3-8F301568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2A0E-A761-41E9-830E-DA875081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B9CE-5645-4400-85C0-F92189EF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740DA-608D-4D26-85E6-C58B8E94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EC15E-1054-42D3-A562-757BEB66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BB762-4BDA-4273-8ECC-8E17BE99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753B8-BB4F-4A96-8C3C-C0358A66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DF46C-760A-4064-8B71-A5400C22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1868-49CA-4FD5-ACA8-769421D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4E2F6-06F6-4569-8D3B-74F813CF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5475B-0891-479A-9E21-EECB39E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629-063B-431B-83DA-BE396E1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62A8C-6CC9-40A5-A45A-236F2A3B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7E93C-713C-4CA1-9501-D5DC2E1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77FD5-B654-4201-B652-50F38C4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81878-B993-4DB6-93C4-9B9A1963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38A3C-D67F-449D-A9C6-28D579F6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17FB5-22C8-4E16-B267-92C561A3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7DA9A-9C26-4B40-B06B-76B8F44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6D25A-B873-42AC-817E-5A41238C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3A436-7A16-49E2-8306-D92084CE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204F0-55E0-43F0-A08B-2756E8B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BF3-BC2A-495E-8CAC-49B04AA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27E4-5E51-4813-8638-92852969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1172-C47C-4897-AA5B-F52AA653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9D519-3CA1-4114-AFE7-FFCF0DE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4B187-5450-4F8B-882E-7179B952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9432-5ADB-4F34-9D71-CB0E95A0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14ED-8A30-429D-AC6B-7DE97385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6D4E3-D16B-4FAD-B9CB-ACD1E68B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36EFD-61C5-4C87-BA34-39B10137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2C7CE-8AA1-41DE-8076-08CDDE1A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FD0B3-0FFA-4DA4-9E54-52E7CF78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3FA0-E6EE-4A2D-BA7E-806727CC28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65C1-DF4A-40A4-9CC3-577A09CC198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E59-5142-4066-8BBA-9DE040DA5A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E3A8-E47E-4DB7-BB44-56C64BBB8A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BD14-B6F6-4531-AD62-A01B67CD04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991B-1D99-45D0-ADA7-90F60C6A82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AE9B-2D8D-414F-9261-4C77A93BA9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8B4B-6073-4C9A-93EE-A0E198E7BC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79CC-4715-48F4-8BC0-927668D68D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lab.ru/news/575095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566720" y="622440"/>
            <a:ext cx="5712120" cy="1139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85520" y="1428840"/>
            <a:ext cx="66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ЕОДОЛЕТЬ СЕБЯ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Рисунок 3" descr="&amp;Scy;&amp;lcy;&amp;acy;&amp;jcy;&amp;dcy; &amp;numero;1"/>
          <p:cNvPicPr/>
          <p:nvPr/>
        </p:nvPicPr>
        <p:blipFill>
          <a:blip r:embed="rId2"/>
          <a:stretch/>
        </p:blipFill>
        <p:spPr>
          <a:xfrm>
            <a:off x="642960" y="3286080"/>
            <a:ext cx="7215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guttman_bearbeitet-1"/>
          <p:cNvPicPr/>
          <p:nvPr/>
        </p:nvPicPr>
        <p:blipFill>
          <a:blip r:embed="rId1"/>
          <a:stretch/>
        </p:blipFill>
        <p:spPr>
          <a:xfrm>
            <a:off x="5000760" y="1071720"/>
            <a:ext cx="4143240" cy="5352840"/>
          </a:xfrm>
          <a:prstGeom prst="rect">
            <a:avLst/>
          </a:prstGeom>
          <a:ln w="0">
            <a:noFill/>
          </a:ln>
        </p:spPr>
      </p:pic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81160" y="-36360"/>
            <a:ext cx="8697600" cy="1116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0" y="928440"/>
            <a:ext cx="51436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новение видов спорта, в которых могут участвовать инвалиды, связывают с именем английского нейрохирурга Людвига Гуттмана, который, преодолевая вековые стереотипы по отношению к людям с физическими недостатками, ввел спорт в процесс реабилитации больных с повреждениями спинного мозг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Он на практике доказал, что спорт для людей с физическими недостатками создает условия для успешной жизнедеятельности, восстанавливает психическое равновесие, позволяет вернуться к полноценной жизни независимо от физических недостатков</a:t>
            </a:r>
            <a:r>
              <a:rPr b="1" lang="ru-RU" sz="2000" spc="-1" strike="noStrike">
                <a:solidFill>
                  <a:srgbClr val="0042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15 декабря 1996 года в Красноярске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был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оздана Краевая специализированная спортивная школа для лиц с ограниченными возможностями здоровья. В школе культивируются: легкая атлетика, плавание, голбол, волейбол, футбол, хоккей на полу. Активно развиваются горнолыжный спорт, восточные единоборства, конный спорт, керлинг, настольный теннис, биатлон и другие виды спор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2011 году в структуре школы открылся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«Центр адаптивного спорта»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целью которого является подготовка спортсменов высшего спортивного мастерства. Стратегической задачей является социальная адаптация лиц с ограниченными возможностями здоровья и привлечение их к занятиям физической культурой и спорт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оспитанники школы – неоднократные победители и призеры всероссийских, европейских и мировых соревн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33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человека входят в основные составы сборных команд России по своим видам спорта, многие спортсмены входят в резервные составы и наверняка в ближайшем будущем смогут усилить сборную стра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114300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Горнолыжник, чемпион Паралимпиады в Сочи 2014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Дата рождения: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30 марта 1997 г., в Красноярске. Образование — неоконченное среднее. Тренируется в детско-юношеской спортивно-адаптивной школе «Центр адаптивного спорта» Красноярска. Является стипендиатом президента Российской Федерац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Содержимое 3" descr="http://s.newslab.ru/Content/dosie/bugaev-aleksej-sergeevich.jpg"/>
          <p:cNvPicPr/>
          <p:nvPr/>
        </p:nvPicPr>
        <p:blipFill>
          <a:blip r:embed="rId2"/>
          <a:stretch/>
        </p:blipFill>
        <p:spPr>
          <a:xfrm>
            <a:off x="5000760" y="1071720"/>
            <a:ext cx="41432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213840"/>
            <a:ext cx="86868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Franklin Gothic Book"/>
              </a:rPr>
              <a:t>Серебряный и бронзовый призер чемпионата мира </a:t>
            </a: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по горнолыжному спорту лиц с поражением опорно-двигательного аппарата, призер чемпионатов России, победитель общего зачета Кубка мира сезона-2012/2013, неоднократный победитель и призер кубков мира и Европы, победитель и призер чемпионата России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В свободное время увлекается экстремальной ездой на горном велосипеде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Franklin Gothic Book"/>
              </a:rPr>
              <a:t> На Паралимпиаде в Сочи 2014 завоевал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Золото в Слаломе (мужчины, стоя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Золото в Супер-комбинации (мужчины, стоя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Серебро в Скоростном спуске (мужчины, стоя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Серебро в Гигантском слаломе (мужчины, стоя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Бронза в Супер-гиганте (мужчины, стоя)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Franklin Gothic Book"/>
              </a:rPr>
              <a:t>На чемпионате мира в 2013 году завоевал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Серебро (Ла-Молина, Испания, 2013 год) — Гигантский слалом, стоя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Серебро (Ла-Молина, Испания, 2013 год) — Супер-комбинация, сто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560" y="1554120"/>
            <a:ext cx="491004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орнолыжник, чемпион Паралимпиады в Сочи 201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Дата рождения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20 июля 1972 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одился в городе Гуково, Ростовская область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кончил школу № 33 города Норильска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астер спорта Росси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Рисунок 3" descr="http://s.newslab.ru/Content/dosie/redkozubov-valerij.jpg"/>
          <p:cNvPicPr/>
          <p:nvPr/>
        </p:nvPicPr>
        <p:blipFill>
          <a:blip r:embed="rId2"/>
          <a:stretch/>
        </p:blipFill>
        <p:spPr>
          <a:xfrm>
            <a:off x="5072040" y="1071720"/>
            <a:ext cx="4071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Является абсолютным победителем розыгрыша Кубка мира, неоднократным чемпионом России в соответствующей категории, призером Кубков Европы, мастером спорта по горным лыжам среди лиц с нарушением зрения.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Тренируется в школе по адаптивным видам спорта Красноярска. Является стипендиатом президента РФ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В марте 2014 года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стал золотым чемпионом Паралимпиады в Сочи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.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Содержимое 3" descr="http://im0-tub-ru.yandex.net/i?id=0ae88fafc0bd272862099b8ff93ee668-64-144&amp;n=24"/>
          <p:cNvPicPr/>
          <p:nvPr/>
        </p:nvPicPr>
        <p:blipFill>
          <a:blip r:embed="rId2"/>
          <a:stretch/>
        </p:blipFill>
        <p:spPr>
          <a:xfrm>
            <a:off x="1928880" y="1285920"/>
            <a:ext cx="6143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XXII Сурдлимпийские летние игры в Болгарии– Олимпийские Игры для спортсменов с нарушением слуха. В соревнованиях принимали участие около четырех тысяч спортсменов более чем из 90 стран мира. В программу включены 19 видов спорта. Российскую сборную представляли 302 спортсмена.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Красноярская спортсменка "Центра адаптивного спорта" </a:t>
            </a:r>
            <a:r>
              <a:rPr b="1" lang="ru-RU" sz="2700" spc="-1" strike="noStrike">
                <a:solidFill>
                  <a:srgbClr val="ff0000"/>
                </a:solidFill>
                <a:latin typeface="Franklin Gothic Book"/>
              </a:rPr>
              <a:t>Марина Дроздова выступала в тхэквондо и стала чемпионкой в весовой категории до 57 кг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За победу в Сурдлимпийских играх Марине был вручен знак </a:t>
            </a:r>
            <a:r>
              <a:rPr b="1" lang="ru-RU" sz="2700" spc="-1" strike="noStrike">
                <a:solidFill>
                  <a:srgbClr val="ff0000"/>
                </a:solidFill>
                <a:latin typeface="Franklin Gothic Book"/>
              </a:rPr>
              <a:t>заслуженного мастера спорта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63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 формирование у обучающихся толерантного отношения к людям с ограниченными возможностями здоровья, активной жизненной позиции, воспитание патриотического отношения к родному краю и землякам, достигшим спортивных высот, несмотря на собственный неду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0" y="1214280"/>
            <a:ext cx="4572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Паралимпийский чемпион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Дата рождения: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2 октября 1986 г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Мастер спорта по легкой атлетик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Родился в деревне Шопоковка Сукулукцкого района республики Кыргызстан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Рисунок 5" descr="http://s.newslab.ru/Content/dosie/kegelev-evgenij-aleksandrovich.jpg"/>
          <p:cNvPicPr/>
          <p:nvPr/>
        </p:nvPicPr>
        <p:blipFill>
          <a:blip r:embed="rId2"/>
          <a:stretch/>
        </p:blipFill>
        <p:spPr>
          <a:xfrm>
            <a:off x="4572000" y="1000080"/>
            <a:ext cx="4000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500040"/>
            <a:ext cx="86868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04 году</a:t>
            </a: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чал заниматься легкой атлетикой в Специализированной спортивной школе инвалидов, у тренера Александра Мельников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 2006 году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на чемпионате России по легкой атлетике среди лиц с нарушением зрения, стал бронзовым и серебряным призером соревнований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07 году</a:t>
            </a: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 чемпионате России по легкой атлетике среди лиц с нарушением зрения стал золотым и серебряным призером и выполнил норматив кандидата в мастера спорт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07 году</a:t>
            </a: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 III всемирных играх UBSA в Бразилии (город Сан-Паулу) вошел в пятерку лучших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08 году,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 чемпионате России в городе Тула, занял первое место в тройном прыжке и третье — в прыжках в длину, выполнив при этом норматив мастера спорта. А на открытом чемпионате Голландии (город Эммелоорд) стал победителем в тройном прыжке и прыжках в длину, что послужило основанием для включения Евгения в состав сборной России для участия в Паралимпийских играх в Пекин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 Пекине в составе российской эстафетной четверки в беге 4и100 не смог пробиться через квалификацию. Помимо эстафеты спортсмен выступил два раза — 9 сентября занял 7 место в тройном прыжке, 13 сентября стал 11 в прыжках в длин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12 году вошел в состав российской сборной на Паралимпиаде в Лондоне и впоследствии стал первым в истории края паралимпийским чепион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 Сочи состоялась церемония закрытия XI зимних Паралимпийских игр в Сочи. Всего в Играх приняли участие 547 спортсменов-паралимпийцев из 45 стран. За 9 соревновательных дней было разыграно 72 комплекта медалей в 5 паралимпийских видах спор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 медальном зачете российская сборная заняла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1-е место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завоевав в общей сложности 80 наград, в том числ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30 золотых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28 серебряных 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581f"/>
                </a:solidFill>
                <a:latin typeface="Franklin Gothic Book"/>
              </a:rPr>
              <a:t>22 бронзовы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Красноярские горнолыжники завоевали 8 наград Паралимпиа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42876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лагодаря Играм Россия вошла в 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тройку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амых влиятельных спортивных держав и получила статус лидера мирового спорта на период 2013-2018 гг. по версии влиятельного портала Sportcal, отмечают в Оргкомитете. В ближайшее время Россия примет крупнейшие спортивные мероприятия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мпионат Европы по санному спорту в 2015 г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мпионат мира по хоккею 2016 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мпионат мира по бобслею и скелетону 2017г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мпионат мира по футболу 2018 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стория Паралимпийских игр началась в первой половине XX 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 Паралимпийских игр есть свои ценности, которые лучше всего описывают характер Игр. Они имеют большое значение для всех спортсмен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аралимпийских ценностей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тыр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pic>
        <p:nvPicPr>
          <p:cNvPr id="459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2560" y="2642760"/>
            <a:ext cx="8767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«Смелость всегда нужна, чтобы сделать перв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шаг. Вы наверняка знаете, как трудн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ешиться первый раз войти в холодную вод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Чтобы начать заниматься спортом, людям 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нвалидностью тоже нужна смело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на помогает преодолевать препятствия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беждать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pic>
        <p:nvPicPr>
          <p:cNvPr id="462" name="Заголовок 1" descr=""/>
          <p:cNvPicPr/>
          <p:nvPr/>
        </p:nvPicPr>
        <p:blipFill>
          <a:blip r:embed="rId2"/>
          <a:stretch/>
        </p:blipFill>
        <p:spPr>
          <a:xfrm>
            <a:off x="12600" y="-6480"/>
            <a:ext cx="8893440" cy="11527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285480" y="1928520"/>
            <a:ext cx="8481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«Иногда очень сложно посвятить всего себ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аже любимому делу. Решимость помога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портсменам изо дня в день ходить 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ренировки, преодолевать трудности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одолжать заниматься несмотря ни на что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Заголовок 1" descr=""/>
          <p:cNvPicPr/>
          <p:nvPr/>
        </p:nvPicPr>
        <p:blipFill>
          <a:blip r:embed="rId2"/>
          <a:stretch/>
        </p:blipFill>
        <p:spPr>
          <a:xfrm>
            <a:off x="285840" y="-73080"/>
            <a:ext cx="8864640" cy="1000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4920" y="2356920"/>
            <a:ext cx="868680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«Вдохновение помогает поэтам писать стих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художникам – писать картины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 паралимпийским спортсменам – одержива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беды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468" name="Заголовок 1" descr=""/>
          <p:cNvPicPr/>
          <p:nvPr/>
        </p:nvPicPr>
        <p:blipFill>
          <a:blip r:embed="rId2"/>
          <a:stretch/>
        </p:blipFill>
        <p:spPr>
          <a:xfrm>
            <a:off x="133200" y="10332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221472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«Равенство – одна из основ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аралимпийских ценностей, потому чт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аралимпийский спорт призван стира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аницы и барьеры между людьми 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нвалидностью и без инвалидности. Все люд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азные, но у всех равные права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33200" y="396720"/>
            <a:ext cx="8864640" cy="998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28760" y="1071720"/>
            <a:ext cx="763416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ажно, кем я был, и день вчерашни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ьём порос, его уж не вернуть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ькнёт лишь миг пред взором тенью страшно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«до» и «после» разграничивая пу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«до», когда я был почти ребёно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л в футбол, глядел под ноги, вниз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езжавший рядом «жигулёнок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л слово «после» в мою жизн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«после» надо мною были стен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знакомый вовсе потолок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знакомы были перемены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которым я умолк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голос мамы – ласковый и нежный –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вернуть спешил с небытия –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них взгляд очей её безбрежных –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вдыхали снова жизнь в меня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6" descr="33965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2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3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1071720"/>
            <a:ext cx="90010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голоса – такие были!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ли с мамой в отдалённый спор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аш сын – калека!» - просто говорили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мин голос: «Всё – неправда, вздор!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ду тут просто криком не прогонишь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ь – его пристанище навек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 мы то знаем, нас слезой не тронеш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способен этот человек!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, человек и вправду так устроен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 не дотянуть и до утра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только оказалось – нас-то – двое!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идно, просчитались доктор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285480"/>
            <a:ext cx="86868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илась целый год со мною мама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ми двигать пробовал уже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живали потихоньку раны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сь только те лишь, что в душ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взгляд соседа я замети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воя, видать, заглохла карусель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разозлившись, сам себе ответил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– не калека! Я – такой, как все!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сле были власти коридоры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ённые улыбки и уют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ягкие, с ухмылкой, уговоры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, полно, батенька, таких нигде не ждут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удивляюсь – ну, с каким проворством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сировал ступеньки, этажи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лся с окружающим притворством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это счастье под названьем – жизнь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нес я в грызне и перепалках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не покажут и в кино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это – тренировка и закалка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школа выживания заодно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42884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назовут – «богов любимец»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 скажут – так заложено в судьб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ты – паралимпиец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знь твоя всегда сродни борьбе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стою средь всех на пьедестале –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по щеке прокатится слез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ы свои, победы и медал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свящаю маминым глазам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4" name="Picture 4" descr="215312928"/>
          <p:cNvPicPr/>
          <p:nvPr/>
        </p:nvPicPr>
        <p:blipFill>
          <a:blip r:embed="rId1"/>
          <a:stretch/>
        </p:blipFill>
        <p:spPr>
          <a:xfrm>
            <a:off x="0" y="0"/>
            <a:ext cx="4643280" cy="68961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oskar_pistorius_olimpiada_2008_36011_1"/>
          <p:cNvPicPr/>
          <p:nvPr/>
        </p:nvPicPr>
        <p:blipFill>
          <a:blip r:embed="rId2"/>
          <a:stretch/>
        </p:blipFill>
        <p:spPr>
          <a:xfrm>
            <a:off x="4643280" y="1285920"/>
            <a:ext cx="450072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7" name="Picture 4" descr="03_7"/>
          <p:cNvPicPr/>
          <p:nvPr/>
        </p:nvPicPr>
        <p:blipFill>
          <a:blip r:embed="rId1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article_image-image-article"/>
          <p:cNvPicPr/>
          <p:nvPr/>
        </p:nvPicPr>
        <p:blipFill>
          <a:blip r:embed="rId2"/>
          <a:stretch/>
        </p:blipFill>
        <p:spPr>
          <a:xfrm>
            <a:off x="4500720" y="1428840"/>
            <a:ext cx="4721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65015079_1200040345_2007050815595348031"/>
          <p:cNvPicPr/>
          <p:nvPr/>
        </p:nvPicPr>
        <p:blipFill>
          <a:blip r:embed="rId2"/>
          <a:stretch/>
        </p:blipFill>
        <p:spPr>
          <a:xfrm>
            <a:off x="4164120" y="3143160"/>
            <a:ext cx="497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06:16:01Z</dcterms:created>
  <dc:creator>8 класс</dc:creator>
  <dc:description/>
  <dc:language>en-US</dc:language>
  <cp:lastModifiedBy>User</cp:lastModifiedBy>
  <dcterms:modified xsi:type="dcterms:W3CDTF">2019-11-20T12:51:19Z</dcterms:modified>
  <cp:revision>13</cp:revision>
  <dc:subject/>
  <dc:title>УРОК ТОЛЕРАНТНОСТИ</dc:title>
</cp:coreProperties>
</file>